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987B-C88F-437C-A18F-1E2777418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2A2F-8B63-4882-A488-7FBC12E95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D414-F8AA-465C-93C5-452E8A9BEB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51FB-BBB2-4EE1-82B9-DF6F2C456C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7903-73F9-4796-9896-8C695A42B7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1566-F0E1-4F9D-B320-124EA4B780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0419-520D-415F-B528-64178C54A0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87AC-9F1F-46F7-A945-9ACAE1C88B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8BC9-1FBD-445C-AFF0-1A080D6F7D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5944-318D-4FF0-BB46-9D5D768D7C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6B40-9C1D-4F3D-BB5B-66C819FF34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640B-A1D3-4C1E-A535-B383E1E289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38AB-4F1E-4C19-ABB7-E846BBF5D1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2D03-9059-46D7-8F24-8FF778A146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BAE3-ACEB-4241-9891-F7FF773FC86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0E65-65ED-4618-9534-894BB8E77CA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2: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3, 4.3 - 4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Ch. 4 #12, 1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4 #15, 1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3 #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aring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tional operators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ail on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de will compile, but it will not print the so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pares objects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en later), so it often giv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en when tw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have the same let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1488960" y="2711520"/>
            <a:ext cx="2867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qual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are compared using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ly this is a method that returns a value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ype used in logical tes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test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Are you single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LUMBERG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I need your TPS report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person's name and converts it into a "gangsta name.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run 1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Peter Grif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)ale or (F)emal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P. GRIFFIN Daddy Peter-izz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run 2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)ale or (F)emal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SIMPSON Goddess Marge-izz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(M)ale or (F)emale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gender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itl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der.equalsIgnoreCase("m"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tle = "Daddy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tle = "Goddess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 ". 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last + " " + title + " " + first + "-izzle\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primitive type representing single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haracter insid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tor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ter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are surrounded with apostrop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ingle-quote) marks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legal to have variables, parameters, return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etter = 'S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can be concatenated with strin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initial = 'P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itial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2700360" y="4286160"/>
            <a:ext cx="20620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289320" y="2073240"/>
            <a:ext cx="18921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A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be accessed us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at's good enough for m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 to print or examine each charac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are assigned numbers internally by the computer, call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SCI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l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65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66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97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98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uses automatic conversion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107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13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nvert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the equival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ype-cast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St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the two behave differentl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 object; it contains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primitive; you can't call methods on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c.toUpperCase();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// ERROR: "cannot be dereferenced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ar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al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with relational operato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&lt; 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and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X' == 'X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and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Q' != 'q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xample that prints the alphab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char c = 'a'; c &lt;= 'z'; c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test the value of a string's charact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.charAt(word.length() - 1) == 's'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jects and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entity that contai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variables),  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ethod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, or a type of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objects that store tex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graphical window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objects that read information from the keyboard, files, and other 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/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aesar ciph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simple encryption where a message is encoded by shifting each letter by a given amou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with a shift of 3,  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,  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,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,  and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message from the user and performs a Caesar cipher on its let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secret message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rad thinks Angelina is c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secret key: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encoded message: eudg wklqnv dqjholqd lv fxw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reads a message and a secret key from the user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crypts the message using a Caesar cipher, shifting each le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Messag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Your secret message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essag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sage = message.toLowerCas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Your secret key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key = 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code(message, ke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method encodes the given text string using a Caes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ipher, shifting each letter by the given number of plac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ncode(String text, int shif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he encoded message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text.length()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letter = text.charAt(i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hift only letters (leave other characters alon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tter &gt;= 'a' &amp;&amp; letter &lt;= 'z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+ shif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ay need to wrap ar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tter &gt; 'z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- 26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letter &lt; 'a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+ 26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letter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storing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like most other objects,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not created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dex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acters of a string are numbered with 0-bas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dex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"P. Diddy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rst character's index is always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character's index is 1 less than the string's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dividual characters are value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97160" y="2446200"/>
          <a:ext cx="6375240" cy="906480"/>
        </p:xfrm>
        <a:graphic>
          <a:graphicData uri="http://schemas.openxmlformats.org/drawingml/2006/table">
            <a:tbl>
              <a:tblPr/>
              <a:tblGrid>
                <a:gridCol w="1218960"/>
                <a:gridCol w="644400"/>
                <a:gridCol w="646200"/>
                <a:gridCol w="642960"/>
                <a:gridCol w="644400"/>
                <a:gridCol w="644760"/>
                <a:gridCol w="644400"/>
                <a:gridCol w="644400"/>
                <a:gridCol w="64476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methods are called using the dot not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1371600"/>
          <a:ext cx="8839440" cy="312732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 where the start of the given string appears in this string (-1 if it is not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    index 0123456789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2, 8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ty s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the following str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      index 01234567890123456789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you extract the wor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you extract the first word from any str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ing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tc. create/retur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ew string, rather than modifying the current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modify a variable, you must reassign i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5446800" y="3384720"/>
            <a:ext cx="1735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acher = "Helen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Hel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511440" y="5749920"/>
            <a:ext cx="2965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60480" y="2390760"/>
            <a:ext cx="3814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s user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ads a word of input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adon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DONNA has 7 letters and starts with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ads a line of input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17T17:45:38Z</dcterms:modified>
  <cp:revision>1284</cp:revision>
  <dc:subject/>
  <dc:title>Building Java Programs</dc:title>
</cp:coreProperties>
</file>