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F8557-F44E-4E52-A08A-4B8F80AF3D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1E5A1-CEC3-4E2D-8687-5EB1A00A55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BD9DB-F993-4586-B77F-47DE924A77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5BA3D-4B6B-460E-A1DF-23743DBE24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0E27D-07FD-4DDA-A61A-E407DB422E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0E4AA-6EA1-4370-80B9-F0DD430151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EC66A-BF73-4591-BE96-DA4B319EC9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C7535-9F46-449C-88A5-E426819CB5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8DB5D-CF17-417A-A066-6EAD6AB9DC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95D83-01F7-4729-8FE0-FD3CA647F0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8C7CA-FE82-4DD1-8D5E-6A462E24AC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E149A-959B-4F8E-A8BF-7ADB96E9A9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449A-F7AE-4506-B470-60C6EA849879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8" name="Freeform 20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4267080" y="0"/>
              <a:ext cx="4876920" cy="27180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1" name="Freeform 23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2" name="Freeform 2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4" name="Freeform 24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65" name="Freeform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261C-0991-4CF1-944B-77EF19AB4037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4-1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tatem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4.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f-check: #4-5, 7, 10, 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rcises: #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deos: Ch. 4 #2-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de in need of factorin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money &lt; 500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have, $" + money + " left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Caution!  Bet carefully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ow much do you want to bet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 =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money &lt; 1000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have, $" + money + " left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Consider betting moderately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ow much do you want to bet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 =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have, $" + money + " left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You may bet liberally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ow much do you want to bet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 =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de after factorin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ystem.out.println("You have, $" + money + " left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money &lt; 500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Caution!  Bet carefully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money &lt; 1000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Consider betting moderately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You may bet liberally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ystem.out.print("How much do you want to bet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t =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the start of each branch is the same, move it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the end of each branch is the same, move it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similar but code exists in each branch, look for patter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"dangling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" probl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can be improved about the following cod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x &lt;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x is negative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x &gt;=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x is non-negative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seco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est is unnecessary and can be removed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x &lt;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x is negative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x is non-negative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is also relevant in methods that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with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etur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hods can return different values us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largest of the three given integ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max3(int a, int b, int c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 &gt;= b &amp;&amp; a &gt;= c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b &gt;= c &amp;&amp; b &gt;= a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b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c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ichever path the code enters, it will return the appropriate valu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turning a value causes a method to immediately exi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 code paths must reach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statem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0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l paths must also return a value of the same typ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ll paths must retur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max3(int a, int b, int c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 &gt;= b &amp;&amp; a &gt;= c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b &gt;= c &amp;&amp; b &gt;= a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b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// Error: not all paths return a valu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following also does not compi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max3(int a, int b, int c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 &gt;= b &amp;&amp; a &gt;= c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b &gt;= c &amp;&amp; b &gt;= a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b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if (c &gt;= a &amp;&amp; c &gt;= b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turn c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mpiler think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/else/i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de might skip all path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person's body mass index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BMI) is defined to b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produces the following 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is program reads data for two people and compu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eir body mass index (BMI) and weight statu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next person's inform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ight (in inche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70.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ight (in pound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94.2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next person's inform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ight (in inche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62.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ight (in pound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30.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#1 body mass index = 27.87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verweigh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#2 body mass index = 23.49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fference = 4.38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995400" y="2197080"/>
                <a:ext cx="24638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M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eight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eigh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703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8" name=""/>
          <p:cNvGraphicFramePr/>
          <p:nvPr/>
        </p:nvGraphicFramePr>
        <p:xfrm>
          <a:off x="5200560" y="1184400"/>
          <a:ext cx="3727440" cy="1828800"/>
        </p:xfrm>
        <a:graphic>
          <a:graphicData uri="http://schemas.openxmlformats.org/drawingml/2006/table">
            <a:tbl>
              <a:tblPr/>
              <a:tblGrid>
                <a:gridCol w="1730520"/>
                <a:gridCol w="1996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ight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low 18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derwe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.5 - 2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.0 - 29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we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.0 and 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This program computes two people's body mass index (BMI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and compares them.  The code uses parameters and retur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util.*;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BMI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roduction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bmi1 = person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bmi2 = person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port overall resul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port(1, bmi1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port(2, bmi2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f("Difference = %.2f\n", Math.abs(bmi1 - bmi2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prints a welcome message explaining the progra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introduction(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is program reads in data for two people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and computes their body mass index (BMI)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and weight status.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canner BMI solution, cont.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ads information for one person, computes their BMI, and returns i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double person(Scanner console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Enter next person's information: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height (in inches)? 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height = console.nextDoubl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weight (in pounds)? 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weight = console.nextDoubl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bodyMass = bmi(height, weight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bodyMas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Computes/returns a person's BMIbased on their height and weigh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double bmi(double height, double weight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(weight * 703 / height / height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Outputs information about a person's BMI and weight statu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report(int number, double bmi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f("Person #%d body mass index = %.2f\n", number, bmi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bmi &lt; 18.5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ystem.out.println("underweight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if (bmi &lt; 25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ystem.out.println("normal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if (bmi &lt; 30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ystem.out.println("overweight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ystem.out.println("obese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,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eturn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etho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untFacto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return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number of factors of an integ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Factors(24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ecaus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, 2, 3, 4, 6, 8, 12, and 24 are factors of 24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prompts the user for a maximum integer and prints all prime numbers up to that max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imum number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3 5 7 11 13 17 19 23 29 31 37 41 43 4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 primes (28.84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,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eturn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answer 1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ompts for a maximum number and prints each prime up to that maximum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rimes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ad max from us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Maximum number? 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max = console.nextInt(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rintPrimes(max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ints all prime numbers up to the given maximum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printPrimes(int max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primes = 0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2; i &lt;= max; i++) {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f (countFactors(i) == 2) {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i is prim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i + " 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rimes++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 percent = 100.0 * primes / max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f("%d primes (%.2f%%)\n", primes, percent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oops with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tatements can be used with loops or method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evenSum =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oddSum =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i % 2 == 0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venSum = evenSum + i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ddSum = oddSum + i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Even sum: " + evenSu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Odd sum: " + oddSu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,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eturn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answer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how many factors the given number ha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nt++;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i is a factor of numb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800" spc="-1" strike="noStrike">
                <a:solidFill>
                  <a:srgbClr val="464646"/>
                </a:solidFill>
                <a:latin typeface="Courier New"/>
              </a:rPr>
              <a:t>if/else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4.2, 4.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: #6, 8, 9, 24-27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rcises: #10-1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deos: Ch. 4 #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nested_if_1"/>
          <p:cNvPicPr/>
          <p:nvPr/>
        </p:nvPicPr>
        <p:blipFill>
          <a:blip r:embed="rId1"/>
          <a:stretch/>
        </p:blipFill>
        <p:spPr>
          <a:xfrm>
            <a:off x="7391520" y="2057400"/>
            <a:ext cx="1563480" cy="4572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equential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bu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's wrong with the following cod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percentage did you earn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ercent =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90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n A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80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B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70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C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60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D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n F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Chooses between outcomes using many tes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f (number &gt; 0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ystem.out.println("Positive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 else if (number &lt; 0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ystem.out.println("Negative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ystem.out.println("Zero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4" descr="nested_if_3"/>
          <p:cNvPicPr/>
          <p:nvPr/>
        </p:nvPicPr>
        <p:blipFill>
          <a:blip r:embed="rId1"/>
          <a:stretch/>
        </p:blipFill>
        <p:spPr>
          <a:xfrm>
            <a:off x="5638680" y="1969920"/>
            <a:ext cx="3429000" cy="267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/if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pic>
        <p:nvPicPr>
          <p:cNvPr id="119" name="Picture 3" descr="nested_if_2"/>
          <p:cNvPicPr/>
          <p:nvPr/>
        </p:nvPicPr>
        <p:blipFill>
          <a:blip r:embed="rId1"/>
          <a:stretch/>
        </p:blipFill>
        <p:spPr>
          <a:xfrm>
            <a:off x="5791320" y="1936800"/>
            <a:ext cx="3276360" cy="2863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it ends with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one code path must be take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it ends with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the program might not execute any path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</a:t>
            </a: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test</a:t>
            </a: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f (place == 1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ystem.out.println("You win the gold medal!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 else if (place == 2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ystem.out.println("You win a silver medal!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 else if (place == 3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ystem.out.println("You earned a bronze medal.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uctur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pic>
        <p:nvPicPr>
          <p:cNvPr id="122" name="Picture 3" descr="nested_if_1"/>
          <p:cNvPicPr/>
          <p:nvPr/>
        </p:nvPicPr>
        <p:blipFill>
          <a:blip r:embed="rId1"/>
          <a:stretch/>
        </p:blipFill>
        <p:spPr>
          <a:xfrm>
            <a:off x="3060720" y="3886200"/>
            <a:ext cx="977760" cy="266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0" y="1295280"/>
          <a:ext cx="9144000" cy="49132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221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9080" indent="-289080">
                        <a:spcBef>
                          <a:spcPts val="400"/>
                        </a:spcBef>
                        <a:buClr>
                          <a:srgbClr val="eb641b"/>
                        </a:buClr>
                        <a:buSzPct val="5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ctly 1 path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mutually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9080" indent="-289080">
                        <a:spcBef>
                          <a:spcPts val="451"/>
                        </a:spcBef>
                        <a:buClr>
                          <a:srgbClr val="eb641b"/>
                        </a:buClr>
                        <a:buSzPct val="5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or 1 path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7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289080" indent="-289080">
                        <a:spcBef>
                          <a:spcPts val="400"/>
                        </a:spcBef>
                        <a:buClr>
                          <a:srgbClr val="eb641b"/>
                        </a:buClr>
                        <a:buSzPct val="5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 1, or many paths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independent tests, not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17" descr="nested_if_3"/>
          <p:cNvPicPr/>
          <p:nvPr/>
        </p:nvPicPr>
        <p:blipFill>
          <a:blip r:embed="rId2"/>
          <a:stretch/>
        </p:blipFill>
        <p:spPr>
          <a:xfrm>
            <a:off x="2743200" y="1924200"/>
            <a:ext cx="1752480" cy="1366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nested_if_2"/>
          <p:cNvPicPr/>
          <p:nvPr/>
        </p:nvPicPr>
        <p:blipFill>
          <a:blip r:embed="rId3"/>
          <a:stretch/>
        </p:blipFill>
        <p:spPr>
          <a:xfrm>
            <a:off x="7238880" y="1752480"/>
            <a:ext cx="1828800" cy="15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Which 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(1) if/if/if   (2) nested if/else   (3) nested if/else/if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ing the user's GPA and printing whether the student is on the dean's list (3.8 to 4.0) or honor roll (3.5 to 3.8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nting whether a number is even or od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nting whether a user is lower-class, middle-class, or upper-class based on their incom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ing a number from the user and printing whether it is divisible by 2, 3, and/or 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nting a grade of A, B, C, D, or F based on a percenta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28600" y="1371600"/>
            <a:ext cx="88390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5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(1) if/if/if   (2) nested if/else   (3) nested if/else/if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5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ading the user's GPA and printing whether the student is on the dean's list (3.8 to 4.0) or honor roll (3.5 to 3.8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00000"/>
              </a:lnSpc>
              <a:spcBef>
                <a:spcPts val="451"/>
              </a:spcBef>
              <a:buClr>
                <a:srgbClr val="da1f28"/>
              </a:buClr>
              <a:buSzPct val="5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3)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este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/ else i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5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rinting whether a number is even or od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00000"/>
              </a:lnSpc>
              <a:spcBef>
                <a:spcPts val="451"/>
              </a:spcBef>
              <a:buClr>
                <a:srgbClr val="da1f28"/>
              </a:buClr>
              <a:buSzPct val="5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N/A)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impl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/ e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5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rinting whether a user is lower-class, middle-class, or upper-class based on their incom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00000"/>
              </a:lnSpc>
              <a:spcBef>
                <a:spcPts val="451"/>
              </a:spcBef>
              <a:buClr>
                <a:srgbClr val="da1f28"/>
              </a:buClr>
              <a:buSzPct val="5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2)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este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/ else if / e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5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ading a number from the user and printing whether it is divisible by 2, 3, and/or 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00000"/>
              </a:lnSpc>
              <a:spcBef>
                <a:spcPts val="451"/>
              </a:spcBef>
              <a:buClr>
                <a:srgbClr val="da1f28"/>
              </a:buClr>
              <a:buSzPct val="5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1)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equential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/ if / i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5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rinting a grade of A, B, C, D, or F based on a percenta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00000"/>
              </a:lnSpc>
              <a:spcBef>
                <a:spcPts val="451"/>
              </a:spcBef>
              <a:buClr>
                <a:srgbClr val="da1f28"/>
              </a:buClr>
              <a:buSzPct val="5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2)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este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/ else if / else if / else if / e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actoring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o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acto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extracting common/redundant cod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ctor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de can reduce the size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tatements or eliminate the need f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ltogeth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== 1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a == 2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6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++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 ==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9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4114800" y="3276720"/>
            <a:ext cx="4647960" cy="1828800"/>
            <a:chOff x="4114800" y="3276720"/>
            <a:chExt cx="4647960" cy="1828800"/>
          </a:xfrm>
        </p:grpSpPr>
        <p:sp>
          <p:nvSpPr>
            <p:cNvPr id="132" name="Text Box 5"/>
            <p:cNvSpPr/>
            <p:nvPr/>
          </p:nvSpPr>
          <p:spPr>
            <a:xfrm>
              <a:off x="6216480" y="3565440"/>
              <a:ext cx="2546280" cy="1313640"/>
            </a:xfrm>
            <a:prstGeom prst="rect">
              <a:avLst/>
            </a:prstGeom>
            <a:noFill/>
            <a:ln w="936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x = 3 * a;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if (a == 2) {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y++;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Line 6"/>
            <p:cNvSpPr/>
            <p:nvPr/>
          </p:nvSpPr>
          <p:spPr>
            <a:xfrm>
              <a:off x="4711680" y="41972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AutoShape 7"/>
            <p:cNvSpPr/>
            <p:nvPr/>
          </p:nvSpPr>
          <p:spPr>
            <a:xfrm>
              <a:off x="4114800" y="3276720"/>
              <a:ext cx="609480" cy="182880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Stuart Reges</cp:lastModifiedBy>
  <cp:lastPrinted>2009-04-22T19:24:48Z</cp:lastPrinted>
  <dcterms:modified xsi:type="dcterms:W3CDTF">2009-01-26T19:09:06Z</dcterms:modified>
  <cp:revision>1268</cp:revision>
  <dc:subject/>
  <dc:title>Building Java Programs</dc:title>
</cp:coreProperties>
</file>