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00CC-6CE9-4360-95AD-04BBEC7AB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E5D3-F6AD-4F1C-8871-09E63B6059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C7FA-9493-49A5-A653-AF21794DDC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5CD7-FF7C-4AFC-A823-C3C538669C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1A7C-2017-414E-AFBF-7433616D42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F850-FFAE-47AC-9B4F-9F6A5A20E9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371F-D599-4A9F-97C4-1BDEB13977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51C6-BEEE-441F-BD4A-04F244765D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5F32-6A0E-4B47-86D0-7063A8B5ED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D162-1CE5-4708-A290-584971ABA3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5545-30EA-4C41-8C13-0FF1C779A9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05C5-24DC-4CF2-B01D-0D7811E43C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9A5A6-DEF9-4FCC-AA24-F6A8AE4DF2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A9B6-0B44-4E28-8130-E4AA5851EDF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8B3B-3877-49C1-A322-403B099AFB5F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3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3-3: Interactive Programs w/ Scan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ding: 3.3 - 3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check: #16-1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s: #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deos: Ch. 3 #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umulative sum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Ch. 4 #1-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Ch. 4 #1-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dding many numb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 would you find the sum of all integers from 1-1000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1 + 2 + 3 + 4 + ... 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f we want the sum from 1 - 1,000,000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 the sum up to any maximum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ould write a method that accepts the max value as a parameter and prints the su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we generalize code like the abov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failed attemp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incorrect solution for summing 1-1000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// sum is undefined he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's scope is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op, so the code does not compi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umulative su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riable that keeps a sum in progress and is updated repeatedly until summing is finish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the above code is an attempt at a cumulative su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936720" y="1886040"/>
            <a:ext cx="16542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xed cumulative sum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corrected version of the sum loop co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Key ide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mulative sum variables must be declar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oops that update them, so that they will exist after the loo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produc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cumulative idea can be used with other operato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roduct =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2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duct = product * 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2 ^ 20 =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would we make the base and exponent adjustab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1488960" y="3144960"/>
            <a:ext cx="39974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d cumulative su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an do a cumulative sum of user in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3817800" y="2597040"/>
            <a:ext cx="7207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928800" y="1928880"/>
            <a:ext cx="40240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User-guided cumulative su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many numbers to add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numbers to ad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a number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a number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a number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sum is 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two employees' hours and displays each employee's total and the overall total hou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pany doesn't pay overtime; cap each day at 8 hou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 1: How many days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urs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urs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urs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 1's total hours = 19 (6.3 / da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 2: How many days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urs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urs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 2's total hours = 14 (7.0 / da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hours for both = 3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total paid hours worked by two employee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e company does not pay for more than 8 hours per day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Uses a "cumulative sum" loop to compute the total hour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Hours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hours1 =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ocessEmployee(console, 1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hours2 =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ocessEmployee(console, 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total = hours1 + hours2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otal hours for both = " + total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s hours information about an employee with the given number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otal hours worked by the employe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processEmployee(Scanner console, int number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Employee " + number + ": How many days?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otalHours is a cumulative sum of all days' hours worked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totalHours =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days; i++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Hours?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hours = console.nextInt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otalHours = totalHours + Math.min(hours, 8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hoursPerDay = (double) totalHours / day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f("Employee %d's total hours = %d (%.1f / day)\n"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number, totalHours, hoursPerDay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totalHour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ractive progra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have written programs that print console output, but it is also possible to rea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the conso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ser types input into the console.  We capture the input and use it in our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h a program is called 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teractive progr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active programs can be challeng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uters and users think in very different way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s misbeha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odified version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from Ch.2 that prompts the user for how many people ate and how much each person's dinner cos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play results in format below,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2 digits after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5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total: $70.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ax: $5.6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p: $10.5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: $86.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enhances our Receipt program using a cumulative su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eipt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many people ate?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eopl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subtotal = 0.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umulative su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people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erson #" + i +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: How much did your dinner cost?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ersonCo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total = subtotal + personCos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dd to su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(subtota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f("Subtotal: $%.2f\n", subtota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f("Tax: $%.2f\n", ta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f("Tip: $%.2f\n", tip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f("Total: $%.2f\n", tota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state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ecutes a block of statements only if a test is tru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accepted.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4" descr="if_statement"/>
          <p:cNvPicPr/>
          <p:nvPr/>
        </p:nvPicPr>
        <p:blipFill>
          <a:blip r:embed="rId1"/>
          <a:stretch/>
        </p:blipFill>
        <p:spPr>
          <a:xfrm>
            <a:off x="6267600" y="1905120"/>
            <a:ext cx="27432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state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169" name="Picture 3" descr="if_else"/>
          <p:cNvPicPr/>
          <p:nvPr/>
        </p:nvPicPr>
        <p:blipFill>
          <a:blip r:embed="rId1"/>
          <a:stretch/>
        </p:blipFill>
        <p:spPr>
          <a:xfrm>
            <a:off x="5334120" y="1905120"/>
            <a:ext cx="3657600" cy="23731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ecutes one block if a test is true, another if fa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Welcome to Mars University!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denied.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lational 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in a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is the same as in a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loop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a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pressions, seen in Ch. 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sts us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lational opera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219320" y="3828960"/>
          <a:ext cx="6735600" cy="2560680"/>
        </p:xfrm>
        <a:graphic>
          <a:graphicData uri="http://schemas.openxmlformats.org/drawingml/2006/table">
            <a:tbl>
              <a:tblPr/>
              <a:tblGrid>
                <a:gridCol w="1333440"/>
                <a:gridCol w="2948040"/>
                <a:gridCol w="1549440"/>
                <a:gridCol w="90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gical operators: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&amp;&amp;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||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!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ditions can be combined using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logical opera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"Truth tables" for each, used with logical value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03400" y="1905120"/>
          <a:ext cx="6897600" cy="1463400"/>
        </p:xfrm>
        <a:graphic>
          <a:graphicData uri="http://schemas.openxmlformats.org/drawingml/2006/table">
            <a:tbl>
              <a:tblPr/>
              <a:tblGrid>
                <a:gridCol w="1333440"/>
                <a:gridCol w="1652400"/>
                <a:gridCol w="2914920"/>
                <a:gridCol w="99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104840" y="4191120"/>
          <a:ext cx="3721320" cy="182880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6226200" y="4191120"/>
          <a:ext cx="1774800" cy="109692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valuating logic 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ional operators have lower precedence than ma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 * 7 &gt;= 3 + 5 *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7 - 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 * 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gt;= 3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 * 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5    &g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 + 3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5    &gt;= 3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ional operators cannot be "chained" as in algeb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lt;= 10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ssume tha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   &lt;= 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error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ead, combine multiple tests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&lt;= 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ssume tha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   &amp;&amp; 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gical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result of each of the following expression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4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1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z = 2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&lt; x &amp;&amp; y &lt;= 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% 2 == y % 2 || x % 2 == z %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lt;= y + z &amp;&amp; x &gt;= y + 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(x &lt; y &amp;&amp; x &lt; z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 + y) % 2 == 0 || !((z - y) % 2 == 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put an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ystem.i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bject with methods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intended to be used direct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use a second object, from a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o help u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ing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to read console in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class libraries, impor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ava class librari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Classes included with Java's JD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ed into groups nam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ack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use a package, put 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mport declar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your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ckage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in a packag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you must place the above line at the top of your program (befor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eader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typed is return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'll be 40 in " +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40 - age) + " years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m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message telling the user what input to ty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62120" y="1371600"/>
          <a:ext cx="7605720" cy="1981080"/>
        </p:xfrm>
        <a:graphic>
          <a:graphicData uri="http://schemas.openxmlformats.org/drawingml/2006/table">
            <a:tbl>
              <a:tblPr/>
              <a:tblGrid>
                <a:gridCol w="2346120"/>
                <a:gridCol w="5259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token of user input a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token of user input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token of user input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reads a 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 of user input as a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795320" y="2448000"/>
            <a:ext cx="54612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133800" y="3211560"/>
            <a:ext cx="2354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ampl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usag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adSomeInput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ge + "... That's quite old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(user input underlined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old are you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4... That's quite old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3290760" y="2827440"/>
            <a:ext cx="2355840" cy="806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other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cannerSum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Please type three numbers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3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num1 + num2 + num3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(user input underlined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ease type three number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8 6 1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sum is 2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n read multiple values from one li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put toke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unit of user input, as read b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kens are separated b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itespa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paces, tabs, newlin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tokens appear on the following line of inpu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John Smith   42.0 "Hello world"   $2.50   " 19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a token is not the type you ask for, it crash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age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onsole.nextIn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ag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Timm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java.util.InputMismatchExcep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(Unknown Sour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Int(Unknown Sour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3849840" y="2782800"/>
            <a:ext cx="9856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386240" y="4000680"/>
            <a:ext cx="20937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canners as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many methods read input, declar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pass it to the others as a parame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readSum3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ompts for 3 numbers and returns their su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readSum3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canner conso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m1 + num2 + num3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1-26T19:09:10Z</dcterms:modified>
  <cp:revision>1264</cp:revision>
  <dc:subject/>
  <dc:title>Building Java Programs</dc:title>
</cp:coreProperties>
</file>