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DCA21-AC4E-4C10-9789-986B287C08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AA036-C7FB-4DBA-8A3F-82BDE637C7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EAE09-F00B-494C-91A3-ECF2A8771E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4D7E1-B106-499B-9CDA-3343B0C03E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20ADC-92D6-45C6-8A60-61FB58EA78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BD3C1-513E-48AD-93A1-0DE04A8FB9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58E0F-6C14-4907-992A-D328393C06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7658D-AA01-405E-9691-D4B3C7D973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6AC68-9A6C-44DA-8427-0490345F65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63C1B-9087-417C-BCBD-D95D140202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B74E2-DBA6-4611-B545-27D3C4E633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EF1D2-6FCF-4E97-B7D4-9B44769A95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8AE0-F56F-47D2-A22D-E2FD4B0C92A4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8" name="Freeform 20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0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1" name="Freeform 23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2" name="Freeform 2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4" name="Freeform 24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65" name="Freeform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E6CB-0D02-4510-92D5-952EBD8C38A3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3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3-2: Return;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f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3.2, 3.5, 4.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deos: Ch. 3 #2, 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2590920" y="4343400"/>
            <a:ext cx="8650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1219320" y="5181480"/>
            <a:ext cx="205740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turning a valu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expression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slope of the line between the given poin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lope(int x1, int y1, int x2, int y2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dy / dx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turn exampl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verts Fahrenheit to Celsiu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fToC(double degreesF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egreesC = 5.0 / 9.0 * (degreesF - 32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degreesC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mputes triangle hypotenuse length given its side length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hypotenuse(int a, int b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c = Math.sqrt(a * a + b * b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c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can shorten the examples by returning an expressi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fToC(double degreesF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.0 / 9.0 * (degreesF - 32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mmon error: Not storing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ny students incorrectly think that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tatement sends a variable's name back to the calling metho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ope(0, 0, 6, 3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lope is " +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sul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RROR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             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sult not defin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slope(int x1, int x2, int y1, int y2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result = dy / dx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resul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1222200" y="3056040"/>
            <a:ext cx="14684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xing the common erro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stead, returning sends the variable's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valu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ck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eturned value must be stored into a variable or used in an expression to be useful to the c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double s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ope(0, 0, 6, 3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lope is " +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slope(int x1, int x2, int y1, int y2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result = dy / dx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Quirks of real numb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m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s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r other non-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yp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int x = Math.pow(10, 3);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// ERROR: incompat.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m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values print poorly (too many digits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result = 1.0 / 3.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result);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0.333333333333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computer represent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 in an imprecise wa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0.1 + 0.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tead of 0.3, the output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.300000000000000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ype casting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ype cas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conversion from one type to anoth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promote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to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get exact division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truncat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rom a real number to an inte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result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19 / 5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3.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result2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t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result;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int x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(int)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Math.pow(10, 3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3276720" y="2666880"/>
            <a:ext cx="152712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2657520" y="2305080"/>
            <a:ext cx="152712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ore about type casting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ype casting has high precedence and only casts the item immediately next to i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x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1 + 1 / 2;       //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y = 1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1 / 2;       // 1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can use parentheses to force evaluation ord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average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a + b + c) / 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conversion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an be achieved in other way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average = 1.0 * (a + b + c) / 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ystem.out.printf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0" algn="ctr">
              <a:spcBef>
                <a:spcPts val="550"/>
              </a:spcBef>
              <a:buNone/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an advanced command for printing formatted tex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33280" indent="0" algn="ctr">
              <a:spcBef>
                <a:spcPts val="550"/>
              </a:spcBef>
              <a:buNone/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332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f("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ormat 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lnSpc>
                <a:spcPct val="11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ormat string contain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laceholder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insert parameters into i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-2332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inte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-2332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real numb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-2332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84320" indent="0">
              <a:spcBef>
                <a:spcPts val="451"/>
              </a:spcBef>
              <a:buNone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-2332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 = 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f("(%d, %d)\n", x, y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(3, 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ystem.out.printf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464646"/>
                </a:solidFill>
                <a:latin typeface="Verdana"/>
              </a:rPr>
              <a:t>cont'd</a:t>
            </a:r>
            <a:endParaRPr b="0" lang="en-US" sz="36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 placeholder can specify the parameter's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width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8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integer, 8 characters wide, right-align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-8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integer, 8 characters wide, left-align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.4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real number, 4 characters after decim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6.2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real number, 6 characters wide, 2 after decim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ge = 4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gpa = 1.2345678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f("%-8d %4f\n", age, gpa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f("%8.3f %.1f %.5f", gpa, gpa, gpa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5       1.2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.234 1.2 1.2345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ojectile problem revisite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Recall: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Display (as text and graphics) the paths of projectiles thrown at various velocities and angl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jectile #1: velocity = 60, angle = 50°, steps = 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jectile #2: velocity = 50, angle = 80°, steps = 5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       x       y    ti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    0.00    0.00    0.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   36.14   38.76    0.9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   72.28   68.91    1.8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  108.42   90.45    2.8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  144.56  103.37    3.7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  180.70  107.67    4.6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6  216.84  103.37    5.6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7  252.98   90.45    6.5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8  289.12   68.91    7.5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9  325.26   38.76    8.4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  361.40    0.00    9.3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       x       y    ti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    0.00    0.00    0.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    1.74    9.69    0.2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    3.49   18.98    0.4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5308560" y="3062160"/>
            <a:ext cx="373392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ojectile proble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hat displays (as text and graphics) the paths of projectiles thrown at various velocities and angl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jectile #1: velocity = 60, angle = 50°, steps = 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jectile #2: velocity = 50, angle = 80°, steps = 5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       x       y    ti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    0.00    0.00    0.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   36.14   38.76    0.9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   72.28   68.91    1.8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  108.42   90.45    2.8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  144.56  103.37    3.7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  180.70  107.67    4.6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6  216.84  103.37    5.6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7  252.98   90.45    6.5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8  289.12   68.91    7.5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9  325.26   38.76    8.4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  361.40    0.00    9.3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       x       y    ti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    0.00    0.00    0.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    1.74    9.69    0.2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    3.49   18.98    0.4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5308560" y="3062160"/>
            <a:ext cx="373392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X/Y position, displacemen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ed on the previous, we can now display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since there is no force in the x direc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       x       y    ti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    0.00    ????    0.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   36.14    ????    0.9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   72.28    ????    1.8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  361.40    ????    9.3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display the y, we need to compute the projectile's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displaceme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n y direction at each time increme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= 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0y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 + ½ a t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nce this formula is complicated, let's make it into a metho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ojectile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computes and draws the trajectory of a projectil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Projectile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onstant for Earth's gravity acceleration in meters/second^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final double ACCELERATION = -9.81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awingPanel panel = new DrawingPanel(420, 25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      v0  angle  ste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able(g,  60,  50,  1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able(g,  50,  80,  5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eturns the displacement for a body under acceler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isplaceme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ouble v0, double t, double a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v0 * t + 0.5 * a * t * 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ojectile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s a table showing the trajectory of an object giv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its initial velocity v and angle and number of ste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table(Graphics g, double v0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angle, int step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v0x = v0 * Math.cos(Math.toRadians(angle)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v0y = v0 * Math.sin(Math.toRadians(angle)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otalTime = -2.0 * v0y / ACCELERATION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dt = totalTime / step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  step       x       y    time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= steps; i++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ime = i * d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x = i * v0x * d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y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isplaceme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v0y, time, ACCELERATION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f("%8d%8.2f%8.2f%8.2f\n", i, x, y, time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Oval((int) x, (int) (250 - y), 5, 5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ime observa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are given the number of "steps" of time to displa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must figure out how long it takes the projectile to hit the ground, then divide this time into the # of steps request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       x       y    ti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    0.00    0.00    0.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   36.14   38.76    0.9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   72.28   68.91    1.8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  361.40    0.00    9.3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tal time is based on the force of gravity on the projecti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rce of gravity 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≅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9.81 m/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downwar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projectile has an initial upward velocity, which is fought by gravity until the projectile reaches its peak, then it fall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6705720" y="2727360"/>
            <a:ext cx="220968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Velocity and accelera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rojectile has a given initial velocity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which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n be divided into x and y componen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94720" indent="-22860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0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s 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94720" indent="-22860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0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in 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50320" indent="-22896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ample: If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13 and 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60°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12 and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5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50320" indent="0">
              <a:spcBef>
                <a:spcPts val="451"/>
              </a:spcBef>
              <a:buNone/>
              <a:tabLst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velocity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f a moving body at time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given initial velocity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acceleration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can be expressed a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94720" indent="-22860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 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94720" indent="0">
              <a:spcBef>
                <a:spcPts val="201"/>
              </a:spcBef>
              <a:buNone/>
              <a:tabLst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our case, because of symmetry, at the end time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e projectile is falling exactly as fast as it was first going u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94720" indent="-22860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 -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 t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2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Line 4"/>
          <p:cNvSpPr/>
          <p:nvPr/>
        </p:nvSpPr>
        <p:spPr>
          <a:xfrm flipV="1">
            <a:off x="7408800" y="1371600"/>
            <a:ext cx="1227240" cy="168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7291080" y="1905120"/>
            <a:ext cx="945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7531200" y="3060720"/>
            <a:ext cx="982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Line 7"/>
          <p:cNvSpPr/>
          <p:nvPr/>
        </p:nvSpPr>
        <p:spPr>
          <a:xfrm flipV="1">
            <a:off x="8636040" y="1582560"/>
            <a:ext cx="0" cy="147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7593480" y="3032280"/>
            <a:ext cx="102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0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8391960" y="2057400"/>
            <a:ext cx="1023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0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7637400" y="265104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Return Value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3.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check: #7-1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rcises: #4-6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deos: Ch. 3 #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Java's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Math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57200" y="1295280"/>
          <a:ext cx="6643800" cy="5270760"/>
        </p:xfrm>
        <a:graphic>
          <a:graphicData uri="http://schemas.openxmlformats.org/drawingml/2006/table">
            <a:tbl>
              <a:tblPr/>
              <a:tblGrid>
                <a:gridCol w="3083040"/>
                <a:gridCol w="3560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ab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solute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round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arest whole 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ceil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unds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floor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unds d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log10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garithm, base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max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rger of two val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mi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maller of two val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pow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to the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sqrt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quare ro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si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co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a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ne/cosine/tangent of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 angle in radi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oDegree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oRadian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vert degrees to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dians and b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random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between 0 and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6296040" y="4952880"/>
          <a:ext cx="2771640" cy="1006560"/>
        </p:xfrm>
        <a:graphic>
          <a:graphicData uri="http://schemas.openxmlformats.org/drawingml/2006/table">
            <a:tbl>
              <a:tblPr/>
              <a:tblGrid>
                <a:gridCol w="1219320"/>
                <a:gridCol w="1552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sta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7182818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1415926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alling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Math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hod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squareRoot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sqrt(121.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squareRoot);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1.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bsoluteValue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abs(-5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bsoluteValue);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5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min(3, 7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2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s do not print to the conso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method produces ("returns") a numeric resul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esults are used as expressions (printed, stored, etc.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tur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To send out a value as the result of a metho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posite of a paramet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rameters send informatio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om the caller to the metho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turn values send informatio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out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om a method to its call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2" name="Group 4"/>
          <p:cNvGrpSpPr/>
          <p:nvPr/>
        </p:nvGrpSpPr>
        <p:grpSpPr>
          <a:xfrm>
            <a:off x="2144880" y="3429000"/>
            <a:ext cx="4904640" cy="2430720"/>
            <a:chOff x="2144880" y="3429000"/>
            <a:chExt cx="4904640" cy="2430720"/>
          </a:xfrm>
        </p:grpSpPr>
        <p:sp>
          <p:nvSpPr>
            <p:cNvPr id="133" name="Text Box 5"/>
            <p:cNvSpPr/>
            <p:nvPr/>
          </p:nvSpPr>
          <p:spPr>
            <a:xfrm>
              <a:off x="2144880" y="430524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6"/>
            <p:cNvSpPr/>
            <p:nvPr/>
          </p:nvSpPr>
          <p:spPr>
            <a:xfrm flipV="1">
              <a:off x="2966760" y="3508200"/>
              <a:ext cx="1447560" cy="9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Text Box 7"/>
            <p:cNvSpPr/>
            <p:nvPr/>
          </p:nvSpPr>
          <p:spPr>
            <a:xfrm>
              <a:off x="4435920" y="3429000"/>
              <a:ext cx="21618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ath.abs(-42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Text Box 8"/>
            <p:cNvSpPr/>
            <p:nvPr/>
          </p:nvSpPr>
          <p:spPr>
            <a:xfrm>
              <a:off x="3236400" y="3492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-42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9"/>
            <p:cNvSpPr/>
            <p:nvPr/>
          </p:nvSpPr>
          <p:spPr>
            <a:xfrm>
              <a:off x="2939760" y="4703400"/>
              <a:ext cx="1474560" cy="70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0"/>
            <p:cNvSpPr/>
            <p:nvPr/>
          </p:nvSpPr>
          <p:spPr>
            <a:xfrm>
              <a:off x="4430520" y="5460840"/>
              <a:ext cx="26190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ath.round(2.71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11"/>
            <p:cNvSpPr/>
            <p:nvPr/>
          </p:nvSpPr>
          <p:spPr>
            <a:xfrm flipH="1" flipV="1">
              <a:off x="2890800" y="4799880"/>
              <a:ext cx="152352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Text Box 12"/>
            <p:cNvSpPr/>
            <p:nvPr/>
          </p:nvSpPr>
          <p:spPr>
            <a:xfrm>
              <a:off x="3673080" y="472716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2.71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Line 13"/>
            <p:cNvSpPr/>
            <p:nvPr/>
          </p:nvSpPr>
          <p:spPr>
            <a:xfrm flipH="1">
              <a:off x="3119040" y="3812760"/>
              <a:ext cx="12949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Text Box 14"/>
            <p:cNvSpPr/>
            <p:nvPr/>
          </p:nvSpPr>
          <p:spPr>
            <a:xfrm>
              <a:off x="3790440" y="40255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Text Box 15"/>
            <p:cNvSpPr/>
            <p:nvPr/>
          </p:nvSpPr>
          <p:spPr>
            <a:xfrm>
              <a:off x="3409560" y="5244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Math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ques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valuate the following expression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.abs(-1.23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.pow(3, 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.pow(10, -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.sqrt(121.0) - Math.sqrt(256.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.round(Math.PI) + Math.round(Math.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.ceil(6.022) + Math.floor(15.9994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.abs(Math.min(-3, -5)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.ma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.m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an be used to bound numb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der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riable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g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statement would replace negative ages with 0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statement would cap the maximum age to 40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Stuart Reges</cp:lastModifiedBy>
  <cp:lastPrinted>2009-04-22T19:24:48Z</cp:lastPrinted>
  <dcterms:modified xsi:type="dcterms:W3CDTF">2010-01-22T20:58:53Z</dcterms:modified>
  <cp:revision>1260</cp:revision>
  <dc:subject/>
  <dc:title>Building Java Programs</dc:title>
</cp:coreProperties>
</file>