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F8AD-1F71-4179-B439-9E20A62A90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04E9-2631-4782-9A23-CAB95B362E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7BCA-31B1-4949-B4EF-4CFE401875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92FC-826C-4253-9F95-79999909D7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17CE-8171-4A6B-8381-E862A3D1D9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26A8-30E8-46E9-831D-9F42897525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2EA5-D5D8-4B40-841B-8D660B03D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A49D-C93D-4E96-9F5C-E0D84E5B13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8239-BEDE-4CE3-8C3C-3C13D7FD23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AFC6-9927-4089-B117-10E5732210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6452-D6D0-4BFF-8A5B-5904681B4B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697D-DEAE-4026-A305-C01B4D35F1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3C4C-1184-4BD2-9F08-9CC76D5FF09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6EB7-990B-4EE6-AEF0-136D885246F0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Supplement 3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3G #1-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Col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equent shapes will be drawn in the new col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 a col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verall window background color will chan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lined sha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raw a colored shape with an outline, firs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fil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raw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ame shape in the outline col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ith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xpression can use the loop counter variab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400, 3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sted loops are okay as we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50, 25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36272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364520" y="4419720"/>
            <a:ext cx="1679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s that begin at 0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ginning at 0 and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make coordinates easi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ten stacked rectangles starting at (20, 20), height 10, width starting at 100 and decreasing by 10 each ti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60, 16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i = 0; i &lt; 1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20, 20 + 10 * i, 100 - 10 * i, 1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396200" y="4219560"/>
            <a:ext cx="158112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/ loops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de from previous sli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60, 16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10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20, 20 + 10 * i, 100 - 10 * i, 1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variations of the abo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 that draw the figur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right as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1581120" cy="220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1581120" cy="220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467480" y="1676520"/>
            <a:ext cx="158112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/ loops 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 #1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0 + 10 *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20 + 10 * i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 - 10 * i, 1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 #2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 - 10 *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20 + 10 * i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 + 10 *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410600" y="1371600"/>
            <a:ext cx="1581120" cy="2201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410600" y="4195800"/>
            <a:ext cx="158112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uperimposing sha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≥ 2 shapes occupy the same pixels, the last drawn "wi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ith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2960" indent="-28296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raw in multiple methods, you must p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rawCar(g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drawCar(Graphics g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58000" y="4616280"/>
            <a:ext cx="2057400" cy="17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car-drawing method so that it can draw cars at different positions, as in the following im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-left corners: (10, 30), (150, 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5562720" y="3784680"/>
            <a:ext cx="14889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6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g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, 10, 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g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, 150,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Car(Graphics g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, int x, int 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, 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10, y +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70, y +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70, y +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will draw graphics in Java using 3 kinds o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objec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indow on the scre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part of Java; provided by the auth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"pen" to draw shapes/lines on a wind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lors in which to draw shap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39040" y="3657600"/>
            <a:ext cx="233820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C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allow the car to be drawn at any siz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 ca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ze 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ca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ze 50, top/left at (150, 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 to draw a line of ca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at (10, 130), each car size 40, separated by 50p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parameter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62120" y="4449600"/>
            <a:ext cx="2057400" cy="1630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400800" y="4145040"/>
            <a:ext cx="205740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7262640" y="3962520"/>
            <a:ext cx="100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parameter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4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1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g, 10, 30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g, 150, 10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for (int i = 0; i &lt; 5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drawCar(g, 10 + i * 50, 130, 4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Car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, size / 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x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 /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 * size / 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 / 5, size / 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x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7 * size /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 * size / 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 / 5, size / 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x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7 * size /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 /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 * size / 10, size / 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139160" y="4556160"/>
            <a:ext cx="194940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olyg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Objects that represent arbitrary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point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using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1225440" y="4529160"/>
            <a:ext cx="23590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imat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lee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pauses your program for a given number of milliseco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create simple anim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y ad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mands to loops in past exercises in this chapter and watch the panel draw itself piece by pie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jects (briefly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entity that contains data a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Variables inside the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ethods inside the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interact with the methods; the data is hidden in the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(creating) an objec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ing an object's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91320" y="4724280"/>
            <a:ext cx="3238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Canvas" objects that represents windows/drawing surfa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create a wind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indow has nothing on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draw shapes and lin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it using another object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153280" y="380880"/>
            <a:ext cx="8463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Pen" objects that can draw lines and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 it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you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 shapes by calling metho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175600" y="304920"/>
            <a:ext cx="8161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 libraries, impor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ava class libra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lasses included with Java's JD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ed into groups nam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ck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a package, put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ort decla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you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ckag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in a packag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order to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you must place the above line at the very top of your program, befor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ea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ordinate syst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(x, y) position is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ix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"picture element"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0, 0) is at the window's top-left corn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increases rightward and the y increas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ownwa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ctangle from (0, 0) to (200, 100) looks like thi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0, 0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200, 10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86080" y="4419720"/>
            <a:ext cx="1371600" cy="914400"/>
            <a:chOff x="1486080" y="4419720"/>
            <a:chExt cx="1371600" cy="914400"/>
          </a:xfrm>
        </p:grpSpPr>
        <p:sp>
          <p:nvSpPr>
            <p:cNvPr id="127" name=""/>
            <p:cNvSpPr/>
            <p:nvPr/>
          </p:nvSpPr>
          <p:spPr>
            <a:xfrm>
              <a:off x="15624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24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860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7240" y="1511280"/>
          <a:ext cx="9029520" cy="427968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one using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en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ue (RGB) values from 0-25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 use a predefin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 constant  (more comm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ne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839880" cy="8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11T10:04:42Z</dcterms:modified>
  <cp:revision>1247</cp:revision>
  <dc:subject/>
  <dc:title>Building Java Programs</dc:title>
</cp:coreProperties>
</file>