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51D5-BB8B-4190-87C8-F32D3EB33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75E4-B153-4782-BC36-1EBE436F3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ases produce infinite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3121-9E74-45CB-9012-754EC92D5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7517-9564-43FF-8B80-1EBDB5CD0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31AF-AF6B-41D7-8C57-4DBFE475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40B7-65BB-43F3-BFF8-78E114D38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8973-FFF4-4658-88CA-8A3598196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B7B-B02A-4AA6-B51C-8CD868B89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E695-F9DB-491C-AF94-016599DA9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3535-A51F-48D8-B0A1-6B53C6AFF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78DB-14B7-434A-BA82-32055CE593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55C3-FC65-4F17-8FB4-E5B53D6A89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ED3B-1AC1-4A46-B516-5ED084C63A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32A3-68A6-46D2-B36A-E2937FCA9C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600E-0828-4BFF-9628-FB889BA709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72B9-75B9-40C4-83F5-270EC546E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269F-97CD-47C9-ACFD-3E13C9AD7A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AD1C-3DC6-435B-8F37-1994FA8C3B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CE1B-EB5C-4944-BFB8-1C43A6DA89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491C-9143-4B9A-A876-D34A13F1EF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E05B-D2B6-435E-94FE-1209ED60D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0D10-83A5-489C-AA6D-16C71BFA1CC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6261-0BA3-43C5-9858-C65D5E76944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: 22-26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10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200480" y="3003480"/>
            <a:ext cx="6094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552920" y="2089080"/>
            <a:ext cx="2209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-1 * line +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 = 1; k &lt;= line; k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previous code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(line - 1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657600" y="2209680"/>
            <a:ext cx="849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762440" y="4343400"/>
            <a:ext cx="4269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th of the following sets of code produc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finite loop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 &lt;= 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5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3: Loop Figures and Consta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4 - 2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s: 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16-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complex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to produce the following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 draw ASCII ar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graphics require a lot of fine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CII art has complex patt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focus on the algorith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2748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mmendations for managing complexit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Write an English description of steps required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seudo-c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pseudo-code to decide meth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Create a table of patterns of charac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table to write loops in each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02748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1. Pseudo-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seudo-co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glish description of an algorith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Drawing a 12 wide by 7 tall box of sta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12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r (each of 5 line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a st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10 spa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a st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12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715000" y="3505320"/>
            <a:ext cx="2133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seudo-code algorith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, 16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2. Top ha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paces (decreas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&lt;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dots (increas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&lt;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paces (same as abo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Bottom half (top half upside-dow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, 16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02136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ethods from pseudo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irr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Half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ttomHalf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line = 1; line &lt;= 4; lin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ntents of each 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bottom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line = 1; line &lt;= 4; lin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ntents of each 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cy between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2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3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4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638680" y="1600200"/>
            <a:ext cx="35053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2.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table for the top hal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 spaces and dots expressions from line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280" y="2590920"/>
          <a:ext cx="6019920" cy="2514600"/>
        </p:xfrm>
        <a:graphic>
          <a:graphicData uri="http://schemas.openxmlformats.org/drawingml/2006/table">
            <a:tbl>
              <a:tblPr/>
              <a:tblGrid>
                <a:gridCol w="728640"/>
                <a:gridCol w="1179720"/>
                <a:gridCol w="1596960"/>
                <a:gridCol w="838080"/>
                <a:gridCol w="16765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2280" y="2590920"/>
          <a:ext cx="6019920" cy="2514600"/>
        </p:xfrm>
        <a:graphic>
          <a:graphicData uri="http://schemas.openxmlformats.org/drawingml/2006/table">
            <a:tbl>
              <a:tblPr/>
              <a:tblGrid>
                <a:gridCol w="728640"/>
                <a:gridCol w="1179720"/>
                <a:gridCol w="1596960"/>
                <a:gridCol w="838080"/>
                <a:gridCol w="16765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line * -2 +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4 * 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4"/>
          <p:cNvSpPr/>
          <p:nvPr/>
        </p:nvSpPr>
        <p:spPr>
          <a:xfrm>
            <a:off x="610380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3. Writing the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questions about the top hal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methods? (think structure and redundan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of (nested) loops per li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02136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4827600" y="4627440"/>
            <a:ext cx="1825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387680" y="3494160"/>
            <a:ext cx="16369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863960" y="2370240"/>
            <a:ext cx="17719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tial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the expanding pattern of &lt;&gt; for the top half of the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line = 1; line &lt;= 4; lin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line * -2 + 8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&lt;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dot = 1; dot &lt;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line * 4 - 4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dot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&lt;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line * -2 + 8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ass constants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nd scop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: 2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ling the mirr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modify our Mirror program so that it can sc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urrent mirror (left) is at size 4; the right is at size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structure the code so we can scale the figure by changing the code in just one pla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46000" y="321624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802480" y="3200400"/>
            <a:ext cx="257940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mitations of 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a: Make a variable to represent the siz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variable's value in the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A variable in one method can't be seen in oth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300"/>
              </a:spcBef>
              <a:spcAft>
                <a:spcPts val="99"/>
              </a:spcAft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ize = 4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Half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++) {   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ERROR: size not f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bottom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 &gt;= 1; i--) {    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ERROR: size not f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art of a program where a variable exi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its declaration to the end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op exists only in that loo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method exists only in that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 no longer exists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ceases to exist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095880" y="3886200"/>
            <a:ext cx="838440" cy="1447920"/>
          </a:xfrm>
          <a:custGeom>
            <a:avLst/>
            <a:gdLst>
              <a:gd name="textAreaLeft" fmla="*/ 0 w 838440"/>
              <a:gd name="textAreaRight" fmla="*/ 302760 w 8384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's sc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utoShape 5" descr=""/>
          <p:cNvPicPr/>
          <p:nvPr/>
        </p:nvPicPr>
        <p:blipFill>
          <a:blip r:embed="rId1"/>
          <a:stretch/>
        </p:blipFill>
        <p:spPr>
          <a:xfrm>
            <a:off x="73080" y="3565440"/>
            <a:ext cx="1066680" cy="15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ope implic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riables without overlapping scope can have same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1; i &lt;= 1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/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int i =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100; i++) {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\\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int i = 5;                  // OK: outside of loop's sc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't be declared twice or used out of its sco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100 * line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int i = 2;              // ERROR: overlapping sc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/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i = 4;                      // ERROR: outside sc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 consta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646280"/>
            <a:ext cx="9067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 const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visible to the whol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 only be set at decl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't be changed while the program is ru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is usually in ALL_UPPER_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DAYS_IN_WEEK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double INTEREST_RATE = 3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SSN = 65823456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ants and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drawing the following scalable fig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/\/\/\/\/\/\/\/\/\/\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ples of 5 occur many ti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/\/\/\/\/\/\/\/\/\/\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/\/\/\/\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ame figure at size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/\/\/\/\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(i * j)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s in the outer loop's body are executed 4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loop prints 5 numbers each time it is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petitive figure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ig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Body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drawLine(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+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/\\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+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drawBody(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line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|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spaces = 1; spaces &lt;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spaces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|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dding a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ig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public static final int HEIGHT = 5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Body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drawLine(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+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HEIGHT * 2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/\\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+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drawBody(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HEIGH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line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|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spaces = 1; spaces &lt;=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HEIGHT * 4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spaces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|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lex figure w/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Mirror code to be resizable using a consta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irror of size 4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888080" y="2211480"/>
            <a:ext cx="2808000" cy="30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mirror of size 3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2781360" y="4410000"/>
            <a:ext cx="533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743280" y="3305160"/>
            <a:ext cx="533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1805040"/>
            <a:ext cx="40705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a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ant allows many methods to refer to same valu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final int SIZE = 4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Half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++) {    </a:t>
            </a:r>
            <a:r>
              <a:rPr b="1" lang="en-US" sz="1600" spc="-1" strike="noStrike">
                <a:solidFill>
                  <a:srgbClr val="2da2bf"/>
                </a:solidFill>
                <a:latin typeface="Courier New"/>
              </a:rPr>
              <a:t>// 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bottom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 &gt;= 1; i--) {    </a:t>
            </a:r>
            <a:r>
              <a:rPr b="1" lang="en-US" sz="1600" spc="-1" strike="noStrike">
                <a:solidFill>
                  <a:srgbClr val="2da2bf"/>
                </a:solidFill>
                <a:latin typeface="Courier New"/>
              </a:rPr>
              <a:t>// 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 and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modify our loop table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an chang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  &lt;&gt;&lt;&gt;      |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&lt;&gt;....&lt;&gt;    |      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&lt;&gt;........&lt;&gt;  |      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&lt;&gt;............&lt;&gt;|      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&lt;&gt;............&lt;&gt;|      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&lt;&gt;........&lt;&gt;  |      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&lt;&gt;....&lt;&gt;    |      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  &lt;&gt;&lt;&gt;      |      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2286000"/>
          <a:ext cx="8029440" cy="1149480"/>
        </p:xfrm>
        <a:graphic>
          <a:graphicData uri="http://schemas.openxmlformats.org/drawingml/2006/table">
            <a:tbl>
              <a:tblPr/>
              <a:tblGrid>
                <a:gridCol w="738000"/>
                <a:gridCol w="1015920"/>
                <a:gridCol w="1179720"/>
                <a:gridCol w="2384280"/>
                <a:gridCol w="1162080"/>
                <a:gridCol w="1549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-2*line + 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(2*SIZ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4*line -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*line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*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*line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*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33520" y="2286000"/>
          <a:ext cx="8029440" cy="1149480"/>
        </p:xfrm>
        <a:graphic>
          <a:graphicData uri="http://schemas.openxmlformats.org/drawingml/2006/table">
            <a:tbl>
              <a:tblPr/>
              <a:tblGrid>
                <a:gridCol w="738000"/>
                <a:gridCol w="1015920"/>
                <a:gridCol w="1179720"/>
                <a:gridCol w="2384280"/>
                <a:gridCol w="116208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33520" y="2286000"/>
          <a:ext cx="8029440" cy="1149480"/>
        </p:xfrm>
        <a:graphic>
          <a:graphicData uri="http://schemas.openxmlformats.org/drawingml/2006/table">
            <a:tbl>
              <a:tblPr/>
              <a:tblGrid>
                <a:gridCol w="738000"/>
                <a:gridCol w="1015920"/>
                <a:gridCol w="1179720"/>
                <a:gridCol w="2384280"/>
                <a:gridCol w="116208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*line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*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*line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*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301680" y="1387440"/>
            <a:ext cx="3535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443640" y="4905360"/>
            <a:ext cx="949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477120" y="2690640"/>
            <a:ext cx="9064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106880" y="2135160"/>
            <a:ext cx="490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tial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final int SIZE = 4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the expanding pattern of &lt;&gt; for the top half of the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lin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(line * -2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2*SIZ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&lt;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dot = 1; dot &lt;= (line * 4 -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dot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&lt;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(line * -2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2*SIZ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servations about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tant can change the "intercept" in an expres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the "slope" is unchang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final int SIZE = 4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(line *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2 * SIZ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doesn't replac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ver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currence of the original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dot = 1; dot &lt;= (line *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dot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i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666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lex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produce the following output?</a:t>
            </a:r>
            <a:br>
              <a:rPr sz="22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build multiple complex lines of output us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er "vertical"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each of th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ner "horizontal" loop(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the patterns within each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714240" y="2390760"/>
            <a:ext cx="1523880" cy="1828440"/>
            <a:chOff x="714240" y="2390760"/>
            <a:chExt cx="1523880" cy="1828440"/>
          </a:xfrm>
        </p:grpSpPr>
        <p:sp>
          <p:nvSpPr>
            <p:cNvPr id="129" name="AutoShape 5"/>
            <p:cNvSpPr/>
            <p:nvPr/>
          </p:nvSpPr>
          <p:spPr>
            <a:xfrm>
              <a:off x="1704600" y="3061080"/>
              <a:ext cx="533520" cy="11581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29880 h 1158120"/>
                <a:gd name="textAreaBottom" fmla="*/ 112824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      </a:t>
              </a: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outer loop (loops 5 times because there are 5 line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 rot="16200000">
              <a:off x="882000" y="2223000"/>
              <a:ext cx="426240" cy="761760"/>
            </a:xfrm>
            <a:custGeom>
              <a:avLst/>
              <a:gdLst>
                <a:gd name="textAreaLeft" fmla="*/ 0 w 426240"/>
                <a:gd name="textAreaRight" fmla="*/ 153720 w 4262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inner loop (repeated characters on each line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er and inner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write the outer loop, from 1 to the number of li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look at the line contents.  Each line has a patte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dots (0 dots on the last li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a table to represent any patterns on each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print a character multiple times,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4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4 d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62320" y="1920960"/>
          <a:ext cx="1973160" cy="2197080"/>
        </p:xfrm>
        <a:graphic>
          <a:graphicData uri="http://schemas.openxmlformats.org/drawingml/2006/table">
            <a:tbl>
              <a:tblPr/>
              <a:tblGrid>
                <a:gridCol w="730080"/>
                <a:gridCol w="124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of 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43400" y="192420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-1 *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375240" y="1924200"/>
          <a:ext cx="2019600" cy="2193840"/>
        </p:xfrm>
        <a:graphic>
          <a:graphicData uri="http://schemas.openxmlformats.org/drawingml/2006/table">
            <a:tbl>
              <a:tblPr/>
              <a:tblGrid>
                <a:gridCol w="201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-1 * line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343400" y="192420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362640" y="192420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2-01-12T03:49:52Z</dcterms:modified>
  <cp:revision>1250</cp:revision>
  <dc:subject/>
  <dc:title>Building Java Programs</dc:title>
</cp:coreProperties>
</file>