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7E3-9703-4C05-B36D-F3C8C2AE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B2E-FCFC-4A47-B00E-00D92626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321-E3F1-4085-A628-FAAFC6C0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CD5E-3780-498B-B14A-6F12DA7CA7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AFB0-E707-438A-8346-EC9B953CDF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64F3-F693-4132-AE04-1F8EA0DDBC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4960-3623-4CD5-8BE8-777F6E8BF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A1D2-62F5-44E0-9EC9-1597FD985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9D90-3132-4033-B154-37BA3BF2B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9921-4007-4754-90C3-EBB23BE60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9719-91F6-4EB4-9DCD-A207690140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3C59-4757-4B65-BFD8-348E2985F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042-CE70-43BA-A7FA-55097747F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7163-AC47-4447-BD4A-F2D8E577D4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7F15-76E9-49D6-85AF-317BDE68E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C709-8C7B-48E5-B08F-3A8628596B1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A10-9622-4B26-AB37-1A45C55609B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2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1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2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l repet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oop's body doesn't have to use the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peat 5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495440" y="1989000"/>
            <a:ext cx="464832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-line loop bod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\\    /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/    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260960" y="1725480"/>
            <a:ext cx="1888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87560" y="1724040"/>
            <a:ext cx="373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 for coun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ighTemp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* 1.8 + 3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8.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0.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2.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3.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903920" y="2811600"/>
            <a:ext cx="314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16360" y="2811600"/>
            <a:ext cx="379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unting dow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make the loop count d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s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-minus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0;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; 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,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lastoff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-minus 10, 9, 8, 7, 6, 5, 4, 3, 2, 1, blastof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pping loops to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7 10 13 1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 * count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ch like a slope-intercept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inted number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ne passes through poi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1, 2), (2, 7), (3, 12), (4, 17), (5, 2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equation of the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3648240"/>
            <a:ext cx="2570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patterns, make a tabl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count goes up by 1, the number should go up by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 *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o great by 3, so we subtract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3886200"/>
          <a:ext cx="4280040" cy="236196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  <a:gridCol w="141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54640" y="3889440"/>
          <a:ext cx="1958760" cy="2358720"/>
        </p:xfrm>
        <a:graphic>
          <a:graphicData uri="http://schemas.openxmlformats.org/drawingml/2006/table">
            <a:tbl>
              <a:tblPr/>
              <a:tblGrid>
                <a:gridCol w="195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5 * count -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7 13 9 5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create the loop tabl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es up 1, the number printed shoul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multiple is off by a margin of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95480" y="3886200"/>
          <a:ext cx="2867040" cy="236232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4 * count +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cy between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2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3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4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638680" y="1600200"/>
            <a:ext cx="35053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i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66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97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      </a:t>
              </a: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outer loop (loops 5 times because there are 5 lin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inner loop (repeated characters on each line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1920960"/>
          <a:ext cx="1973160" cy="2193840"/>
        </p:xfrm>
        <a:graphic>
          <a:graphicData uri="http://schemas.openxmlformats.org/drawingml/2006/table">
            <a:tbl>
              <a:tblPr/>
              <a:tblGrid>
                <a:gridCol w="730440"/>
                <a:gridCol w="124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34340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375240" y="1924200"/>
          <a:ext cx="2019600" cy="219060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34340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36264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657600" y="2209680"/>
            <a:ext cx="849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762440" y="4343400"/>
            <a:ext cx="42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5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over a ran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1 squared = " + 1 * 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2 squared = " + 2 *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3 squared = " + 3 *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4 squared = " + 4 *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5 squared = " + 5 * 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6 squared = " + 6 *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Intuition: "I want to print a line for each number from 1 to 6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6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3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ere's a statement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 loop, that does just tha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For each integ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1 through 6, print ..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2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716120" y="1379520"/>
            <a:ext cx="1376280" cy="2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atio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what variable to use in the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op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use any variable nam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start at any valu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386160" y="1379520"/>
            <a:ext cx="934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lt;= 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the loop counter variable against a bou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comparison operat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616280" y="1379520"/>
            <a:ext cx="4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pd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loop counter's value after each repet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an update, you would have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finite loop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any expre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9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orloop"/>
          <p:cNvPicPr/>
          <p:nvPr/>
        </p:nvPicPr>
        <p:blipFill>
          <a:blip r:embed="rId2"/>
          <a:stretch/>
        </p:blipFill>
        <p:spPr>
          <a:xfrm>
            <a:off x="3962520" y="2544840"/>
            <a:ext cx="4724280" cy="377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walkthr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o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squared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squared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squared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squared =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o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2190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762440" y="2743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48624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65760" y="339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476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873840" y="484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1006560" y="1623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67816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38088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5334120" y="5429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2:00:07Z</dcterms:modified>
  <cp:revision>1248</cp:revision>
  <dc:subject/>
  <dc:title>Building Java Programs</dc:title>
</cp:coreProperties>
</file>