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43C7-5D82-41E6-B75D-C685F84AD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5F71-F958-47C9-A1D8-47185457D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students what 15 / 4 and 2 / 3 are, since the answers are non-obvi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A160-15D4-4E38-B5A9-0962B8F83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4E11-6F86-450A-AC41-A44D1A77F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it's odd for 42.0 to be considered a real number, but it is.  Also point out that the 2.143e17 is scientific notation and means (2.143 * 10^1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C558-5B7D-4EC8-B5AB-7514AC2C4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59C4-EAFB-45F5-ACC6-6907BDCF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9F6A-62F7-4750-9028-12045C03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B45D-D160-449E-96AD-D531057B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x + 2;     increases the value stored in variable x by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693B-D424-489D-B601-59F9C2DD3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're basically going to manipulate letters and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integer / real number distinction in English as well.  We don't ask, "How many do you weigh?" or, "How much sisters do you have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nt/double split is related to how a computer processor crunches numbers.  A CPU does integer computations and a Floating Point Unit (FPU) does real number comp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Java separate int and double?  Why not use one combined type called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5E63-805B-4C2B-9560-6874C489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EA9D-17B4-4E4A-97D5-4DBD38FB82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0C87-02A0-4C7A-9A18-74473A30DC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928A-1D4E-4249-BC1B-76DE841F0F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DD04-75AC-4F48-941C-708D87D164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4654-0355-4A9C-986F-7D5C105D7D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0BFF-03EC-4010-A167-E2B1C5D14C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762F-4E71-4E0F-987F-45BF0D70C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CE93-30AA-41B7-B059-EEB242587C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16EF-5A6A-462C-9526-05CD10BA06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78A7-7F52-4CD5-A8BB-4DF9B73ECA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E178-D56B-4CE3-B663-7BC3572F19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F87D-184A-4E79-93C6-75E7095B5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3CB-CBF5-4380-BFFB-42662E16277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A305-978F-4E98-9AFF-AA93C4F9983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1: Expressions and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1 -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* 2 + 3 * 5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+ 3 * 5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00600" y="1752480"/>
            <a:ext cx="4343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8 % 3 * 2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* 2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values result from the following express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95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+ 6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* 6 +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48 % 100 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* 3 - 9 /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5 - 7) *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(18 % (17 - 12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l numbers (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ub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.02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42.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.143e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ter an integer makes i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perator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-*/%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all still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duces an exact answer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.0 / 2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edence is the sam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l numb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0 * 2.4 + 2.25 * 4.0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+ 2.25 * 4.0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re mixed, the result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.2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version is per-operator, affecting only its opera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 / 3 * 1.2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* 1.2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2.4     +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3.4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44b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/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bove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724280" y="2666880"/>
            <a:ext cx="434340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0 + 10 / 3 * 2.5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0 +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* 2.5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0 +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7.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0 +      7.5     -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.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- 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8.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968640" y="5205240"/>
            <a:ext cx="176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 concaten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 concate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a string and another value to make a longer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n expression's valu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Verdana"/>
              </a:rPr>
              <a:t>Variables</a:t>
            </a:r>
            <a:endParaRPr b="0" lang="en-US" sz="5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1-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2 #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What's bad about the following code?</a:t>
            </a:r>
            <a:br>
              <a:rPr sz="24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public static void main(String[] args) {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// Calculate total owed, assuming 8% tax / 15% tip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Sub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);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ax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08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ip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08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ubtotal express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is rep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man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iece of the computer's memory that is given a name and type, and can store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preset stations on a car stereo, or cell phone speed di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s for using a variab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tate its name and ty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itializ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tore a value into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print it or use it as part of an expre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31640" y="2895480"/>
            <a:ext cx="5969160" cy="1460520"/>
            <a:chOff x="431640" y="2895480"/>
            <a:chExt cx="5969160" cy="1460520"/>
          </a:xfrm>
        </p:grpSpPr>
        <p:pic>
          <p:nvPicPr>
            <p:cNvPr id="156" name="Picture 5" descr="car_stereo"/>
            <p:cNvPicPr/>
            <p:nvPr/>
          </p:nvPicPr>
          <p:blipFill>
            <a:blip r:embed="rId2"/>
            <a:srcRect l="0" t="33199" r="0" b="35405"/>
            <a:stretch/>
          </p:blipFill>
          <p:spPr>
            <a:xfrm>
              <a:off x="431640" y="2895480"/>
              <a:ext cx="596916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Oval 6"/>
            <p:cNvSpPr/>
            <p:nvPr/>
          </p:nvSpPr>
          <p:spPr>
            <a:xfrm>
              <a:off x="2150640" y="3844080"/>
              <a:ext cx="2793240" cy="4464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3"/>
          <a:srcRect l="0" t="0" r="3169" b="0"/>
          <a:stretch/>
        </p:blipFill>
        <p:spPr>
          <a:xfrm>
            <a:off x="7010280" y="2984400"/>
            <a:ext cx="1505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 declar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s aside memory for storing a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must be declar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fore they can be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ame is a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myGP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562720" y="4038480"/>
          <a:ext cx="19810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62720" y="4952880"/>
          <a:ext cx="304776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Data and expression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2 #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905040" y="5021280"/>
            <a:ext cx="29541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87400" y="3989520"/>
            <a:ext cx="990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sign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Stores a value into a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can be an expression; the variable stores its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GPA = 1.0 + 2.2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562720" y="365760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562720" y="4749840"/>
          <a:ext cx="304776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932040" y="5478480"/>
            <a:ext cx="15634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17920" y="3122640"/>
            <a:ext cx="22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324400" y="2654280"/>
            <a:ext cx="228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ce given a value, a variable can be used in expression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 * 3 -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assign a value more than o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 + " here"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 he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4 + 7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w x is " + x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w x is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705720" y="406404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705720" y="406404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ation/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be declared/initialized in on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562720" y="304812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562720" y="4038480"/>
          <a:ext cx="304776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662040" y="4114800"/>
            <a:ext cx="15969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and algebra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us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but it is not an algebraic equ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, "store the value at right in variable at lef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om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 or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hould now sto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happens he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2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791320" y="3987720"/>
          <a:ext cx="19810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987720"/>
          <a:ext cx="19810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and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only store a value of its own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2.5;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ibl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 can be stored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is converted into the equivalent real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myGPA = 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do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o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791320" y="3733920"/>
          <a:ext cx="304776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791320" y="4749840"/>
          <a:ext cx="304776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v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iler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't be used until it is assigned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x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has no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ay not declare the same variable twi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 x;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x already ex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5;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already ex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can this code be fix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3848040" y="2309760"/>
            <a:ext cx="383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nting a variable's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 variable's value on one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rade = (95.1 + 71.9 + 82.6) / 3.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Your grade was " + gra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tudents = 11 + 17 + 4 + 19 + 1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ere are " + students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students in the course.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rade was 8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 are 65 students in the cour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Improve the receipt program using variab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0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1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15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0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total = 38 + 40 + 3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subtot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i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ot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ata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ategory or set of data 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ains the operations that can be performed on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languages ask the programmer to specify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integer, real number,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nally, computers store everything as 1s and 0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11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primitive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itive typ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8 simple types for numbers, tex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lso h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 typ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ich we'll talk about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numb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single text character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logical value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4b9e8"/>
              </a:buClr>
              <a:buSzPct val="85000"/>
              <a:buFont typeface="Verdana"/>
              <a:buChar char="•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does Java distinguish integers vs. real numb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or operation that computes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mplest expression is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teral va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x expression can use operators and parenthe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ithmetic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mbines multiple values or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traction (or neg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ulus (a.k.a. remain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a program runs, its expressions ar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valua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aluat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3 * 4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prin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would we print the tex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divis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we divide integers, the quotient is also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example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ng by 0 causes an error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remainder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computes the remainder from integer divi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7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erat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digit of a number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4 digit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whether a number is odd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862280" y="3922560"/>
            <a:ext cx="1106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00120" y="3649680"/>
            <a:ext cx="936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490760" y="3152880"/>
            <a:ext cx="9903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eced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rder in which operators are evalu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ly operators evaluate left-to-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which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ve a higher level of precedence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</a:t>
            </a:r>
            <a:br>
              <a:rPr sz="2000"/>
            </a:br>
            <a:br>
              <a:rPr sz="8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heses can force a certain order of evalu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ing does not affect order of evalu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09T21:47:59Z</dcterms:modified>
  <cp:revision>1247</cp:revision>
  <dc:subject/>
  <dc:title>Building Java Programs</dc:title>
</cp:coreProperties>
</file>