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6FF4-79A7-4042-A237-38F7DEA2D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184EC-45DA-47AB-BEEB-DC79DBABEC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1AE35-0E54-4108-AA7B-EE6AC00CE8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C0A9E-773B-4B73-AD13-97FB827AA9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F6C41-5373-4262-9124-0C708AA5D4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57949-2EA7-4EDD-B0D7-56135B5B0D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C2882-9CD1-4363-9260-2C8AF6C88E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6B6AE-DE6F-425B-8C0A-2D28FD01C9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B484D-0235-4DF1-9A68-76E6FB6DCD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C4FD4-B929-47AE-8E4F-B7BF585F7A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56CF8-43BD-444B-A504-FB488BA0B5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98E82-3E19-4399-95FD-80E5B41E46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2E6D7-C3A7-4682-AD5B-DDC73A5816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072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0080" y="142560"/>
                  <a:ext cx="914976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37240"/>
                <a:chOff x="0" y="142560"/>
                <a:chExt cx="9159840" cy="2372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120" y="142560"/>
                  <a:ext cx="9153720" cy="23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5B2B-4BBA-49FA-A1B2-1916F3D655EF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FBF1-8657-404E-89A4-78DAEC8A4125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60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Freeform 7"/>
            <p:cNvSpPr/>
            <p:nvPr/>
          </p:nvSpPr>
          <p:spPr>
            <a:xfrm>
              <a:off x="4267080" y="0"/>
              <a:ext cx="4876920" cy="27072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2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3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4" name="Freeform 1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80" y="142560"/>
                  <a:ext cx="914976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6" name="Freeform 12"/>
              <p:cNvGrpSpPr/>
              <p:nvPr/>
            </p:nvGrpSpPr>
            <p:grpSpPr>
              <a:xfrm>
                <a:off x="0" y="142560"/>
                <a:ext cx="9159840" cy="237240"/>
                <a:chOff x="0" y="142560"/>
                <a:chExt cx="9159840" cy="237240"/>
              </a:xfrm>
            </p:grpSpPr>
            <p:pic>
              <p:nvPicPr>
                <p:cNvPr id="67" name="Freeform 1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120" y="142560"/>
                  <a:ext cx="9153720" cy="23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3938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68160" algn="ctr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977760" algn="ctr">
              <a:spcBef>
                <a:spcPts val="425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4" marL="1252440" algn="ctr">
              <a:spcBef>
                <a:spcPts val="425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5" marL="1252440">
              <a:spcBef>
                <a:spcPts val="425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6" marL="1252440">
              <a:spcBef>
                <a:spcPts val="425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1-2: Static Method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1.4 - 1.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A program with redundancy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Static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static method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: A named group of statemen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notes the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structure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of a progr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liminates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redundancy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by code reu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rocedural decompositio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viding a problem into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Writing a static method is like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adding a new command to Jav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943600" y="1928880"/>
            <a:ext cx="3048120" cy="4572000"/>
            <a:chOff x="5943600" y="1928880"/>
            <a:chExt cx="3048120" cy="4572000"/>
          </a:xfrm>
        </p:grpSpPr>
        <p:sp>
          <p:nvSpPr>
            <p:cNvPr id="137" name=""/>
            <p:cNvSpPr/>
            <p:nvPr/>
          </p:nvSpPr>
          <p:spPr>
            <a:xfrm>
              <a:off x="5943600" y="1928880"/>
              <a:ext cx="3048120" cy="4572000"/>
            </a:xfrm>
            <a:prstGeom prst="rect">
              <a:avLst/>
            </a:prstGeom>
            <a:solidFill>
              <a:srgbClr val="f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2600" indent="-28260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las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95880" y="2330280"/>
              <a:ext cx="2743200" cy="14238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method A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095880" y="3833640"/>
              <a:ext cx="2743200" cy="108216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method B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95880" y="4997520"/>
              <a:ext cx="2743200" cy="14238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method C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Verdana"/>
              </a:rPr>
              <a:t>Using static methods</a:t>
            </a:r>
            <a:endParaRPr b="0" lang="en-US" sz="40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1. Design the algorith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ok at the structure, and which commands are repeat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cide what are the important overall task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Declare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(write down) the method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rrange statements into groups and give each group a nam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Call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(run) the method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program's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method executes the other methods to perform the overall tas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Design of an algorith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program displays a delicious recipe for baking cooki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2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1: Make the cake batter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a: Bake cookies (first batch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b: Bake cookies (second batch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3: Decorate the cooki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28600" y="1371240"/>
            <a:ext cx="8918640" cy="47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Gives your method a name so it can be execut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2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6240" indent="-336240">
              <a:lnSpc>
                <a:spcPct val="9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br>
              <a:rPr sz="2200"/>
            </a:br>
            <a:br>
              <a:rPr sz="700"/>
            </a:br>
            <a:br>
              <a:rPr sz="8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.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6240" indent="-336240">
              <a:spcBef>
                <a:spcPts val="1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br>
              <a:rPr sz="2200"/>
            </a:br>
            <a:br>
              <a:rPr sz="7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static void printWarning() {</a:t>
            </a:r>
            <a:br>
              <a:rPr sz="2000"/>
            </a:br>
            <a:r>
              <a:rPr b="0" lang="en-GB" sz="1900" spc="-1" strike="noStrike">
                <a:solidFill>
                  <a:srgbClr val="000000"/>
                </a:solidFill>
                <a:latin typeface="Courier New"/>
              </a:rPr>
              <a:t>    System.out.println("This product causes cancer");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Courier New"/>
              </a:rPr>
              <a:t>    System.out.println("in lab rats and humans.");</a:t>
            </a:r>
            <a:br>
              <a:rPr sz="19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Declaring a metho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Calling a metho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Executes the method's cod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You can call the same method many times if you lik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rintWarning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4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is product causes canc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n lab rats and huma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ogram with static metho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FreshPrince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ap();         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Calling (running) the rap metho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ap();         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Calling the rap method aga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method prints the lyrics to my favorite song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rap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Now this is the story all about how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y life got flipped turned upside-down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w this is the story all about ho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life got flipped turned upside-d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w this is the story all about ho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life got flipped turned upside-d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Final cookie progra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program displays a delicious recipe for baking cooki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3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makeBatter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ake();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1st bat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ake();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2nd bat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ecorat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1: Make the cake batter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makeBatter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: Bake a batch of cooki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bake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3: Decorate the cooki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decorate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Methods calling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class MethodsExampl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ssage2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one with main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essage1(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is message1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essage2(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is message2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one with message2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6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2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ne with message2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ne with mai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When a method is called, the program's execution..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"jumps" into that method, executing its statements, th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"jumps" back to the point where the method was call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public class MethodsExample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ssage2(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Done with main.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743200" y="3244680"/>
            <a:ext cx="6324480" cy="719280"/>
            <a:chOff x="2743200" y="3244680"/>
            <a:chExt cx="6324480" cy="719280"/>
          </a:xfrm>
        </p:grpSpPr>
        <p:sp>
          <p:nvSpPr>
            <p:cNvPr id="157" name=""/>
            <p:cNvSpPr/>
            <p:nvPr/>
          </p:nvSpPr>
          <p:spPr>
            <a:xfrm>
              <a:off x="3978000" y="3244680"/>
              <a:ext cx="5089680" cy="71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public static void message1() {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System.out.println("This is message1.");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43200" y="3512880"/>
              <a:ext cx="1752480" cy="363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2743200" y="3664800"/>
              <a:ext cx="1295280" cy="1126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514240" y="4160880"/>
            <a:ext cx="6553440" cy="1401840"/>
            <a:chOff x="2514240" y="4160880"/>
            <a:chExt cx="6553440" cy="1401840"/>
          </a:xfrm>
        </p:grpSpPr>
        <p:sp>
          <p:nvSpPr>
            <p:cNvPr id="161" name=""/>
            <p:cNvSpPr/>
            <p:nvPr/>
          </p:nvSpPr>
          <p:spPr>
            <a:xfrm>
              <a:off x="3965400" y="4160880"/>
              <a:ext cx="5102280" cy="14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public static void message2() {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System.out.println("This is message2.");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</a:rPr>
                <a:t>message1();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System.out.println("Done with message2.");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90560" y="4237200"/>
              <a:ext cx="1828800" cy="2286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>
              <a:off x="2514240" y="4313160"/>
              <a:ext cx="1523880" cy="10670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962520" y="4827600"/>
            <a:ext cx="5105160" cy="1594080"/>
            <a:chOff x="3962520" y="4827600"/>
            <a:chExt cx="5105160" cy="1594080"/>
          </a:xfrm>
        </p:grpSpPr>
        <p:sp>
          <p:nvSpPr>
            <p:cNvPr id="165" name=""/>
            <p:cNvSpPr/>
            <p:nvPr/>
          </p:nvSpPr>
          <p:spPr>
            <a:xfrm>
              <a:off x="3962520" y="5702400"/>
              <a:ext cx="5105160" cy="71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public static void message1() {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System.out.println("This is message1.");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4489200" y="4827600"/>
              <a:ext cx="380880" cy="11430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108320" y="4827600"/>
              <a:ext cx="533160" cy="1447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Control flow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Comment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comment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: A note written in source code by the programmer to describe or clarify the cod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ments are not executed when your program ru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8080"/>
                </a:solidFill>
                <a:latin typeface="Courier New"/>
              </a:rPr>
              <a:t>//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mment text, on one line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r,</a:t>
            </a:r>
            <a:br>
              <a:rPr sz="2000"/>
            </a:br>
            <a:r>
              <a:rPr b="1" lang="en-GB" sz="2000" spc="-1" strike="noStrike">
                <a:solidFill>
                  <a:srgbClr val="008080"/>
                </a:solidFill>
                <a:latin typeface="Courier New"/>
              </a:rPr>
              <a:t>/*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mment text; may span multiple line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808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Courier New"/>
              </a:rPr>
              <a:t>// This is a one-line com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Courier New"/>
              </a:rPr>
              <a:t>/* This is a very lo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6666"/>
                </a:solidFill>
                <a:latin typeface="Courier New"/>
              </a:rPr>
              <a:t>multi-line comment. *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When to use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ce statements into a static method if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tatements are related structurally, and/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tatements are repeat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should not create static methods for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individua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tat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ly blank lines. (Put blank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related or weakly related statement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Consider splitting them into two smaller methods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Drawing complex figures with static method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1.5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Ch. 1 Case Study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Figur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rcises: #7-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deos: Ch. 1 #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atic methods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o print these figures using method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evelopment strategy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362320" y="1905120"/>
            <a:ext cx="647676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First version (unstructured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 an empty program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tho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py the expected output into it, surrounding each line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yntax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n it to verify the outp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ogram version 1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1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evelopment strategy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1905120"/>
            <a:ext cx="647676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econd version (structured, with redundancy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the structure of the outp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vid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thod into static methods based on this structu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638280" y="1860480"/>
            <a:ext cx="1218960" cy="4267080"/>
            <a:chOff x="638280" y="1860480"/>
            <a:chExt cx="1218960" cy="4267080"/>
          </a:xfrm>
        </p:grpSpPr>
        <p:sp>
          <p:nvSpPr>
            <p:cNvPr id="184" name=""/>
            <p:cNvSpPr/>
            <p:nvPr/>
          </p:nvSpPr>
          <p:spPr>
            <a:xfrm>
              <a:off x="638280" y="5441760"/>
              <a:ext cx="1218960" cy="685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8280" y="3993840"/>
              <a:ext cx="1218960" cy="1143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8280" y="2927160"/>
              <a:ext cx="1218960" cy="685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8280" y="1860480"/>
              <a:ext cx="1218960" cy="914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utput structur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905120"/>
            <a:ext cx="6476760" cy="40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tructure of the 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itial "egg" 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"teacup" 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"stop sign" 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"hat" 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structure can be represented by method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g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aCu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opSig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ogram version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2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aCup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opSig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a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teaCup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ogram version 2, cont'd.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stopSign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hat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evelopment strategy 3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1905120"/>
            <a:ext cx="647676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Third version (structured, without redundancy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redundancy in the output, and create methods to eliminate as much as possib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 comments to the progra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Using comment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Where to place comment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t the top of each file (a "comment header"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t the start of every method (seen lat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o explain complex pieces of co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omments are useful for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nderstanding larger, more complex program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ultiple programmers working together, who must understand each other's co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717480" y="1727280"/>
            <a:ext cx="1066680" cy="4409640"/>
            <a:chOff x="717480" y="1727280"/>
            <a:chExt cx="1066680" cy="4409640"/>
          </a:xfrm>
        </p:grpSpPr>
        <p:sp>
          <p:nvSpPr>
            <p:cNvPr id="199" name=""/>
            <p:cNvSpPr/>
            <p:nvPr/>
          </p:nvSpPr>
          <p:spPr>
            <a:xfrm>
              <a:off x="717480" y="5984640"/>
              <a:ext cx="1066680" cy="152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17480" y="3441600"/>
              <a:ext cx="1066680" cy="151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7480" y="4698720"/>
              <a:ext cx="1066680" cy="4568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7480" y="2984400"/>
              <a:ext cx="1066680" cy="4568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7480" y="2336760"/>
              <a:ext cx="1066680" cy="4568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7480" y="3860640"/>
              <a:ext cx="1066680" cy="6091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7480" y="5384520"/>
              <a:ext cx="1066680" cy="5904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7480" y="1727280"/>
              <a:ext cx="1066680" cy="6094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utput redundancy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2362320" y="2286000"/>
            <a:ext cx="6400800" cy="35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edundancy in the 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gg top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used on stop sign, h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gg bottom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used on teacup, stop sig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vider lin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d on teacup, h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redundancy can be fixed by method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ggTo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ggBott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ogram version 3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uzy Student, CSE 138, Spring 209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ints several figures, with methods for structure and redundancy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3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eaCup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opSig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a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the top half of an an egg figur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Top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the bottom half of an egg figur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Bottom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complete egg figur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egg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ogram version 3, cont'd.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teacup figur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teaCup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n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stop sign figur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stopSign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figure that looks sort of like a hat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hat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n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line of dash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line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Comments examp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* Suzy Student, CS 101, Fall 201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This program prints lyrics about ... something. *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class BaWitDaBa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/ first ver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Bawitdaba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a bang a dang diggy diggy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/ second ver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iggy said the boogy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said up jump the boogy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atic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1.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check: 16-2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rcises: #5-1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deos: Ch. 1 #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rcRect l="1923" t="2389" r="3037" b="1964"/>
          <a:stretch/>
        </p:blipFill>
        <p:spPr>
          <a:xfrm>
            <a:off x="6477120" y="2876400"/>
            <a:ext cx="2365200" cy="23814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Algorithm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algorithm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: A list of steps for solving a proble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xample algorithm: "Bake sugar cookies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Mix the dry ingredi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Cream the butter and sug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Beat in the egg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Stir in the dry ingredi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Set the oven temperatu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Set the tim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Place the cookies into the ov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Allow the cookies to bak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Spread frosting and sprinkles onto the cooki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oblems with algorithm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lack of structur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Many tiny steps; tough to rememb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redundanc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Consider making a double batch..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Mix the dry ingredien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Cream the butter and sug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Beat in the egg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Stir in the dry ingredien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Verdana"/>
              </a:rPr>
              <a:t>Set the oven temperatur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Verdana"/>
              </a:rPr>
              <a:t>Set the tim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Verdana"/>
              </a:rPr>
              <a:t>Place the first batch of cookies into the ove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Verdana"/>
              </a:rPr>
              <a:t>Allow the cookies to bak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Verdana"/>
              </a:rPr>
              <a:t>Set the tim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Verdana"/>
              </a:rPr>
              <a:t>Place the second batch of cookies into the ove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Verdana"/>
              </a:rPr>
              <a:t>Allow the cookies to bak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Mix ingredients for frost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Structured algorithm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structured algorithm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: Split into coherent task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Make the cookie batt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Mix the dry ingredien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Cream the butter and sug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Beat in the egg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Stir in the dry ingredien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2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Bake the cooki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Set the oven temperatur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Set the tim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Place the cookies into the ove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Allow the cookies to bak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3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Add frosting and sprinkl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Mix the ingredients for the frost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Spread frosting and sprinkles onto the cooki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moving redundancy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well-structured algorithm can describe repeated tasks with less redundanc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 Make the cookie bat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Mix the dry ingredi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399"/>
                </a:solidFill>
                <a:uFillTx/>
                <a:latin typeface="Verdana"/>
              </a:rPr>
              <a:t>2a</a:t>
            </a:r>
            <a:r>
              <a:rPr b="0" lang="en-GB" sz="2000" spc="-1" strike="noStrike" u="sng">
                <a:solidFill>
                  <a:srgbClr val="003399"/>
                </a:solidFill>
                <a:uFillTx/>
                <a:latin typeface="Verdana"/>
              </a:rPr>
              <a:t> Bake the cookies (first batch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Set the oven temperatu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Set the tim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399"/>
                </a:solidFill>
                <a:uFillTx/>
                <a:latin typeface="Verdana"/>
              </a:rPr>
              <a:t>2b</a:t>
            </a:r>
            <a:r>
              <a:rPr b="0" lang="en-GB" sz="2000" spc="-1" strike="noStrike" u="sng">
                <a:solidFill>
                  <a:srgbClr val="003399"/>
                </a:solidFill>
                <a:uFillTx/>
                <a:latin typeface="Verdana"/>
              </a:rPr>
              <a:t> Bake the cookies (second batch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3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 Decorate the cooki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Registered User</cp:lastModifiedBy>
  <cp:lastPrinted>2009-04-22T19:24:48Z</cp:lastPrinted>
  <dcterms:modified xsi:type="dcterms:W3CDTF">2008-10-09T22:02:04Z</dcterms:modified>
  <cp:revision>1246</cp:revision>
  <dc:subject/>
  <dc:title>Building Java Programs</dc:title>
</cp:coreProperties>
</file>