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93DE-019F-4C15-BEEB-A8AE2B2D9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4D04-ABEF-4096-A270-34CB999D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0C3F-B8DA-4FD7-B680-EDA31191E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ED3B-D847-4C45-88C5-F2F060E4C0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88DF-BE91-4CBB-BF20-1C42496F77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FCF2-6A8F-4329-97B2-C40F953EBA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B7FE-58A1-47FC-967A-9D114B0046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1F95-1D5C-415C-BD3A-2CC361C221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6DEC-3A6D-4B68-BDC7-B9FBA1585D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947B-8549-4C24-8F37-CFD948463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8E4B-83A9-49DA-ACD7-79D5090AC4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6BC4-F942-4BA4-8F8F-695BBB206C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DA00-6842-45CF-87C4-BA48029D86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535B-AC79-428C-AE75-A709F59FD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B442-6764-411A-AE15-0010C484B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4332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3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9ABB-F1D7-4CBD-9ED6-9B7217B2CA2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4332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3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29AD-4E8C-44C3-8A9F-C340199B920C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iobe.com/index.php/content/paperinfo/tpci/index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-1: Introduction; Basic Java Progr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1 - 1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ames and identifi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You must give your program a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ing convention: capitalize each word (e.g.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r program's file must match exactly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des capitalization (Java is "case-sensitiv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dentifie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 given to an item in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st start with a letter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sequent characters can be any of those or 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legal:</a:t>
            </a: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illegal:</a:t>
            </a: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Keywor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keywor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n identifier that you cannot use because it already has a reserved meaning in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.e., You may not 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for the name of a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yntax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The set of legal structures and commands that can be used in a particular langu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ery basic Java statement ends with a semicolon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tents of a class or method occur betwee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yntax erro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mpiler erro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): A problem in the structure of a program that causes the compiler to fai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ssing semicol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o many or too few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llegal identifier for class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ss and file names do not mat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yntax erro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iler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mpiler shows the line number where it found the err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error messages can be tough to understan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equence of characters to be prin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s and ends with a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quot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harac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quotes do not appear in the outpu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estric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not span multiple lines.</a:t>
            </a:r>
            <a:br>
              <a:rPr sz="2000"/>
            </a:br>
            <a:br>
              <a:rPr sz="7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18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not contain a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haracter.</a:t>
            </a:r>
            <a:br>
              <a:rPr sz="2000"/>
            </a:br>
            <a:br>
              <a:rPr sz="7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Escape sequence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escape sequenc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pecial sequence of characters used to represent certain special characters in a string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b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line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otation mark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ckslash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is the output of the following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e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utput of each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 to produce the line of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will generate this outpu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will generate this outpu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to generate the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to generate the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  <a:ea typeface="ＭＳ Ｐゴシック"/>
              </a:rPr>
              <a:t>Programm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A set of instruction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be carried out by a compu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 executio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The act of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rrying out the instruction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tained in a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ing languag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A systematic set of rules used to describe computations in a format that is editable by hum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computer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  <a:ea typeface="ＭＳ Ｐゴシック"/>
              </a:rPr>
              <a:t>Course princi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s of resources and people who want to help y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liberate topic progres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herence between lectures, sections, labs, homework, ex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you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will determine what you lear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  <a:ea typeface="ＭＳ Ｐゴシック"/>
              </a:rPr>
              <a:t>Take this course if you…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ke solving tricky probl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ke building th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will) work with large data se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e curious about how Facebook, Google, etc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ve never written a computer program befo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e shopping around for a maj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2 is a good predictor of who will enjoy and succeed in C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  <a:ea typeface="ＭＳ Ｐゴシック"/>
              </a:rPr>
              <a:t>Why Java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latively simpl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ject-orien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-written softw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atform independent (Mac, Windows…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dely u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#1 in popularity ie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Verdana"/>
                <a:ea typeface="ＭＳ Ｐゴシック"/>
                <a:hlinkClick r:id="rId1"/>
              </a:rPr>
              <a:t>http://www.tiobe.com/index.php/content/paperinfo/tpci/index.htm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Compiling/running a progr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Writ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sourc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set of instructions in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i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ranslate a program from one language to an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Java compiler converts your code into a format named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at runs on many computer ty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execute)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messages printed to the user by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458640" y="4954680"/>
            <a:ext cx="1646280" cy="1646280"/>
            <a:chOff x="458640" y="4954680"/>
            <a:chExt cx="1646280" cy="1646280"/>
          </a:xfrm>
        </p:grpSpPr>
        <p:sp>
          <p:nvSpPr>
            <p:cNvPr id="127" name="Rectangle 13"/>
            <p:cNvSpPr/>
            <p:nvPr/>
          </p:nvSpPr>
          <p:spPr>
            <a:xfrm>
              <a:off x="458640" y="495468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482760" y="500220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29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48784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9"/>
          <p:cNvGrpSpPr/>
          <p:nvPr/>
        </p:nvGrpSpPr>
        <p:grpSpPr>
          <a:xfrm>
            <a:off x="2104560" y="4954680"/>
            <a:ext cx="3151800" cy="1646280"/>
            <a:chOff x="2104560" y="4954680"/>
            <a:chExt cx="3151800" cy="1646280"/>
          </a:xfrm>
        </p:grpSpPr>
        <p:pic>
          <p:nvPicPr>
            <p:cNvPr id="131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87736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8"/>
            <p:cNvSpPr/>
            <p:nvPr/>
          </p:nvSpPr>
          <p:spPr>
            <a:xfrm>
              <a:off x="2318040" y="534384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3" name="Group 16"/>
            <p:cNvGrpSpPr/>
            <p:nvPr/>
          </p:nvGrpSpPr>
          <p:grpSpPr>
            <a:xfrm>
              <a:off x="3610080" y="4954680"/>
              <a:ext cx="1646280" cy="1646280"/>
              <a:chOff x="3610080" y="4954680"/>
              <a:chExt cx="1646280" cy="1646280"/>
            </a:xfrm>
          </p:grpSpPr>
          <p:pic>
            <p:nvPicPr>
              <p:cNvPr id="134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49432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Rectangle 18"/>
              <p:cNvSpPr/>
              <p:nvPr/>
            </p:nvSpPr>
            <p:spPr>
              <a:xfrm>
                <a:off x="3610080" y="495468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Text Box 19"/>
              <p:cNvSpPr/>
              <p:nvPr/>
            </p:nvSpPr>
            <p:spPr>
              <a:xfrm>
                <a:off x="3787920" y="500220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cxnSp>
          <p:nvCxnSpPr>
            <p:cNvPr id="137" name="Straight Arrow Connector 37"/>
            <p:cNvCxnSpPr/>
            <p:nvPr/>
          </p:nvCxnSpPr>
          <p:spPr>
            <a:xfrm>
              <a:off x="2104560" y="577692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38" name="Group 17"/>
          <p:cNvGrpSpPr/>
          <p:nvPr/>
        </p:nvGrpSpPr>
        <p:grpSpPr>
          <a:xfrm>
            <a:off x="5257800" y="4946760"/>
            <a:ext cx="3886200" cy="1234440"/>
            <a:chOff x="5257800" y="4946760"/>
            <a:chExt cx="3886200" cy="1234440"/>
          </a:xfrm>
        </p:grpSpPr>
        <p:pic>
          <p:nvPicPr>
            <p:cNvPr id="139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877000"/>
              <a:ext cx="257040" cy="2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9"/>
            <p:cNvSpPr/>
            <p:nvPr/>
          </p:nvSpPr>
          <p:spPr>
            <a:xfrm>
              <a:off x="5428080" y="534348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7452000" y="494676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2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343480"/>
              <a:ext cx="2409840" cy="837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3" name="Straight Arrow Connector 39"/>
            <p:cNvCxnSpPr/>
            <p:nvPr/>
          </p:nvCxnSpPr>
          <p:spPr>
            <a:xfrm>
              <a:off x="5257800" y="5776920"/>
              <a:ext cx="1505520" cy="360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Java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t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ucture of a Java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49" name="Text Box 6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1" name="Group 8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52" name="Text Box 9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" name="Group 11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55" name="Text Box 12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statement that prints a line of output on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nounced "print-linn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times called a "println statement" for 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wo ways to us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the given message as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a blank line of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3-01-07T19:25:09Z</dcterms:modified>
  <cp:revision>1247</cp:revision>
  <dc:subject/>
  <dc:title>Building Java Programs</dc:title>
</cp:coreProperties>
</file>