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7AF-6F11-4CC1-B41E-6C8098CF9F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4DB-85A7-40FC-80E8-76C8C1755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A255-3EB3-4D0B-B554-D0CED9F7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8CE-1644-4D9B-BDE2-A3EADFF5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215-0E76-4EE2-973A-838A1A0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703-4E5F-4A2B-9B29-DFCD4DD6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8A5-0DED-4BE6-AF44-8C654395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424-DD90-4705-921F-6D65E1E7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178-C6F1-457C-ADDF-E006972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A285-3DB5-459F-B539-BA3A94D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E3C7-BDBE-4521-BFCD-A2E4C19D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C7C-4F8D-4146-AE04-00D72C95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DE53-C84D-402F-B2BB-882D37C8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2F40-6F9C-4FF6-9E6E-80224FB5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95D-D7E7-4684-80D7-8A81EBD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B731-5055-4AAD-8AB1-C6EE2E9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0603-A1EC-483B-92ED-1D215F5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829F-410D-4855-9DEB-6A7FDE0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AC85-F08F-46D7-8E0C-6286FC15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3B95-9236-4A4F-BF8D-991D3796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018E-1684-4266-AFDE-32148AF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EBB0-5AE8-49DF-9D91-1C973DC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3FE2-F977-46D8-BB5C-77D2534B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0B93-B331-416B-B06D-593FC17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9E89-BFE8-42C7-B0C6-2BCE83D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EA8-D7EE-4485-A1A3-6306752A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4C62-F6D4-498B-996A-1C8B25E6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0DD7-E12E-492B-B09D-264EECC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E1AF-B418-4D8A-8B2B-D9C5F8E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5D29-8C05-447F-9C5A-08A4F26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7DD9-29A4-4D83-ACDE-0CEFA401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6341-EDD7-4B2F-98D7-39E1E696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3D48-8DF7-4EFA-BBB4-D55E35D7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A181E-67F8-4D4F-9DEB-F1F763A4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1DE4-F339-4DDF-B27E-3FCAACCA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9A8B-E64A-4D40-9A69-5DE674B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232-5B80-412B-A050-0A88861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DFA1D-DAE2-4C52-8FB2-4D2FC7C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3F00-BAA9-4F07-8435-D9B60153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7C38-4890-45E4-88E4-D4778F39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1E00-6586-48A2-A1C7-98AFA52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60C8-EF7D-4613-8334-4B41FD8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D210-0C94-43AB-8FE5-AB9C661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619E-32B6-49D3-AB53-9AF02DD0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9CC9-CE8D-4CBF-8D7A-CE8F9146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AB44-EBDE-4204-ACED-783D218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F9E2-A06D-4D65-84F8-0849CCEE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A2B-B46B-4367-8476-3530F30E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238FD-D119-4184-853B-2396C85B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9A161-DFF2-46CB-8B1E-91C8B8B5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F1EF-0BE1-4CC2-948B-002E503A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6816-F02F-4445-8CE3-95C4DBC2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0DA2-EB58-49C2-AE95-5FF91E4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4C4C-1A77-4B93-B65C-0ACF4E7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AA449-1523-47CA-AD8A-F9C1D2A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9941-5CD3-4B20-8895-3FE8B66C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CB26-6C58-4AFF-A35A-1B4136E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A812-C3D1-41BA-8762-A54093C5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6E6-AACD-4A37-BE57-57F84680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EC3C-4650-4D2E-980F-A012DFC0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49E9-F071-482C-B7D4-5098DF67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A579-1069-440C-BDA6-2DB1F51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7BDE-E28E-4FDB-A955-4F8FDEF7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9290-CD05-4F7B-94FA-130C120E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653D7-42DE-4BDB-8CD8-EA18C5DC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82B1-7ACB-4445-A6BD-32930492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AA20-0523-454B-9B9E-46FCFF5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8362D-EF0E-4120-B0E8-D3F5A70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B60D-EFB7-4A4D-ACAA-2D63F08D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749-CCB8-49A1-9165-23D6C7F0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78FE5-053A-44CA-863C-04D2A154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9245-72E1-4A0E-A7E5-177F9A42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2B25-B992-430F-B5B5-57EFE297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716E-7D09-4E66-A085-00229F05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14BB-DDB2-4A19-B23E-E062AC4B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F447-D17B-4FBC-A017-7B817897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D4AA3-3F38-4F15-A9EA-2A0D3841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4C36-93EE-47F3-9458-857A4E9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092F-4D94-4C07-B903-972302EF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E73A-9A09-4321-A864-29B6637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989-5B7F-4F65-B49A-AF0BC48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83AE-39D5-4E0E-8F73-B75FF81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86DE-C6F6-4B2E-B50E-B39A6F3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C86A-2F74-45D0-A178-9C6B5D50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0654C-D976-4F76-9A3A-19AEBD63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EE67-F450-4C05-B7C2-7B3581D0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94A-DDE2-48C4-921D-D4E8286C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3B1-8850-485E-84D6-A5BEF156880D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136-5A31-443D-A3B5-4DF984A772C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6ABF-8720-4C20-BA1B-5370A7FF0F2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B2F-3683-4841-87AB-C4D9506117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47E3-34EC-4C4D-912B-E6B85C3326D6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27B-BA9D-4529-AC00-B2C2F9F5D0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77F-0B84-482C-8FF9-942AF992450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F06C-7E64-4743-8FCE-15BD8FD399D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4AA-65E3-45DE-BA63-F84737323B8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F31C-5932-4375-A5F4-2ECF52CA283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FB8-2F0B-44A8-859F-44DAAE20100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71E6-800C-443A-A8BF-800A0485F43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4BBB-E7AE-43D2-B159-62A8EF343C9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A4F3-78CE-4C62-96E7-63B48B0575B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341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553680" y="53352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Is Pretty St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F71-06BD-4245-8381-2C4E3CC316C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5285-1962-4E80-8540-C00AB10237B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Screen Shot 2014-03-10 at 8.21.08 PM.png"/>
          <p:cNvPicPr/>
          <p:nvPr/>
        </p:nvPicPr>
        <p:blipFill>
          <a:blip r:embed="rId2"/>
          <a:srcRect l="0" t="0" r="42793" b="52577"/>
          <a:stretch/>
        </p:blipFill>
        <p:spPr>
          <a:xfrm>
            <a:off x="152280" y="1066680"/>
            <a:ext cx="75646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776-4C4F-442B-A78F-A3224290835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1D93-230D-4A12-973B-1DEF7F9032A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Screen Shot 2014-03-10 at 8.21.08 PM.png"/>
          <p:cNvPicPr/>
          <p:nvPr/>
        </p:nvPicPr>
        <p:blipFill>
          <a:blip r:embed="rId2"/>
          <a:srcRect l="0" t="51409" r="0" b="1482"/>
          <a:stretch/>
        </p:blipFill>
        <p:spPr>
          <a:xfrm>
            <a:off x="30240" y="1219320"/>
            <a:ext cx="8994600" cy="3398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Screen Shot 2014-03-10 at 3.50.13 PM.png"/>
          <p:cNvPicPr/>
          <p:nvPr/>
        </p:nvPicPr>
        <p:blipFill>
          <a:blip r:embed="rId3"/>
          <a:srcRect l="0" t="0" r="0" b="50740"/>
          <a:stretch/>
        </p:blipFill>
        <p:spPr>
          <a:xfrm>
            <a:off x="0" y="4343400"/>
            <a:ext cx="412740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fter the pictures are loa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ear right 2 bits of ho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tract left 2 bits of gu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w combine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5266-F056-481E-97A4-6155D57D156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C61-956B-43C4-868F-8DE9DEB95C7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steg4.png"/>
          <p:cNvPicPr/>
          <p:nvPr/>
        </p:nvPicPr>
        <p:blipFill>
          <a:blip r:embed="rId2"/>
          <a:srcRect l="10831" t="47810" r="10916" b="45946"/>
          <a:stretch/>
        </p:blipFill>
        <p:spPr>
          <a:xfrm>
            <a:off x="533520" y="1752480"/>
            <a:ext cx="84582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6" name="Straight Connector 8"/>
          <p:cNvSpPr/>
          <p:nvPr/>
        </p:nvSpPr>
        <p:spPr>
          <a:xfrm>
            <a:off x="2438280" y="2819520"/>
            <a:ext cx="2514600" cy="144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9"/>
          <p:cNvSpPr/>
          <p:nvPr/>
        </p:nvSpPr>
        <p:spPr>
          <a:xfrm>
            <a:off x="5562720" y="2819520"/>
            <a:ext cx="2895480" cy="144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Straight Arrow Connector 12"/>
          <p:cNvCxnSpPr/>
          <p:nvPr/>
        </p:nvCxnSpPr>
        <p:spPr>
          <a:xfrm flipV="1">
            <a:off x="2589840" y="2819160"/>
            <a:ext cx="686520" cy="91512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  <p:cxnSp>
        <p:nvCxnSpPr>
          <p:cNvPr id="439" name="Straight Arrow Connector 14"/>
          <p:cNvCxnSpPr/>
          <p:nvPr/>
        </p:nvCxnSpPr>
        <p:spPr>
          <a:xfrm flipH="1" flipV="1">
            <a:off x="6933960" y="2819160"/>
            <a:ext cx="381600" cy="137232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  <p:cxnSp>
        <p:nvCxnSpPr>
          <p:cNvPr id="440" name="Straight Arrow Connector 17"/>
          <p:cNvCxnSpPr/>
          <p:nvPr/>
        </p:nvCxnSpPr>
        <p:spPr>
          <a:xfrm flipH="1" flipV="1">
            <a:off x="990360" y="2056680"/>
            <a:ext cx="305280" cy="259164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  <p:sp>
        <p:nvSpPr>
          <p:cNvPr id="441" name="TextBox 8"/>
          <p:cNvSpPr/>
          <p:nvPr/>
        </p:nvSpPr>
        <p:spPr>
          <a:xfrm>
            <a:off x="5697000" y="121932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8"/>
          <p:cNvSpPr/>
          <p:nvPr/>
        </p:nvSpPr>
        <p:spPr>
          <a:xfrm>
            <a:off x="1513080" y="41148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xx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00xx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11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0"/>
          <p:cNvSpPr/>
          <p:nvPr/>
        </p:nvSpPr>
        <p:spPr>
          <a:xfrm>
            <a:off x="5087520" y="563868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8"/>
          <p:cNvSpPr/>
          <p:nvPr/>
        </p:nvSpPr>
        <p:spPr>
          <a:xfrm>
            <a:off x="7315200" y="5638680"/>
            <a:ext cx="2286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9"/>
          <p:cNvSpPr/>
          <p:nvPr/>
        </p:nvSpPr>
        <p:spPr>
          <a:xfrm>
            <a:off x="6248520" y="5638680"/>
            <a:ext cx="2268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0"/>
          <p:cNvSpPr/>
          <p:nvPr/>
        </p:nvSpPr>
        <p:spPr>
          <a:xfrm>
            <a:off x="5221440" y="5637240"/>
            <a:ext cx="2268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23"/>
          <p:cNvCxnSpPr/>
          <p:nvPr/>
        </p:nvCxnSpPr>
        <p:spPr>
          <a:xfrm flipH="1" flipV="1">
            <a:off x="4571640" y="4419360"/>
            <a:ext cx="2743920" cy="121968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  <p:cxnSp>
        <p:nvCxnSpPr>
          <p:cNvPr id="448" name="Straight Arrow Connector 24"/>
          <p:cNvCxnSpPr/>
          <p:nvPr/>
        </p:nvCxnSpPr>
        <p:spPr>
          <a:xfrm flipH="1" flipV="1">
            <a:off x="3580920" y="4419360"/>
            <a:ext cx="2743920" cy="121968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  <p:cxnSp>
        <p:nvCxnSpPr>
          <p:cNvPr id="449" name="Straight Arrow Connector 25"/>
          <p:cNvCxnSpPr/>
          <p:nvPr/>
        </p:nvCxnSpPr>
        <p:spPr>
          <a:xfrm flipH="1" flipV="1">
            <a:off x="2514240" y="4419360"/>
            <a:ext cx="2743920" cy="121968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0063-6067-421D-B76C-A761BFEC50E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33C7-C062-4C34-992E-FB99D221D1F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3" descr="Screen Shot 2014-03-10 at 8.51.24 PM.png"/>
          <p:cNvPicPr/>
          <p:nvPr/>
        </p:nvPicPr>
        <p:blipFill>
          <a:blip r:embed="rId2"/>
          <a:stretch/>
        </p:blipFill>
        <p:spPr>
          <a:xfrm>
            <a:off x="304920" y="990720"/>
            <a:ext cx="5181480" cy="5814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Screen Shot 2014-03-10 at 8.32.55 PM.png"/>
          <p:cNvPicPr/>
          <p:nvPr/>
        </p:nvPicPr>
        <p:blipFill>
          <a:blip r:embed="rId3"/>
          <a:stretch/>
        </p:blipFill>
        <p:spPr>
          <a:xfrm>
            <a:off x="4800600" y="990720"/>
            <a:ext cx="42670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in the file, and then on key press, shift the bits left one pos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9C56-7699-49C2-BA70-5B6F9B7DFF5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B501-6C48-4BD2-855F-B217DC685B3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Screen Shot 2014-03-10 at 8.36.31 PM.png"/>
          <p:cNvPicPr/>
          <p:nvPr/>
        </p:nvPicPr>
        <p:blipFill>
          <a:blip r:embed="rId2"/>
          <a:srcRect l="0" t="11356" r="0" b="17013"/>
          <a:stretch/>
        </p:blipFill>
        <p:spPr>
          <a:xfrm>
            <a:off x="228600" y="2279520"/>
            <a:ext cx="7162920" cy="43102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7"/>
          <p:cNvSpPr/>
          <p:nvPr/>
        </p:nvSpPr>
        <p:spPr>
          <a:xfrm>
            <a:off x="5196600" y="5257800"/>
            <a:ext cx="1570680" cy="8254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" descr="Screen Shot 2014-03-10 at 8.56.20 PM.png"/>
          <p:cNvPicPr/>
          <p:nvPr/>
        </p:nvPicPr>
        <p:blipFill>
          <a:blip r:embed="rId1"/>
          <a:stretch/>
        </p:blipFill>
        <p:spPr>
          <a:xfrm>
            <a:off x="533520" y="1523880"/>
            <a:ext cx="6553080" cy="5181840"/>
          </a:xfrm>
          <a:prstGeom prst="rect">
            <a:avLst/>
          </a:prstGeom>
          <a:ln w="0">
            <a:noFill/>
          </a:ln>
        </p:spPr>
      </p:pic>
      <p:pic>
        <p:nvPicPr>
          <p:cNvPr id="465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n A Test … www.tineye.c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9632-7D2F-4EE7-A08E-61F5149F272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CA1D-9F66-4FBD-94C3-E77645A2689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eft Arrow 10"/>
          <p:cNvSpPr/>
          <p:nvPr/>
        </p:nvSpPr>
        <p:spPr>
          <a:xfrm>
            <a:off x="3733920" y="3733920"/>
            <a:ext cx="533160" cy="304560"/>
          </a:xfrm>
          <a:prstGeom prst="lef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fa556c"/>
              </a:gs>
              <a:gs pos="100000">
                <a:srgbClr val="b53b4c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961920" y="2514600"/>
            <a:ext cx="1499040" cy="3682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The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Screen Shot 2014-03-10 at 8.40.45 PM.png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5124240"/>
          </a:xfrm>
          <a:prstGeom prst="rect">
            <a:avLst/>
          </a:prstGeom>
          <a:ln w="0">
            <a:noFill/>
          </a:ln>
        </p:spPr>
      </p:pic>
      <p:pic>
        <p:nvPicPr>
          <p:cNvPr id="473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74FB-8F19-4523-B44C-F681D0F9AD2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38C-A99A-48FD-A2C3-140C40EE4C1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6400800" y="3886200"/>
            <a:ext cx="2514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eft Arrow 8"/>
          <p:cNvSpPr/>
          <p:nvPr/>
        </p:nvSpPr>
        <p:spPr>
          <a:xfrm>
            <a:off x="3657600" y="3124080"/>
            <a:ext cx="533520" cy="304920"/>
          </a:xfrm>
          <a:prstGeom prst="lef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dc302f"/>
              </a:gs>
              <a:gs pos="100000">
                <a:srgbClr val="9f201f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696240" y="1905120"/>
            <a:ext cx="1424160" cy="3682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Stegan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ganography can be used extensively – there are many places to hide infor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morrow, you’ll hide a picture, to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01CD-0ACD-4624-AEB6-47892DBCDA5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154-71E3-4E68-842F-9B78EF35E7F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process of hiding infor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wo Greek roots meaning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go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==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of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ga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==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ver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B7D-40D9-47B7-9187-0286966F762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0707-AE26-4DFD-8C71-76D53F7C150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hair.jpg"/>
          <p:cNvPicPr/>
          <p:nvPr/>
        </p:nvPicPr>
        <p:blipFill>
          <a:blip r:embed="rId2"/>
          <a:stretch/>
        </p:blipFill>
        <p:spPr>
          <a:xfrm>
            <a:off x="4876920" y="2743200"/>
            <a:ext cx="3517920" cy="3429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stegDino.jpg"/>
          <p:cNvPicPr/>
          <p:nvPr/>
        </p:nvPicPr>
        <p:blipFill>
          <a:blip r:embed="rId3"/>
          <a:stretch/>
        </p:blipFill>
        <p:spPr>
          <a:xfrm>
            <a:off x="1295280" y="2666880"/>
            <a:ext cx="2882880" cy="384336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 flipV="1" rot="19126200">
            <a:off x="622080" y="4401720"/>
            <a:ext cx="3489120" cy="19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 rot="2622600">
            <a:off x="434520" y="4182840"/>
            <a:ext cx="3152880" cy="22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common reason to hide information is to avoid being caught with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litary and spy docu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pressive governments restricting news/inf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void others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nooping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priva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ding is different than encryption … uses the fact that the searcher doesn’t know it’s the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731-D92E-4D93-8403-2335884ACD1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E820-33F2-4B5A-AA5E-47566C34DC9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Plan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ide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versive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protest photo in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lendar art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9E1-A1AB-4C86-BABF-2DD555D3F6F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412-C3B5-45C3-A689-95F30822F9C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ight Arrow 8"/>
          <p:cNvSpPr/>
          <p:nvPr/>
        </p:nvSpPr>
        <p:spPr>
          <a:xfrm>
            <a:off x="3505320" y="34290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389880" y="4952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6714000" y="28195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fog.jpg"/>
          <p:cNvPicPr/>
          <p:nvPr/>
        </p:nvPicPr>
        <p:blipFill>
          <a:blip r:embed="rId2"/>
          <a:stretch/>
        </p:blipFill>
        <p:spPr>
          <a:xfrm>
            <a:off x="3733920" y="3124080"/>
            <a:ext cx="5262480" cy="3556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ukraine copy.jpg"/>
          <p:cNvPicPr/>
          <p:nvPr/>
        </p:nvPicPr>
        <p:blipFill>
          <a:blip r:embed="rId3"/>
          <a:stretch/>
        </p:blipFill>
        <p:spPr>
          <a:xfrm>
            <a:off x="609480" y="2133720"/>
            <a:ext cx="449604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don’t need all of the bits in RGB to get a decent pic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959-9CC6-4135-A6E8-722D87CE091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8C1-E19F-43FB-9C7A-FFC32D86E35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8"/>
          <p:cNvSpPr/>
          <p:nvPr/>
        </p:nvSpPr>
        <p:spPr>
          <a:xfrm>
            <a:off x="295560" y="579132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 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 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 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4714920" y="579132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 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 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 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4"/>
          <p:cNvSpPr/>
          <p:nvPr/>
        </p:nvSpPr>
        <p:spPr>
          <a:xfrm>
            <a:off x="5105520" y="6019920"/>
            <a:ext cx="76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6"/>
          <p:cNvSpPr/>
          <p:nvPr/>
        </p:nvSpPr>
        <p:spPr>
          <a:xfrm>
            <a:off x="6172200" y="6019920"/>
            <a:ext cx="762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7"/>
          <p:cNvSpPr/>
          <p:nvPr/>
        </p:nvSpPr>
        <p:spPr>
          <a:xfrm>
            <a:off x="7315200" y="6019920"/>
            <a:ext cx="762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8"/>
          <p:cNvSpPr/>
          <p:nvPr/>
        </p:nvSpPr>
        <p:spPr>
          <a:xfrm>
            <a:off x="3746160" y="5105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594360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2 bits of each colo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ukraine copy.jpg"/>
          <p:cNvPicPr/>
          <p:nvPr/>
        </p:nvPicPr>
        <p:blipFill>
          <a:blip r:embed="rId2"/>
          <a:stretch/>
        </p:blipFill>
        <p:spPr>
          <a:xfrm>
            <a:off x="152280" y="2286000"/>
            <a:ext cx="4348440" cy="2819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Screen Shot 2014-03-10 at 3.26.50 PM.png"/>
          <p:cNvPicPr/>
          <p:nvPr/>
        </p:nvPicPr>
        <p:blipFill>
          <a:blip r:embed="rId3"/>
          <a:stretch/>
        </p:blipFill>
        <p:spPr>
          <a:xfrm>
            <a:off x="4648320" y="2286000"/>
            <a:ext cx="434808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10"/>
          <p:cNvCxnSpPr/>
          <p:nvPr/>
        </p:nvCxnSpPr>
        <p:spPr>
          <a:xfrm flipV="1">
            <a:off x="1066680" y="3352320"/>
            <a:ext cx="1067760" cy="23630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53" name="Straight Arrow Connector 20"/>
          <p:cNvCxnSpPr/>
          <p:nvPr/>
        </p:nvCxnSpPr>
        <p:spPr>
          <a:xfrm flipV="1">
            <a:off x="5562360" y="3352320"/>
            <a:ext cx="1067400" cy="23630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54" name="TextBox 11"/>
          <p:cNvSpPr/>
          <p:nvPr/>
        </p:nvSpPr>
        <p:spPr>
          <a:xfrm>
            <a:off x="4740120" y="609588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 00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0 000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t guest bits into right 2 bits of hos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A8C0-36F1-430D-B890-67394E5B825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586-F03E-42E5-B6A8-B8B3C45BE9E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fog.jpg"/>
          <p:cNvPicPr/>
          <p:nvPr/>
        </p:nvPicPr>
        <p:blipFill>
          <a:blip r:embed="rId2"/>
          <a:stretch/>
        </p:blipFill>
        <p:spPr>
          <a:xfrm>
            <a:off x="228600" y="1752480"/>
            <a:ext cx="4960800" cy="33530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7"/>
          <p:cNvSpPr/>
          <p:nvPr/>
        </p:nvSpPr>
        <p:spPr>
          <a:xfrm>
            <a:off x="371520" y="52578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11 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 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11 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0"/>
          <p:cNvSpPr/>
          <p:nvPr/>
        </p:nvSpPr>
        <p:spPr>
          <a:xfrm>
            <a:off x="4867560" y="52578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 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 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 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4071240" y="601992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11 011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 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11 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7196040" y="6091200"/>
            <a:ext cx="2286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6"/>
          <p:cNvSpPr/>
          <p:nvPr/>
        </p:nvSpPr>
        <p:spPr>
          <a:xfrm flipH="1">
            <a:off x="7310520" y="5570640"/>
            <a:ext cx="22320" cy="520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7218360" y="5265720"/>
            <a:ext cx="2286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6097680" y="6094440"/>
            <a:ext cx="2268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19"/>
          <p:cNvSpPr/>
          <p:nvPr/>
        </p:nvSpPr>
        <p:spPr>
          <a:xfrm flipH="1">
            <a:off x="6210360" y="5562720"/>
            <a:ext cx="144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6097680" y="5256360"/>
            <a:ext cx="226800" cy="30456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4992840" y="6094440"/>
            <a:ext cx="226800" cy="30492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6"/>
          <p:cNvSpPr/>
          <p:nvPr/>
        </p:nvSpPr>
        <p:spPr>
          <a:xfrm flipH="1">
            <a:off x="5105520" y="5562720"/>
            <a:ext cx="144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4992840" y="5256360"/>
            <a:ext cx="226800" cy="304560"/>
          </a:xfrm>
          <a:prstGeom prst="rect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35"/>
          <p:cNvCxnSpPr>
            <a:stCxn id="363" idx="1"/>
          </p:cNvCxnSpPr>
          <p:nvPr/>
        </p:nvCxnSpPr>
        <p:spPr>
          <a:xfrm flipH="1" flipV="1">
            <a:off x="2371320" y="5595120"/>
            <a:ext cx="1743840" cy="60876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cxnSp>
        <p:nvCxnSpPr>
          <p:cNvPr id="374" name="Straight Arrow Connector 41"/>
          <p:cNvCxnSpPr/>
          <p:nvPr/>
        </p:nvCxnSpPr>
        <p:spPr>
          <a:xfrm>
            <a:off x="2514600" y="2971440"/>
            <a:ext cx="2326320" cy="30438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pic>
        <p:nvPicPr>
          <p:cNvPr id="375" name="Picture 2" descr="ukraine.jpg"/>
          <p:cNvPicPr/>
          <p:nvPr/>
        </p:nvPicPr>
        <p:blipFill>
          <a:blip r:embed="rId3"/>
          <a:stretch/>
        </p:blipFill>
        <p:spPr>
          <a:xfrm>
            <a:off x="4143240" y="1752480"/>
            <a:ext cx="4857840" cy="314964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 flipV="1">
            <a:off x="5486400" y="2971440"/>
            <a:ext cx="838800" cy="22867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cxnSp>
        <p:nvCxnSpPr>
          <p:cNvPr id="377" name="Straight Arrow Connector 28"/>
          <p:cNvCxnSpPr/>
          <p:nvPr/>
        </p:nvCxnSpPr>
        <p:spPr>
          <a:xfrm flipV="1">
            <a:off x="1676520" y="2971440"/>
            <a:ext cx="838800" cy="22867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951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6EE4-DD93-4DC8-85CE-4288C10F026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B652-3A92-4DDE-936B-9D478672E84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fog.jpg"/>
          <p:cNvPicPr/>
          <p:nvPr/>
        </p:nvPicPr>
        <p:blipFill>
          <a:blip r:embed="rId2"/>
          <a:stretch/>
        </p:blipFill>
        <p:spPr>
          <a:xfrm>
            <a:off x="152280" y="1219320"/>
            <a:ext cx="4961160" cy="3352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59840" y="46483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l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9"/>
          <p:cNvSpPr/>
          <p:nvPr/>
        </p:nvSpPr>
        <p:spPr>
          <a:xfrm>
            <a:off x="7477200" y="2971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gFo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stegFog.png"/>
          <p:cNvPicPr/>
          <p:nvPr/>
        </p:nvPicPr>
        <p:blipFill>
          <a:blip r:embed="rId3"/>
          <a:stretch/>
        </p:blipFill>
        <p:spPr>
          <a:xfrm>
            <a:off x="4114800" y="3429000"/>
            <a:ext cx="4929120" cy="33274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0"/>
          <p:cNvSpPr/>
          <p:nvPr/>
        </p:nvSpPr>
        <p:spPr>
          <a:xfrm>
            <a:off x="3748680" y="3200400"/>
            <a:ext cx="1570680" cy="8254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Re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ch of the colors is shifted left 1 bit at a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then we’ll see the det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C162-5EA6-4163-85E2-187FB6D74D1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063-105B-4D10-B7E8-FB8CBDADC25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582200" y="213372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101001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1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1590840" y="246384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1010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010011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11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1590840" y="279396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0100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0100110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11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1599480" y="312408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00000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001100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607400" y="345456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000000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0011000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1607400" y="378468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000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0110000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1616040" y="411480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000000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11000000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Straight Arrow Connector 4"/>
          <p:cNvCxnSpPr/>
          <p:nvPr/>
        </p:nvCxnSpPr>
        <p:spPr>
          <a:xfrm flipH="1">
            <a:off x="3885840" y="4647960"/>
            <a:ext cx="838800" cy="10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1" name="Straight Arrow Connector 15"/>
          <p:cNvCxnSpPr/>
          <p:nvPr/>
        </p:nvCxnSpPr>
        <p:spPr>
          <a:xfrm flipH="1">
            <a:off x="2819160" y="4647960"/>
            <a:ext cx="838800" cy="10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2" name="Straight Arrow Connector 16"/>
          <p:cNvCxnSpPr/>
          <p:nvPr/>
        </p:nvCxnSpPr>
        <p:spPr>
          <a:xfrm flipH="1">
            <a:off x="1751760" y="4647960"/>
            <a:ext cx="839160" cy="10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3" name="Straight Arrow Connector 17"/>
          <p:cNvCxnSpPr/>
          <p:nvPr/>
        </p:nvCxnSpPr>
        <p:spPr>
          <a:xfrm flipH="1">
            <a:off x="5105160" y="2361960"/>
            <a:ext cx="838800" cy="1080"/>
          </a:xfrm>
          <a:prstGeom prst="straightConnector1">
            <a:avLst/>
          </a:prstGeom>
          <a:ln w="4788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404" name="TextBox 13"/>
          <p:cNvSpPr/>
          <p:nvPr/>
        </p:nvSpPr>
        <p:spPr>
          <a:xfrm>
            <a:off x="6026760" y="21337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Straight Arrow Connector 19"/>
          <p:cNvCxnSpPr/>
          <p:nvPr/>
        </p:nvCxnSpPr>
        <p:spPr>
          <a:xfrm flipH="1">
            <a:off x="5028840" y="4343040"/>
            <a:ext cx="838800" cy="1080"/>
          </a:xfrm>
          <a:prstGeom prst="straightConnector1">
            <a:avLst/>
          </a:prstGeom>
          <a:ln w="4788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406" name="TextBox 20"/>
          <p:cNvSpPr/>
          <p:nvPr/>
        </p:nvSpPr>
        <p:spPr>
          <a:xfrm>
            <a:off x="5954760" y="4114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A4B-A59F-4B41-905C-3F648CDF00A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A25-5CB5-43F1-B3EF-C3E0B9B85FC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660920" y="6172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Screen Shot 2014-03-10 at 8.21.08 PM.png"/>
          <p:cNvPicPr/>
          <p:nvPr/>
        </p:nvPicPr>
        <p:blipFill>
          <a:blip r:embed="rId2"/>
          <a:stretch/>
        </p:blipFill>
        <p:spPr>
          <a:xfrm>
            <a:off x="380880" y="990720"/>
            <a:ext cx="6185160" cy="4959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Screen Shot 2014-03-10 at 3.50.13 PM.png"/>
          <p:cNvPicPr/>
          <p:nvPr/>
        </p:nvPicPr>
        <p:blipFill>
          <a:blip r:embed="rId3"/>
          <a:srcRect l="640" t="148" r="533" b="59816"/>
          <a:stretch/>
        </p:blipFill>
        <p:spPr>
          <a:xfrm>
            <a:off x="304920" y="5638680"/>
            <a:ext cx="2936880" cy="857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steg4.png"/>
          <p:cNvPicPr/>
          <p:nvPr/>
        </p:nvPicPr>
        <p:blipFill>
          <a:blip r:embed="rId4"/>
          <a:srcRect l="0" t="68890" r="52721" b="18888"/>
          <a:stretch/>
        </p:blipFill>
        <p:spPr>
          <a:xfrm>
            <a:off x="5257800" y="1676520"/>
            <a:ext cx="36162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6" name="TextBox 9"/>
          <p:cNvSpPr/>
          <p:nvPr/>
        </p:nvSpPr>
        <p:spPr>
          <a:xfrm>
            <a:off x="5721120" y="27432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To Save Result on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6:35:09Z</dcterms:created>
  <dc:creator>Information School</dc:creator>
  <dc:description/>
  <dc:language>en-US</dc:language>
  <cp:lastModifiedBy>Larry Snyder</cp:lastModifiedBy>
  <dcterms:modified xsi:type="dcterms:W3CDTF">2014-05-14T18:44:25Z</dcterms:modified>
  <cp:revision>93</cp:revision>
  <dc:subject/>
  <dc:title>Welcome to FIT100</dc:title>
</cp:coreProperties>
</file>