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4ED-30FF-4DFC-AF7C-CA434A0E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064-A5E4-4ABA-AF31-3B9CD3C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D33-8841-4AFA-9512-221E138B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92B-0456-47D4-B1B1-0089EB86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5613-22BC-4A7D-B2DD-E29C707D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A41-9CDE-44DA-9979-7E7BBA3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D816-A3AB-4EAA-B06F-F3AE105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1E1-9CC7-4F67-A21D-36BC25E0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3173-9C8D-4941-982F-2BC544F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53B-3995-4B5D-942E-F073478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DB0A-31E0-4626-9E69-DCF625D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B71-BFE0-41B3-B61F-8A447C9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8C4F-F383-4061-BF9E-728F88C8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A341-9320-4BCC-9016-5F3E175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46CC-D14E-4829-B823-E0AD06B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A5F5-9D9B-4FF7-9A05-CBA37898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262F-10AC-4378-A0E3-659BBDC2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F789-A8DE-4C1C-A4DE-BD896EF7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A9B8-8F7F-408A-BC1E-7DAAEB9D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1838-4813-4EAF-BBFD-1880CFC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78FB-F822-4D20-9728-7FEC1E0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85D1-99CD-4F71-B083-AA76D89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FF3-17E7-42C6-BC22-3CDE3D77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9817-837C-48A2-B9A6-64186F9C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5FCB-E3EE-4148-A086-C480CA90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FF03-0C66-41A6-9A1C-94FD05AC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EEA3-9255-495D-BE71-FB9C08C1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CB2B-5901-471E-87D3-8C3DF824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AA1D-1E7B-40B9-B759-2399C0CA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1659-F7AA-4A72-A783-48CCCB22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F1B1-CBC8-45B0-83A4-BA76D221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0942-5CF0-4C19-BAEB-145258E4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449F-291C-43B9-8A09-1C8C7398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43E-FDAB-41FF-81CC-216D7C05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17CE-5679-4248-8EC6-AE275DE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8D2B-00AC-4360-8081-4C4CEE9E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4581-F7FD-44DB-863E-47C6C5CA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A4D2-5D66-40A6-9602-F032225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D9BC-987F-4594-9B4C-E3BD0AA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5459-C4FD-47B9-808C-C7CDF08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DC06-D5EA-424E-86F2-323BDFEB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6E9C-A9C4-48E6-B303-89D54B00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AE9B-0E00-4F95-A7D3-9B9A9C8F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9104-78F6-42F7-8B4D-F135D04E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C3F-D240-4AE4-9DC4-D4C0B633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1945B-B62B-49F1-8573-62C977D0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3E05-AFC0-4234-A147-2EB58917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C40D-7848-443A-9CA0-B398D988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7539-0EC3-499B-9F12-DF4B656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087B-AF7E-4BFD-A04C-5C09AA2B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28D47-E397-46A1-AD4F-35BA572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327D7-F604-49A4-B247-EB29FDE0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436E4-98E8-410E-AFC0-F99545F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19FA-8F23-4E8F-93CC-67A41781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BBE9-E6EC-4B6B-953E-B75E2FA9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6FD-19CA-4173-B337-DD4DA5C4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38A5C-54D4-433E-B774-25A1C0EF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5FB17-8560-4542-8B40-35873195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FE824-CFA0-4871-9C4E-B09D9156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4779-3ECF-4BA4-943E-506FBAB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D00A0-B970-458E-A5D5-1F8F7428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3C00-575E-4554-A2FC-8F59E853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6D6F-CE40-42BF-BA4A-180FEF7C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355E9-32D8-49F7-870A-E32DC39A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872B-E644-47B4-8769-83E37C3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C0DE-40DE-4502-86CE-2F65D1C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499-A6CA-417A-822A-0F3FD54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8B5A3-9C47-4380-8A75-FD29DA16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64DA-2A32-44C2-B24C-7F252D1B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0262-0742-43B7-839C-FBDA368D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E74BD-98B7-4BE3-8C0A-823A0484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25E35-C319-44BE-BA2C-9652CEDA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D9FEF-01E3-4799-8632-F1AD831D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95AE-0C16-40E2-845B-6C7267C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F86B-CD66-44CE-A996-C8A6880F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1014-73A2-4EE5-8CBC-31F9007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2D36D-5FAF-4F0C-8A87-419032E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6E0-72E2-4D6C-AE57-D0FFBB72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5E74-3F13-43B8-8793-D55C3B1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B217-EEB2-4190-806B-59E9A08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3C3B-939A-449B-A3EE-570F0D3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9653-532D-45A9-9E4F-35FD9794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88CDE-AF6F-4DFA-AA39-BDC258E7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A03-A7A8-42B3-A16A-77E967F4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56FD-BC09-426E-8BC9-F043C4DCE41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762B-2476-4B6E-A659-F5C13D5BF77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121-A96D-41F2-993B-6B30323E74EA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AB9-1561-4659-A1F0-4F3601F9A8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2BA-2916-4B20-AE5D-8D99ABA12469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87BE-E3CA-4721-80EC-22902A8615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4EE9-8635-4176-9C35-0FD4D9CBE88B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4D24-E817-4928-9200-C309083B857B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33D-3472-4F75-A25B-A94BE1DD60C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B30F-A841-494B-A387-6D3CD4C801F1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2A8D-C3DB-4215-9DBA-99DC38D27998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9DF5-A7D1-4783-8FA7-2A5D2798329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591E-09DA-42CA-9124-FEC3BAB5DF2B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749-0674-4BFB-BD28-8E59E40BC19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mailto:fekete@it.usyd.edu.a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20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450000" y="533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3" descr="cloud.jpeg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406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13 Internet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oot name server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scattered around the world … all the s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DNS servers have their numb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3533-CE0B-4AF5-8B32-902B2807FC2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A1F2-A88B-4648-9122-DE7510C1B2E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1"/>
          <p:cNvGrpSpPr/>
          <p:nvPr/>
        </p:nvGrpSpPr>
        <p:grpSpPr>
          <a:xfrm>
            <a:off x="237600" y="2286000"/>
            <a:ext cx="1258200" cy="1664280"/>
            <a:chOff x="237600" y="2286000"/>
            <a:chExt cx="1258200" cy="1664280"/>
          </a:xfrm>
        </p:grpSpPr>
        <p:pic>
          <p:nvPicPr>
            <p:cNvPr id="412" name="Picture 6" descr="auth.jpg"/>
            <p:cNvPicPr/>
            <p:nvPr/>
          </p:nvPicPr>
          <p:blipFill>
            <a:blip r:embed="rId3"/>
            <a:stretch/>
          </p:blipFill>
          <p:spPr>
            <a:xfrm>
              <a:off x="380880" y="2590920"/>
              <a:ext cx="907200" cy="12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19"/>
            <p:cNvSpPr/>
            <p:nvPr/>
          </p:nvSpPr>
          <p:spPr>
            <a:xfrm>
              <a:off x="387000" y="2286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20"/>
            <p:cNvSpPr/>
            <p:nvPr/>
          </p:nvSpPr>
          <p:spPr>
            <a:xfrm>
              <a:off x="237600" y="358200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8.41.0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Straight Connector 12"/>
          <p:cNvSpPr/>
          <p:nvPr/>
        </p:nvSpPr>
        <p:spPr>
          <a:xfrm>
            <a:off x="1295280" y="3657600"/>
            <a:ext cx="1981440" cy="91440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22"/>
          <p:cNvGrpSpPr/>
          <p:nvPr/>
        </p:nvGrpSpPr>
        <p:grpSpPr>
          <a:xfrm>
            <a:off x="2527200" y="2057400"/>
            <a:ext cx="1764000" cy="1664280"/>
            <a:chOff x="2527200" y="2057400"/>
            <a:chExt cx="1764000" cy="1664280"/>
          </a:xfrm>
        </p:grpSpPr>
        <p:pic>
          <p:nvPicPr>
            <p:cNvPr id="417" name="Picture 23" descr="auth.jpg"/>
            <p:cNvPicPr/>
            <p:nvPr/>
          </p:nvPicPr>
          <p:blipFill>
            <a:blip r:embed="rId4"/>
            <a:stretch/>
          </p:blipFill>
          <p:spPr>
            <a:xfrm>
              <a:off x="2666880" y="2362320"/>
              <a:ext cx="906480" cy="12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24"/>
            <p:cNvSpPr/>
            <p:nvPr/>
          </p:nvSpPr>
          <p:spPr>
            <a:xfrm>
              <a:off x="2673000" y="20574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25"/>
            <p:cNvSpPr/>
            <p:nvPr/>
          </p:nvSpPr>
          <p:spPr>
            <a:xfrm>
              <a:off x="2527200" y="3353400"/>
              <a:ext cx="17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2.228.79.2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6"/>
          <p:cNvGrpSpPr/>
          <p:nvPr/>
        </p:nvGrpSpPr>
        <p:grpSpPr>
          <a:xfrm>
            <a:off x="764280" y="4114800"/>
            <a:ext cx="1511280" cy="1664280"/>
            <a:chOff x="764280" y="4114800"/>
            <a:chExt cx="1511280" cy="1664280"/>
          </a:xfrm>
        </p:grpSpPr>
        <p:pic>
          <p:nvPicPr>
            <p:cNvPr id="421" name="Picture 27" descr="auth.jpg"/>
            <p:cNvPicPr/>
            <p:nvPr/>
          </p:nvPicPr>
          <p:blipFill>
            <a:blip r:embed="rId5"/>
            <a:stretch/>
          </p:blipFill>
          <p:spPr>
            <a:xfrm>
              <a:off x="914400" y="4419720"/>
              <a:ext cx="907200" cy="12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Box 28"/>
            <p:cNvSpPr/>
            <p:nvPr/>
          </p:nvSpPr>
          <p:spPr>
            <a:xfrm>
              <a:off x="920520" y="41148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29"/>
            <p:cNvSpPr/>
            <p:nvPr/>
          </p:nvSpPr>
          <p:spPr>
            <a:xfrm>
              <a:off x="764280" y="54108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2,112,36,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0"/>
          <p:cNvGrpSpPr/>
          <p:nvPr/>
        </p:nvGrpSpPr>
        <p:grpSpPr>
          <a:xfrm>
            <a:off x="4657680" y="1905120"/>
            <a:ext cx="1384560" cy="1663920"/>
            <a:chOff x="4657680" y="1905120"/>
            <a:chExt cx="1384560" cy="1663920"/>
          </a:xfrm>
        </p:grpSpPr>
        <p:pic>
          <p:nvPicPr>
            <p:cNvPr id="425" name="Picture 31" descr="auth.jpg"/>
            <p:cNvPicPr/>
            <p:nvPr/>
          </p:nvPicPr>
          <p:blipFill>
            <a:blip r:embed="rId6"/>
            <a:stretch/>
          </p:blipFill>
          <p:spPr>
            <a:xfrm>
              <a:off x="4800600" y="2209680"/>
              <a:ext cx="906120" cy="12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Box 32"/>
            <p:cNvSpPr/>
            <p:nvPr/>
          </p:nvSpPr>
          <p:spPr>
            <a:xfrm>
              <a:off x="4806360" y="19051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4657680" y="320076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2.33.4.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Straight Connector 58"/>
          <p:cNvSpPr/>
          <p:nvPr/>
        </p:nvSpPr>
        <p:spPr>
          <a:xfrm flipV="1">
            <a:off x="5867280" y="3200400"/>
            <a:ext cx="1905120" cy="137160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34"/>
          <p:cNvGrpSpPr/>
          <p:nvPr/>
        </p:nvGrpSpPr>
        <p:grpSpPr>
          <a:xfrm>
            <a:off x="6410160" y="2286000"/>
            <a:ext cx="1384560" cy="1664280"/>
            <a:chOff x="6410160" y="2286000"/>
            <a:chExt cx="1384560" cy="1664280"/>
          </a:xfrm>
        </p:grpSpPr>
        <p:pic>
          <p:nvPicPr>
            <p:cNvPr id="430" name="Picture 35" descr="auth.jpg"/>
            <p:cNvPicPr/>
            <p:nvPr/>
          </p:nvPicPr>
          <p:blipFill>
            <a:blip r:embed="rId7"/>
            <a:stretch/>
          </p:blipFill>
          <p:spPr>
            <a:xfrm>
              <a:off x="6553080" y="2590920"/>
              <a:ext cx="906120" cy="12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Box 36"/>
            <p:cNvSpPr/>
            <p:nvPr/>
          </p:nvSpPr>
          <p:spPr>
            <a:xfrm>
              <a:off x="6558840" y="2286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7"/>
            <p:cNvSpPr/>
            <p:nvPr/>
          </p:nvSpPr>
          <p:spPr>
            <a:xfrm>
              <a:off x="6410160" y="358200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8.8.10.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38"/>
          <p:cNvGrpSpPr/>
          <p:nvPr/>
        </p:nvGrpSpPr>
        <p:grpSpPr>
          <a:xfrm>
            <a:off x="7099200" y="3809880"/>
            <a:ext cx="1764000" cy="1664280"/>
            <a:chOff x="7099200" y="3809880"/>
            <a:chExt cx="1764000" cy="1664280"/>
          </a:xfrm>
        </p:grpSpPr>
        <p:pic>
          <p:nvPicPr>
            <p:cNvPr id="434" name="Picture 39" descr="auth.jpg"/>
            <p:cNvPicPr/>
            <p:nvPr/>
          </p:nvPicPr>
          <p:blipFill>
            <a:blip r:embed="rId8"/>
            <a:stretch/>
          </p:blipFill>
          <p:spPr>
            <a:xfrm>
              <a:off x="7238880" y="4114800"/>
              <a:ext cx="906480" cy="12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40"/>
            <p:cNvSpPr/>
            <p:nvPr/>
          </p:nvSpPr>
          <p:spPr>
            <a:xfrm>
              <a:off x="7245000" y="38098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41"/>
            <p:cNvSpPr/>
            <p:nvPr/>
          </p:nvSpPr>
          <p:spPr>
            <a:xfrm>
              <a:off x="7099200" y="5105880"/>
              <a:ext cx="17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2.203.23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42"/>
          <p:cNvGrpSpPr/>
          <p:nvPr/>
        </p:nvGrpSpPr>
        <p:grpSpPr>
          <a:xfrm>
            <a:off x="7553160" y="1905120"/>
            <a:ext cx="1384560" cy="1663920"/>
            <a:chOff x="7553160" y="1905120"/>
            <a:chExt cx="1384560" cy="1663920"/>
          </a:xfrm>
        </p:grpSpPr>
        <p:pic>
          <p:nvPicPr>
            <p:cNvPr id="438" name="Picture 43" descr="auth.jpg"/>
            <p:cNvPicPr/>
            <p:nvPr/>
          </p:nvPicPr>
          <p:blipFill>
            <a:blip r:embed="rId9"/>
            <a:stretch/>
          </p:blipFill>
          <p:spPr>
            <a:xfrm>
              <a:off x="7696080" y="2209680"/>
              <a:ext cx="906120" cy="12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Box 44"/>
            <p:cNvSpPr/>
            <p:nvPr/>
          </p:nvSpPr>
          <p:spPr>
            <a:xfrm>
              <a:off x="7701840" y="19051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45"/>
            <p:cNvSpPr/>
            <p:nvPr/>
          </p:nvSpPr>
          <p:spPr>
            <a:xfrm>
              <a:off x="7553160" y="320076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2.5.5.24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Straight Connector 46"/>
          <p:cNvSpPr/>
          <p:nvPr/>
        </p:nvSpPr>
        <p:spPr>
          <a:xfrm flipV="1">
            <a:off x="1752480" y="5181480"/>
            <a:ext cx="1295640" cy="7632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48"/>
          <p:cNvSpPr/>
          <p:nvPr/>
        </p:nvSpPr>
        <p:spPr>
          <a:xfrm flipV="1">
            <a:off x="5257800" y="3504960"/>
            <a:ext cx="1371600" cy="60948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51"/>
          <p:cNvSpPr/>
          <p:nvPr/>
        </p:nvSpPr>
        <p:spPr>
          <a:xfrm>
            <a:off x="3505320" y="3352680"/>
            <a:ext cx="380880" cy="83844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54"/>
          <p:cNvSpPr/>
          <p:nvPr/>
        </p:nvSpPr>
        <p:spPr>
          <a:xfrm flipV="1">
            <a:off x="5104800" y="3200040"/>
            <a:ext cx="75960" cy="76212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56"/>
          <p:cNvSpPr/>
          <p:nvPr/>
        </p:nvSpPr>
        <p:spPr>
          <a:xfrm>
            <a:off x="5943600" y="4800600"/>
            <a:ext cx="1371600" cy="15228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1"/>
          <p:cNvSpPr/>
          <p:nvPr/>
        </p:nvSpPr>
        <p:spPr>
          <a:xfrm>
            <a:off x="4044240" y="4495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424E-ACC1-4EC0-9E2D-9D791DB1B6F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6D91-28D8-48BA-8B21-DBEB4361C714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roots.tiff"/>
          <p:cNvPicPr/>
          <p:nvPr/>
        </p:nvPicPr>
        <p:blipFill>
          <a:blip r:embed="rId2"/>
          <a:srcRect l="5109" t="17731" r="6715" b="10899"/>
          <a:stretch/>
        </p:blipFill>
        <p:spPr>
          <a:xfrm>
            <a:off x="228600" y="1295280"/>
            <a:ext cx="87026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30C3-A52D-4B8A-88C0-774FEA0F136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7DA-5E87-4E81-AE65-E1BB707C42C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Screen Shot 2014-03-05 at 9.24.10 AM.png"/>
          <p:cNvPicPr/>
          <p:nvPr/>
        </p:nvPicPr>
        <p:blipFill>
          <a:blip r:embed="rId2"/>
          <a:stretch/>
        </p:blipFill>
        <p:spPr>
          <a:xfrm>
            <a:off x="457200" y="914400"/>
            <a:ext cx="8077320" cy="57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r computer’s DNS server never heard of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ise.ufl.edu</a:t>
            </a:r>
            <a:r>
              <a:rPr b="0" lang="en-US" sz="3200" spc="-1" strike="noStrike">
                <a:solidFill>
                  <a:srgbClr val="7f7f7f"/>
                </a:solidFill>
                <a:latin typeface="Corbel"/>
              </a:rPr>
              <a:t>.roo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… so it pulls the domain name apart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is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 computer in the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.ufl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uf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 domain in the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.edu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edu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 domain in the </a:t>
            </a:r>
            <a:r>
              <a:rPr b="0" lang="en-US" sz="2800" spc="-1" strike="noStrike">
                <a:solidFill>
                  <a:srgbClr val="7f7f7f"/>
                </a:solidFill>
                <a:latin typeface="Corbel"/>
              </a:rPr>
              <a:t>.roo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the DNS begins at the end and starts asking for the numbers of the ANS computers … who’s the ANS for the </a:t>
            </a:r>
            <a:r>
              <a:rPr b="0" lang="en-US" sz="3200" spc="-1" strike="noStrike">
                <a:solidFill>
                  <a:srgbClr val="a6a6a6"/>
                </a:solidFill>
                <a:latin typeface="Corbel"/>
              </a:rPr>
              <a:t>.roo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mai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F9D7-C6FA-442B-A6F8-34CEC0FC86C2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5D3-C6A5-4B9D-9C85-7C1715ED8C9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ounded Rectangle 2"/>
          <p:cNvSpPr/>
          <p:nvPr/>
        </p:nvSpPr>
        <p:spPr>
          <a:xfrm>
            <a:off x="838080" y="5715000"/>
            <a:ext cx="4419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mplied – on all addresses, so don’t bother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Straight Arrow Connector 6"/>
          <p:cNvCxnSpPr/>
          <p:nvPr/>
        </p:nvCxnSpPr>
        <p:spPr>
          <a:xfrm flipV="1">
            <a:off x="5562360" y="5638320"/>
            <a:ext cx="1080" cy="5342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466" name="Straight Connector 8"/>
          <p:cNvSpPr/>
          <p:nvPr/>
        </p:nvSpPr>
        <p:spPr>
          <a:xfrm flipH="1">
            <a:off x="5257440" y="6172200"/>
            <a:ext cx="304920" cy="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give me the number of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.edu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tting that it asks it the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.edu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tho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give me the number of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.ufl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tting that it asks it the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.ufl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S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give me the number of t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is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tting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128.227.205.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it addresses your email and sends it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mplification: it might have cache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.edu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ho an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.ufl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ho, which saves those 2 requ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C7B-D7CF-4AAA-84A4-FBA87AF2298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E39A-29FE-4273-A6FC-4CCC5D27B63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ache is a list of previous lookups or previously computed values that are kept on the assumption they will be needed again so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say the AN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ache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addresses it’s fou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aching – keeping a copy around in case it’s needed agai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call that the first step in a look up is to check the cache … it may be there, and if so, the lookup is do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7895-5D68-4ECC-A47E-EFFB9C511C8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6E3-02D8-471C-B71C-8AC5D7C1EAE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your computer is eenie, and your friend is using mo … his/her earlier mail or visit to cise.ufl.edu helps you … the IP-address will already be in the cac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A2C-3CDD-4FF4-8941-419394EF922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44A2-79A1-41F2-8039-10208B2606A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27"/>
          <p:cNvGrpSpPr/>
          <p:nvPr/>
        </p:nvGrpSpPr>
        <p:grpSpPr>
          <a:xfrm>
            <a:off x="304920" y="2895480"/>
            <a:ext cx="8102520" cy="2907000"/>
            <a:chOff x="304920" y="2895480"/>
            <a:chExt cx="8102520" cy="2907000"/>
          </a:xfrm>
        </p:grpSpPr>
        <p:sp>
          <p:nvSpPr>
            <p:cNvPr id="483" name="Straight Connector 12"/>
            <p:cNvSpPr/>
            <p:nvPr/>
          </p:nvSpPr>
          <p:spPr>
            <a:xfrm>
              <a:off x="539280" y="4339800"/>
              <a:ext cx="5710680" cy="144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6" descr="auth.jpg"/>
            <p:cNvPicPr/>
            <p:nvPr/>
          </p:nvPicPr>
          <p:blipFill>
            <a:blip r:embed="rId2"/>
            <a:stretch/>
          </p:blipFill>
          <p:spPr>
            <a:xfrm>
              <a:off x="691560" y="3427560"/>
              <a:ext cx="905760" cy="12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7" descr="node.jpg"/>
            <p:cNvPicPr/>
            <p:nvPr/>
          </p:nvPicPr>
          <p:blipFill>
            <a:blip r:embed="rId3"/>
            <a:stretch/>
          </p:blipFill>
          <p:spPr>
            <a:xfrm>
              <a:off x="1986120" y="350352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8" descr="node.jpg"/>
            <p:cNvPicPr/>
            <p:nvPr/>
          </p:nvPicPr>
          <p:blipFill>
            <a:blip r:embed="rId4"/>
            <a:stretch/>
          </p:blipFill>
          <p:spPr>
            <a:xfrm>
              <a:off x="3052080" y="350352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node.jpg"/>
            <p:cNvPicPr/>
            <p:nvPr/>
          </p:nvPicPr>
          <p:blipFill>
            <a:blip r:embed="rId5"/>
            <a:stretch/>
          </p:blipFill>
          <p:spPr>
            <a:xfrm>
              <a:off x="4118040" y="350352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0" descr="node.jpg"/>
            <p:cNvPicPr/>
            <p:nvPr/>
          </p:nvPicPr>
          <p:blipFill>
            <a:blip r:embed="rId6"/>
            <a:stretch/>
          </p:blipFill>
          <p:spPr>
            <a:xfrm>
              <a:off x="5184000" y="350352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13" descr="cloud.jpeg"/>
            <p:cNvPicPr/>
            <p:nvPr/>
          </p:nvPicPr>
          <p:blipFill>
            <a:blip r:embed="rId7"/>
            <a:stretch/>
          </p:blipFill>
          <p:spPr>
            <a:xfrm>
              <a:off x="6783120" y="2895480"/>
              <a:ext cx="162432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Straight Connector 15"/>
            <p:cNvSpPr/>
            <p:nvPr/>
          </p:nvSpPr>
          <p:spPr>
            <a:xfrm flipV="1">
              <a:off x="6250320" y="3959280"/>
              <a:ext cx="609120" cy="37980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18"/>
            <p:cNvSpPr/>
            <p:nvPr/>
          </p:nvSpPr>
          <p:spPr>
            <a:xfrm>
              <a:off x="7245360" y="34275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Box 19"/>
            <p:cNvSpPr/>
            <p:nvPr/>
          </p:nvSpPr>
          <p:spPr>
            <a:xfrm>
              <a:off x="778320" y="3123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TextBox 20" descr=""/>
            <p:cNvPicPr/>
            <p:nvPr/>
          </p:nvPicPr>
          <p:blipFill>
            <a:blip r:embed="rId8"/>
            <a:stretch/>
          </p:blipFill>
          <p:spPr>
            <a:xfrm>
              <a:off x="304920" y="4713840"/>
              <a:ext cx="1784520" cy="10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Box 20"/>
            <p:cNvSpPr/>
            <p:nvPr/>
          </p:nvSpPr>
          <p:spPr>
            <a:xfrm>
              <a:off x="5191200" y="44161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20"/>
            <p:cNvSpPr/>
            <p:nvPr/>
          </p:nvSpPr>
          <p:spPr>
            <a:xfrm>
              <a:off x="4100040" y="44161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Box 20"/>
            <p:cNvSpPr/>
            <p:nvPr/>
          </p:nvSpPr>
          <p:spPr>
            <a:xfrm>
              <a:off x="3008520" y="44161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20"/>
            <p:cNvSpPr/>
            <p:nvPr/>
          </p:nvSpPr>
          <p:spPr>
            <a:xfrm>
              <a:off x="1917000" y="44161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Box 21"/>
            <p:cNvSpPr/>
            <p:nvPr/>
          </p:nvSpPr>
          <p:spPr>
            <a:xfrm>
              <a:off x="471600" y="44161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4.2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Rectangle 22" descr=""/>
            <p:cNvPicPr/>
            <p:nvPr/>
          </p:nvPicPr>
          <p:blipFill>
            <a:blip r:embed="rId9"/>
            <a:stretch/>
          </p:blipFill>
          <p:spPr>
            <a:xfrm>
              <a:off x="2059200" y="3272400"/>
              <a:ext cx="75528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Rectangle 23" descr=""/>
            <p:cNvPicPr/>
            <p:nvPr/>
          </p:nvPicPr>
          <p:blipFill>
            <a:blip r:embed="rId10"/>
            <a:stretch/>
          </p:blipFill>
          <p:spPr>
            <a:xfrm>
              <a:off x="3052080" y="3272400"/>
              <a:ext cx="94392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Rectangle 24" descr=""/>
            <p:cNvPicPr/>
            <p:nvPr/>
          </p:nvPicPr>
          <p:blipFill>
            <a:blip r:embed="rId11"/>
            <a:stretch/>
          </p:blipFill>
          <p:spPr>
            <a:xfrm>
              <a:off x="4343400" y="3272400"/>
              <a:ext cx="74304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Rectangle 25" descr=""/>
            <p:cNvPicPr/>
            <p:nvPr/>
          </p:nvPicPr>
          <p:blipFill>
            <a:blip r:embed="rId12"/>
            <a:stretch/>
          </p:blipFill>
          <p:spPr>
            <a:xfrm>
              <a:off x="5409360" y="3272400"/>
              <a:ext cx="511560" cy="37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504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A792-D792-4E18-8460-4A83BF56F01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251-7D96-4A1C-B847-62ED8543DD7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Content Placeholder 3" descr="internet3.tiff"/>
          <p:cNvPicPr/>
          <p:nvPr/>
        </p:nvPicPr>
        <p:blipFill>
          <a:blip r:embed="rId2"/>
          <a:srcRect l="0" t="9433" r="1292" b="3678"/>
          <a:stretch/>
        </p:blipFill>
        <p:spPr>
          <a:xfrm>
            <a:off x="0" y="1066680"/>
            <a:ext cx="9171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509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CD7-06D1-4318-A315-6176F9C700E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E080-AB7E-4E8B-9A6B-8DDC8C6D5B0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Content Placeholder 3" descr="internet3.tiff"/>
          <p:cNvPicPr/>
          <p:nvPr/>
        </p:nvPicPr>
        <p:blipFill>
          <a:blip r:embed="rId2"/>
          <a:srcRect l="0" t="9433" r="1292" b="3678"/>
          <a:stretch/>
        </p:blipFill>
        <p:spPr>
          <a:xfrm>
            <a:off x="0" y="1066680"/>
            <a:ext cx="9171000" cy="54864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2"/>
          <p:cNvSpPr/>
          <p:nvPr/>
        </p:nvSpPr>
        <p:spPr>
          <a:xfrm>
            <a:off x="6402240" y="19810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root ANS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"/>
          <p:cNvSpPr/>
          <p:nvPr/>
        </p:nvSpPr>
        <p:spPr>
          <a:xfrm>
            <a:off x="5335200" y="3962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.edu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996840" y="1752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.washington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9"/>
          <p:cNvSpPr/>
          <p:nvPr/>
        </p:nvSpPr>
        <p:spPr>
          <a:xfrm>
            <a:off x="3581280" y="57913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uf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0"/>
          <p:cNvSpPr/>
          <p:nvPr/>
        </p:nvSpPr>
        <p:spPr>
          <a:xfrm>
            <a:off x="4192560" y="12193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.Your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1"/>
          <p:cNvSpPr/>
          <p:nvPr/>
        </p:nvSpPr>
        <p:spPr>
          <a:xfrm>
            <a:off x="4195800" y="60199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.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send mail to my friend Alan Fekete, I write </a:t>
            </a: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fekete@it.usyd.edu.a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happens nex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2EF-9FDE-4703-BF6D-85D844AD10B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048-BDA6-4F44-8D9A-5FCB3713D86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Logica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Humans use domain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spiff.cs.washington.ed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Computers use number-qua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128.208.3.136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is different than the phone syste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eople use numbers: 1 800 555 121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equipment uses the same numb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key property of computers: they can separate the logical form (preferred by people) from the physical form they must us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BE46-9049-4EE9-AF53-5D51EFCF26E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F1F6-E72E-4930-9AFF-F40FD814D7C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’s huge – 10’s of millions of compu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100% autonomous – no human involved … does that make it a rob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always there – though it is just as error-prone as every other kind of 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provides an amazing serv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F71-7DE4-417F-BCE3-248FD753801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B18B-6062-4A4A-A5A0-BF6E8ECC9D2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are your questio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’m a teacher of computer science, AM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6B0-4B2A-4B54-B519-0900BB0FC80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49E3-02A8-4FD2-8BE7-46487A71CC98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Internet is completely decentraliz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 one is in charge – ICAN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ew companies get permission to give users or organizations IP-addresses – not much logic to 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a person or organization gets an IP-address, it picks a domain name – few rules except to tell the company that gave it out, what the domain 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ce connected to I’net, users start using domain name … but when someone refers to it, how does their computer get its number?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3EAD-610C-40C1-B0AD-88B2597E666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9F3C-5D2E-430C-B0E9-332DD777BF1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5431320" y="1600200"/>
            <a:ext cx="3503160" cy="64260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Internet Corpor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Assigned Names and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we send mail to a friend at the U of FL, we type friend@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ise.ufl.edu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the computer that sends mail for us on campus needs to find out this fact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ise.ufl.edu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=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128.227.205.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said it asks the Domain Name System, or DNS … so what happ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B1C4-B4D5-4B04-AD92-74CC0EE0DFE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9AF4-EBD1-4001-90D4-E0997B5AA62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does it know the address of the D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(or someone or something who set up your computer) told it when connecting it to the network … look in net control pan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501C-91C0-4AE5-9AEB-7DD1680F7FE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3DCE-BA8E-41D4-BA2B-7152DCC09EE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dns1.gif"/>
          <p:cNvPicPr/>
          <p:nvPr/>
        </p:nvPicPr>
        <p:blipFill>
          <a:blip r:embed="rId2"/>
          <a:srcRect l="0" t="0" r="0" b="51637"/>
          <a:stretch/>
        </p:blipFill>
        <p:spPr>
          <a:xfrm>
            <a:off x="990720" y="3200400"/>
            <a:ext cx="5257800" cy="31640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7"/>
          <p:cNvSpPr/>
          <p:nvPr/>
        </p:nvSpPr>
        <p:spPr>
          <a:xfrm>
            <a:off x="5029200" y="4800600"/>
            <a:ext cx="2590920" cy="192276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The following explanation describes what these machine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DNS server answers the question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number i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ise.ufl.edu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?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y this meth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 Step: Look it up in its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ddress book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NS server does th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keeps its own address book, a list of all of the domain names like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ise.ufl.edu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at it has been asked about and fou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checks in its address book first, looking under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ise.ufl.ed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C264-7868-461D-9679-EA4EBC4E7C2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4B59-87C3-49E2-88A5-3F49C98F6D6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address will not be in the address book if this is the first request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Step: The DNS server begins a process of finding the address on behalf of your computer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 process uses 2 Facts of I’ne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DFC-A49C-42E2-B055-1F7BDD375D4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54B4-1015-4A93-A974-3C428A7FDA9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ery domain has an authoritative name server, which I’ll call 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wo Cases: ANS knows the number of every computer in its doma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EBA-2A34-4028-BB5B-4CD6AC5950E2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98F8-D5D8-4C74-BE47-C39ED30B5BF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7"/>
          <p:cNvGrpSpPr/>
          <p:nvPr/>
        </p:nvGrpSpPr>
        <p:grpSpPr>
          <a:xfrm>
            <a:off x="304920" y="1828800"/>
            <a:ext cx="8102520" cy="2906640"/>
            <a:chOff x="304920" y="1828800"/>
            <a:chExt cx="8102520" cy="2906640"/>
          </a:xfrm>
        </p:grpSpPr>
        <p:sp>
          <p:nvSpPr>
            <p:cNvPr id="346" name="Straight Connector 12"/>
            <p:cNvSpPr/>
            <p:nvPr/>
          </p:nvSpPr>
          <p:spPr>
            <a:xfrm>
              <a:off x="539280" y="3273120"/>
              <a:ext cx="5710680" cy="144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6" descr="auth.jpg"/>
            <p:cNvPicPr/>
            <p:nvPr/>
          </p:nvPicPr>
          <p:blipFill>
            <a:blip r:embed="rId2"/>
            <a:stretch/>
          </p:blipFill>
          <p:spPr>
            <a:xfrm>
              <a:off x="691560" y="2360880"/>
              <a:ext cx="90576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7" descr="node.jpg"/>
            <p:cNvPicPr/>
            <p:nvPr/>
          </p:nvPicPr>
          <p:blipFill>
            <a:blip r:embed="rId3"/>
            <a:stretch/>
          </p:blipFill>
          <p:spPr>
            <a:xfrm>
              <a:off x="1986120" y="243684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8" descr="node.jpg"/>
            <p:cNvPicPr/>
            <p:nvPr/>
          </p:nvPicPr>
          <p:blipFill>
            <a:blip r:embed="rId4"/>
            <a:stretch/>
          </p:blipFill>
          <p:spPr>
            <a:xfrm>
              <a:off x="3052080" y="243684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9" descr="node.jpg"/>
            <p:cNvPicPr/>
            <p:nvPr/>
          </p:nvPicPr>
          <p:blipFill>
            <a:blip r:embed="rId5"/>
            <a:stretch/>
          </p:blipFill>
          <p:spPr>
            <a:xfrm>
              <a:off x="4118040" y="243684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0" descr="node.jpg"/>
            <p:cNvPicPr/>
            <p:nvPr/>
          </p:nvPicPr>
          <p:blipFill>
            <a:blip r:embed="rId6"/>
            <a:stretch/>
          </p:blipFill>
          <p:spPr>
            <a:xfrm>
              <a:off x="5184000" y="2436840"/>
              <a:ext cx="9388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3" descr="cloud.jpeg"/>
            <p:cNvPicPr/>
            <p:nvPr/>
          </p:nvPicPr>
          <p:blipFill>
            <a:blip r:embed="rId7"/>
            <a:stretch/>
          </p:blipFill>
          <p:spPr>
            <a:xfrm>
              <a:off x="6783120" y="1828800"/>
              <a:ext cx="1624320" cy="16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Straight Connector 15"/>
            <p:cNvSpPr/>
            <p:nvPr/>
          </p:nvSpPr>
          <p:spPr>
            <a:xfrm flipV="1">
              <a:off x="6250320" y="2892600"/>
              <a:ext cx="609120" cy="37980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8"/>
            <p:cNvSpPr/>
            <p:nvPr/>
          </p:nvSpPr>
          <p:spPr>
            <a:xfrm>
              <a:off x="7245360" y="23608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>
              <a:off x="778320" y="2056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TextBox 20" descr=""/>
            <p:cNvPicPr/>
            <p:nvPr/>
          </p:nvPicPr>
          <p:blipFill>
            <a:blip r:embed="rId8"/>
            <a:stretch/>
          </p:blipFill>
          <p:spPr>
            <a:xfrm>
              <a:off x="304920" y="3647160"/>
              <a:ext cx="1784520" cy="108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20"/>
            <p:cNvSpPr/>
            <p:nvPr/>
          </p:nvSpPr>
          <p:spPr>
            <a:xfrm>
              <a:off x="5191200" y="33494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20"/>
            <p:cNvSpPr/>
            <p:nvPr/>
          </p:nvSpPr>
          <p:spPr>
            <a:xfrm>
              <a:off x="4100040" y="33494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20"/>
            <p:cNvSpPr/>
            <p:nvPr/>
          </p:nvSpPr>
          <p:spPr>
            <a:xfrm>
              <a:off x="3008520" y="33494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20"/>
            <p:cNvSpPr/>
            <p:nvPr/>
          </p:nvSpPr>
          <p:spPr>
            <a:xfrm>
              <a:off x="1917000" y="334944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5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21"/>
            <p:cNvSpPr/>
            <p:nvPr/>
          </p:nvSpPr>
          <p:spPr>
            <a:xfrm>
              <a:off x="471600" y="334944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3.4.4.2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Rectangle 22" descr=""/>
            <p:cNvPicPr/>
            <p:nvPr/>
          </p:nvPicPr>
          <p:blipFill>
            <a:blip r:embed="rId9"/>
            <a:stretch/>
          </p:blipFill>
          <p:spPr>
            <a:xfrm>
              <a:off x="2059200" y="2205720"/>
              <a:ext cx="75528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Rectangle 23" descr=""/>
            <p:cNvPicPr/>
            <p:nvPr/>
          </p:nvPicPr>
          <p:blipFill>
            <a:blip r:embed="rId10"/>
            <a:stretch/>
          </p:blipFill>
          <p:spPr>
            <a:xfrm>
              <a:off x="3052080" y="2205720"/>
              <a:ext cx="94392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Rectangle 24" descr=""/>
            <p:cNvPicPr/>
            <p:nvPr/>
          </p:nvPicPr>
          <p:blipFill>
            <a:blip r:embed="rId11"/>
            <a:stretch/>
          </p:blipFill>
          <p:spPr>
            <a:xfrm>
              <a:off x="4343400" y="2205720"/>
              <a:ext cx="743040" cy="3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Rectangle 25" descr=""/>
            <p:cNvPicPr/>
            <p:nvPr/>
          </p:nvPicPr>
          <p:blipFill>
            <a:blip r:embed="rId12"/>
            <a:stretch/>
          </p:blipFill>
          <p:spPr>
            <a:xfrm>
              <a:off x="5409360" y="2205720"/>
              <a:ext cx="511560" cy="37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 ANS knows the number of every ANS computer in its doma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example … think about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.ed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5188-CDB4-443B-B2B3-460A188513D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5FAA-9B6C-486D-9583-56586074803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40"/>
          <p:cNvGrpSpPr/>
          <p:nvPr/>
        </p:nvGrpSpPr>
        <p:grpSpPr>
          <a:xfrm>
            <a:off x="685800" y="1828800"/>
            <a:ext cx="8102520" cy="3187800"/>
            <a:chOff x="685800" y="1828800"/>
            <a:chExt cx="8102520" cy="3187800"/>
          </a:xfrm>
        </p:grpSpPr>
        <p:pic>
          <p:nvPicPr>
            <p:cNvPr id="372" name="Picture 13" descr="cloud.jpeg"/>
            <p:cNvPicPr/>
            <p:nvPr/>
          </p:nvPicPr>
          <p:blipFill>
            <a:blip r:embed="rId2"/>
            <a:stretch/>
          </p:blipFill>
          <p:spPr>
            <a:xfrm>
              <a:off x="7162920" y="1828800"/>
              <a:ext cx="1625400" cy="16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Group 38"/>
            <p:cNvGrpSpPr/>
            <p:nvPr/>
          </p:nvGrpSpPr>
          <p:grpSpPr>
            <a:xfrm>
              <a:off x="685800" y="2057400"/>
              <a:ext cx="7895520" cy="2959200"/>
              <a:chOff x="685800" y="2057400"/>
              <a:chExt cx="7895520" cy="2959200"/>
            </a:xfrm>
          </p:grpSpPr>
          <p:sp>
            <p:nvSpPr>
              <p:cNvPr id="374" name="Straight Connector 31"/>
              <p:cNvSpPr/>
              <p:nvPr/>
            </p:nvSpPr>
            <p:spPr>
              <a:xfrm flipV="1">
                <a:off x="6021360" y="3277800"/>
                <a:ext cx="2880" cy="1676520"/>
              </a:xfrm>
              <a:prstGeom prst="line">
                <a:avLst/>
              </a:prstGeom>
              <a:ln w="47880">
                <a:solidFill>
                  <a:srgbClr val="f0a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Straight Connector 35"/>
              <p:cNvSpPr/>
              <p:nvPr/>
            </p:nvSpPr>
            <p:spPr>
              <a:xfrm flipV="1">
                <a:off x="4955760" y="3277800"/>
                <a:ext cx="2880" cy="1676520"/>
              </a:xfrm>
              <a:prstGeom prst="line">
                <a:avLst/>
              </a:prstGeom>
              <a:ln w="47880">
                <a:solidFill>
                  <a:srgbClr val="f0a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Straight Connector 39"/>
              <p:cNvSpPr/>
              <p:nvPr/>
            </p:nvSpPr>
            <p:spPr>
              <a:xfrm flipV="1">
                <a:off x="3890160" y="3277800"/>
                <a:ext cx="2880" cy="1676520"/>
              </a:xfrm>
              <a:prstGeom prst="line">
                <a:avLst/>
              </a:prstGeom>
              <a:ln w="47880">
                <a:solidFill>
                  <a:srgbClr val="f0a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Straight Connector 28"/>
              <p:cNvSpPr/>
              <p:nvPr/>
            </p:nvSpPr>
            <p:spPr>
              <a:xfrm flipV="1">
                <a:off x="2824560" y="3277800"/>
                <a:ext cx="2880" cy="1676520"/>
              </a:xfrm>
              <a:prstGeom prst="line">
                <a:avLst/>
              </a:prstGeom>
              <a:ln w="47880">
                <a:solidFill>
                  <a:srgbClr val="f0a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Straight Connector 12"/>
              <p:cNvSpPr/>
              <p:nvPr/>
            </p:nvSpPr>
            <p:spPr>
              <a:xfrm>
                <a:off x="923040" y="3276720"/>
                <a:ext cx="5708520" cy="1440"/>
              </a:xfrm>
              <a:prstGeom prst="line">
                <a:avLst/>
              </a:prstGeom>
              <a:ln w="47880">
                <a:solidFill>
                  <a:srgbClr val="f0a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Picture 6" descr="auth.jpg"/>
              <p:cNvPicPr/>
              <p:nvPr/>
            </p:nvPicPr>
            <p:blipFill>
              <a:blip r:embed="rId3"/>
              <a:stretch/>
            </p:blipFill>
            <p:spPr>
              <a:xfrm>
                <a:off x="1075320" y="2361960"/>
                <a:ext cx="90540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Straight Connector 15"/>
              <p:cNvSpPr/>
              <p:nvPr/>
            </p:nvSpPr>
            <p:spPr>
              <a:xfrm flipV="1">
                <a:off x="6631560" y="2895480"/>
                <a:ext cx="608760" cy="380880"/>
              </a:xfrm>
              <a:prstGeom prst="line">
                <a:avLst/>
              </a:prstGeom>
              <a:ln w="47880">
                <a:solidFill>
                  <a:srgbClr val="f0a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Box 18"/>
              <p:cNvSpPr/>
              <p:nvPr/>
            </p:nvSpPr>
            <p:spPr>
              <a:xfrm>
                <a:off x="7626240" y="236196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Box 19"/>
              <p:cNvSpPr/>
              <p:nvPr/>
            </p:nvSpPr>
            <p:spPr>
              <a:xfrm>
                <a:off x="1161720" y="20574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3" name="TextBox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800" y="3651480"/>
                <a:ext cx="1692720" cy="109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TextBox 21"/>
              <p:cNvSpPr/>
              <p:nvPr/>
            </p:nvSpPr>
            <p:spPr>
              <a:xfrm>
                <a:off x="855360" y="3352680"/>
                <a:ext cx="138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3.4.4.25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5" name="Picture 6" descr="auth.jpg"/>
              <p:cNvPicPr/>
              <p:nvPr/>
            </p:nvPicPr>
            <p:blipFill>
              <a:blip r:embed="rId5"/>
              <a:stretch/>
            </p:blipFill>
            <p:spPr>
              <a:xfrm>
                <a:off x="2369160" y="2361960"/>
                <a:ext cx="905400" cy="12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6" descr="auth.jpg"/>
              <p:cNvPicPr/>
              <p:nvPr/>
            </p:nvPicPr>
            <p:blipFill>
              <a:blip r:embed="rId6"/>
              <a:stretch/>
            </p:blipFill>
            <p:spPr>
              <a:xfrm>
                <a:off x="3434760" y="2361960"/>
                <a:ext cx="905400" cy="12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Picture 6" descr="auth.jpg"/>
              <p:cNvPicPr/>
              <p:nvPr/>
            </p:nvPicPr>
            <p:blipFill>
              <a:blip r:embed="rId7"/>
              <a:stretch/>
            </p:blipFill>
            <p:spPr>
              <a:xfrm>
                <a:off x="4500360" y="2361960"/>
                <a:ext cx="905400" cy="12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Picture 6" descr="auth.jpg"/>
              <p:cNvPicPr/>
              <p:nvPr/>
            </p:nvPicPr>
            <p:blipFill>
              <a:blip r:embed="rId8"/>
              <a:stretch/>
            </p:blipFill>
            <p:spPr>
              <a:xfrm>
                <a:off x="5565960" y="2361960"/>
                <a:ext cx="90540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TextBox 20"/>
              <p:cNvSpPr/>
              <p:nvPr/>
            </p:nvSpPr>
            <p:spPr>
              <a:xfrm>
                <a:off x="5573160" y="335268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3.4.5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Box 20"/>
              <p:cNvSpPr/>
              <p:nvPr/>
            </p:nvSpPr>
            <p:spPr>
              <a:xfrm>
                <a:off x="4482360" y="335268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3.4.5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Box 20"/>
              <p:cNvSpPr/>
              <p:nvPr/>
            </p:nvSpPr>
            <p:spPr>
              <a:xfrm>
                <a:off x="3391200" y="335268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3.4.5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Box 20"/>
              <p:cNvSpPr/>
              <p:nvPr/>
            </p:nvSpPr>
            <p:spPr>
              <a:xfrm>
                <a:off x="2300400" y="335268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3.4.5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3" name="Picture 7" descr="node.jpg"/>
              <p:cNvPicPr/>
              <p:nvPr/>
            </p:nvPicPr>
            <p:blipFill>
              <a:blip r:embed="rId9"/>
              <a:stretch/>
            </p:blipFill>
            <p:spPr>
              <a:xfrm>
                <a:off x="2597760" y="36576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7" descr="node.jpg"/>
              <p:cNvPicPr/>
              <p:nvPr/>
            </p:nvPicPr>
            <p:blipFill>
              <a:blip r:embed="rId10"/>
              <a:stretch/>
            </p:blipFill>
            <p:spPr>
              <a:xfrm>
                <a:off x="2597760" y="41148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Box 20"/>
              <p:cNvSpPr/>
              <p:nvPr/>
            </p:nvSpPr>
            <p:spPr>
              <a:xfrm>
                <a:off x="2450520" y="4648320"/>
                <a:ext cx="826920" cy="368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om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6" name="Picture 7" descr="node.jpg"/>
              <p:cNvPicPr/>
              <p:nvPr/>
            </p:nvPicPr>
            <p:blipFill>
              <a:blip r:embed="rId11"/>
              <a:stretch/>
            </p:blipFill>
            <p:spPr>
              <a:xfrm>
                <a:off x="5794560" y="36576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7" descr="node.jpg"/>
              <p:cNvPicPr/>
              <p:nvPr/>
            </p:nvPicPr>
            <p:blipFill>
              <a:blip r:embed="rId12"/>
              <a:stretch/>
            </p:blipFill>
            <p:spPr>
              <a:xfrm>
                <a:off x="5794560" y="41148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TextBox 20"/>
              <p:cNvSpPr/>
              <p:nvPr/>
            </p:nvSpPr>
            <p:spPr>
              <a:xfrm>
                <a:off x="5647320" y="4648320"/>
                <a:ext cx="826920" cy="368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om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9" name="Picture 7" descr="node.jpg"/>
              <p:cNvPicPr/>
              <p:nvPr/>
            </p:nvPicPr>
            <p:blipFill>
              <a:blip r:embed="rId13"/>
              <a:stretch/>
            </p:blipFill>
            <p:spPr>
              <a:xfrm>
                <a:off x="4728960" y="36576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7" descr="node.jpg"/>
              <p:cNvPicPr/>
              <p:nvPr/>
            </p:nvPicPr>
            <p:blipFill>
              <a:blip r:embed="rId14"/>
              <a:stretch/>
            </p:blipFill>
            <p:spPr>
              <a:xfrm>
                <a:off x="4728960" y="41148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TextBox 20"/>
              <p:cNvSpPr/>
              <p:nvPr/>
            </p:nvSpPr>
            <p:spPr>
              <a:xfrm>
                <a:off x="4581720" y="4648320"/>
                <a:ext cx="826920" cy="368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om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2" name="Picture 7" descr="node.jpg"/>
              <p:cNvPicPr/>
              <p:nvPr/>
            </p:nvPicPr>
            <p:blipFill>
              <a:blip r:embed="rId15"/>
              <a:stretch/>
            </p:blipFill>
            <p:spPr>
              <a:xfrm>
                <a:off x="3663360" y="36576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7" descr="node.jpg"/>
              <p:cNvPicPr/>
              <p:nvPr/>
            </p:nvPicPr>
            <p:blipFill>
              <a:blip r:embed="rId16"/>
              <a:stretch/>
            </p:blipFill>
            <p:spPr>
              <a:xfrm>
                <a:off x="3663360" y="4114800"/>
                <a:ext cx="456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TextBox 20"/>
              <p:cNvSpPr/>
              <p:nvPr/>
            </p:nvSpPr>
            <p:spPr>
              <a:xfrm>
                <a:off x="3516120" y="4648320"/>
                <a:ext cx="826920" cy="368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om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21:32Z</dcterms:created>
  <dc:creator>Information School</dc:creator>
  <dc:description/>
  <dc:language>en-US</dc:language>
  <cp:lastModifiedBy>Larry Snyder</cp:lastModifiedBy>
  <dcterms:modified xsi:type="dcterms:W3CDTF">2014-05-14T20:13:02Z</dcterms:modified>
  <cp:revision>97</cp:revision>
  <dc:subject/>
  <dc:title>Welcome to FIT100</dc:title>
</cp:coreProperties>
</file>