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jpeg" ContentType="image/jpeg"/>
  <Override PartName="/ppt/media/image25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11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36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2653-6C35-4880-8FC2-57EEA040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3070-CA01-459C-81F7-C01876DA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472-24CF-4235-A938-9EFEE139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E111-11F1-4C04-A23C-CE2FE4CD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7C4B-C7EE-47FA-892D-BA1E4B15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9C75-C00B-4136-AA53-F6B15C51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F79B-3E2A-4D36-9E09-14B6FBDD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FBEA-9C31-44B3-BAB0-86FF5D20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FB86-9E0C-4A03-96A4-1877496C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1C13-F0C3-45A3-BA6A-4D34FD2B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C7AD-79B7-4BE2-B5A3-33D5969B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F7C3-2F55-436C-BDF2-C0367AFC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FEC2-4FD8-405A-BC3B-E32A1C57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342F-E5F7-42A5-9AB3-D9321F6C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4461-2161-4A42-BC38-B138795F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A90F-1810-4249-BD88-05FEF356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6FB8-910B-4373-8765-6765C7C9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BE1EC-F8EE-442D-9101-18BF1458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02175-C552-419B-B35F-81C66B8B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665AC-130D-42DA-AF98-2076D343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7B054-D1CF-48E0-8949-6C6D5785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195BA-8F40-4F0E-BB36-507D03D5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249F-8FDA-4EE9-8003-51F74964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56978-D463-4FF7-8698-A60A462E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51395-CEBD-4E32-826A-74294A5A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7B93C-A691-40C8-85BD-ED3D5D9B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70390-D862-4C6F-963D-C725F6FB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B11FC-6D2B-4F72-A477-B88E0A16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41BA6-2989-4693-AD9E-9BECDBC21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3CB9D-8D83-4346-8EA7-E37C9B089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34959-4947-4E30-8FF8-53EA5A6D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B7BE2-9799-4524-92E6-6D3BC2DB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C51A4-12A4-4F44-815F-A9639CAB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C3C2-70FD-4879-ACF6-BA0589CB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FDA82-13A1-4803-923C-E8E59246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A513D-4A66-4AF3-BA57-7ED3BD5D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BC6F5-D92D-4799-9082-707E9020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C5AE4-F161-4C3D-9B5D-C1F51747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55924-FB3F-40FF-B205-21D06107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3658B-38F3-4203-A4D4-35A474B3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06F66-3AA8-4934-B6DD-3933C62B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14417-48B4-4B2A-95FE-D0BE385B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68F16-9087-4FA0-ADB7-C252A02A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BCBC7-F401-44CF-A021-77BC0FB5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EC22-E023-4994-8735-B79B8518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0E601-A0E6-42C3-944E-674B560B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A40FF-0DE1-4F14-A469-26B7EF07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39A51-0DDB-4800-9301-75A8C6E9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55E0B-EA89-4D15-B086-86BC4E51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A6502-942A-4FC5-9601-D85A7AB4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03483-28B2-46E9-AB5F-63388F62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26E13-726D-498E-91EA-0DC4D70A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489B8-41FE-41CB-8999-117B13D7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9D990-9069-4B37-A26E-28408194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E637C-348F-4657-A320-52FFAE1E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2280-9F49-4993-BE10-3FA083C0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9CEBB-692E-48BC-A241-4B75FD3F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44B15-4341-4BA4-9B19-2719D301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C0DAB-3150-4F35-841F-0BFF65EC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204ED-F8D3-431B-B4A4-76B3A950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10E10-8D31-4C9D-89C3-C7C5A2E9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8979D-5160-4B01-8E38-E90BCB90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EFECE-9962-4BEB-A37B-DA294292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03C1F-C645-4E11-9FF5-025F3D08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06D2A-841E-4D62-9203-22D319D9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CB77C-AE9B-4389-B0BA-09EC2B0B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6443-2C00-4C59-9F83-713A67C6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984B5-CA60-4654-90C3-08AB9E0B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C07C0-39F1-4BA1-9EDA-7092720E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EDE1B-3446-4B3A-945C-B191D00B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A0D16-108F-4766-BD0D-93A0380C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9CD13-0F98-44EA-8EA4-1B2D8CD9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F2CDB-4B02-4C3E-B3B6-69417AA4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98E85-5717-43D5-A858-812C957B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CF8F2-A246-4C0C-AFAA-1E17FACC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9E404-BC86-4F32-A692-E80EE39D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B9D5B-D071-4CEB-8E2C-9D14EAB4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7BDC-53AD-4D43-9BCA-9A2DD4F8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13E66-65FC-4415-846C-926FA1D1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F1C06-0136-4CA0-82B6-2BCD105A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A63CC-CDA4-4A63-9522-AC3B9927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B75B6-3636-49EF-B601-AE57D152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7555C-4162-4587-B8BC-830B2974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5C52-B257-4C36-9B79-BA30FC6A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449F-2B7D-4293-A224-AB06A704C922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DDFB-EF0D-4A5B-8428-45524F8B0376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B76C-0276-4300-9E13-76CB70FF3D51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C897-DD05-4A24-981E-2D1BB9AF315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FA95-A98D-40EA-9ED3-3D704D8F3FD0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B3B4-AC80-4806-98A3-BEDF97732C5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505B-F90D-4433-BA18-83A9B7DEB997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E4B9-6CE9-4F65-82DF-1CB5021AED90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FB98-5CAA-46A7-9855-8F3B1DF5A049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29F1-F197-46E2-B845-8490970C36AF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5D9C-AF25-4552-8F21-C2F4D6E34FAC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D718-ECF4-4806-A1BE-8C3622E66DFE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87CC-9048-4B8B-81EF-235318E0CB02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2FF3-344C-4956-AA99-3A42E3BACD0A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609480" y="2359080"/>
            <a:ext cx="8004240" cy="11462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762120" y="4114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Lawrence Snyde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University of Washington, Seatt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967560" y="6172200"/>
            <a:ext cx="160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6378"/>
                </a:solidFill>
                <a:latin typeface="Arial"/>
              </a:rPr>
              <a:t>© Lawrence Snyder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53CF-4F90-4574-AB38-5FE281BDD755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41CB-5003-46D7-94F4-4E6BA10702F1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7" descr="Screen Shot 2014-02-20 at 6.18.19 PM.png"/>
          <p:cNvPicPr/>
          <p:nvPr/>
        </p:nvPicPr>
        <p:blipFill>
          <a:blip r:embed="rId2"/>
          <a:stretch/>
        </p:blipFill>
        <p:spPr>
          <a:xfrm>
            <a:off x="152280" y="1219320"/>
            <a:ext cx="6400800" cy="50036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Screen Shot 2014-02-20 at 6.17.40 PM.png"/>
          <p:cNvPicPr/>
          <p:nvPr/>
        </p:nvPicPr>
        <p:blipFill>
          <a:blip r:embed="rId3"/>
          <a:stretch/>
        </p:blipFill>
        <p:spPr>
          <a:xfrm>
            <a:off x="5983200" y="228600"/>
            <a:ext cx="303696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ke the birthday array, when we click on a tile, we compute the row and column 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43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ow = (</a:t>
            </a:r>
            <a:r>
              <a:rPr b="0" lang="en-US" sz="2800" spc="-1" strike="noStrike">
                <a:solidFill>
                  <a:srgbClr val="3792aa"/>
                </a:solidFill>
                <a:latin typeface="Corbel"/>
              </a:rPr>
              <a:t>mouseY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- 100)/50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3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l   = (</a:t>
            </a:r>
            <a:r>
              <a:rPr b="0" lang="en-US" sz="2800" spc="-1" strike="noStrike">
                <a:solidFill>
                  <a:srgbClr val="3792aa"/>
                </a:solidFill>
                <a:latin typeface="Corbel"/>
              </a:rPr>
              <a:t>mouseX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- 100)/50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f the present open posi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s at ex,wy then what are legal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ove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43416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row or col can change by 1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3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ut not bot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3416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ay that as: </a:t>
            </a:r>
            <a:r>
              <a:rPr b="0" lang="en-US" sz="2800" spc="-1" strike="noStrike">
                <a:solidFill>
                  <a:srgbClr val="3792aa"/>
                </a:solidFill>
                <a:latin typeface="Corbel"/>
              </a:rPr>
              <a:t>ab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(row-ex) + </a:t>
            </a:r>
            <a:r>
              <a:rPr b="0" lang="en-US" sz="2800" spc="-1" strike="noStrike">
                <a:solidFill>
                  <a:srgbClr val="3792aa"/>
                </a:solidFill>
                <a:latin typeface="Corbel"/>
              </a:rPr>
              <a:t>ab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(col-wy) == 1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8598-5EF1-4512-8103-13527EC1E0A9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88CE-DFAB-4778-A6B9-7D4752F6B989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7" descr="Screen Shot 2014-02-20 at 7.33.32 PM.png"/>
          <p:cNvPicPr/>
          <p:nvPr/>
        </p:nvPicPr>
        <p:blipFill>
          <a:blip r:embed="rId2"/>
          <a:stretch/>
        </p:blipFill>
        <p:spPr>
          <a:xfrm>
            <a:off x="5867280" y="2514600"/>
            <a:ext cx="3035520" cy="30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d if (</a:t>
            </a:r>
            <a:r>
              <a:rPr b="0" lang="en-US" sz="3200" spc="-1" strike="noStrike">
                <a:solidFill>
                  <a:srgbClr val="3792aa"/>
                </a:solidFill>
                <a:latin typeface="Corbel"/>
              </a:rPr>
              <a:t>ab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(row-ex) + </a:t>
            </a:r>
            <a:r>
              <a:rPr b="0" lang="en-US" sz="3200" spc="-1" strike="noStrike">
                <a:solidFill>
                  <a:srgbClr val="3792aa"/>
                </a:solidFill>
                <a:latin typeface="Corbel"/>
              </a:rPr>
              <a:t>ab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(col-wy) == 1)  then what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hange tiles[ ] valu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hange shade[ ] valu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r ex,wy with row,co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 example exchange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exchange values of a and b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92aa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3792aa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3792aa"/>
                </a:solidFill>
                <a:latin typeface="Corbel"/>
              </a:rPr>
              <a:t>int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emp = a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= b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 = temp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901C-CBE4-4C27-A0AE-6DA6CC7FF6D6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3AF2-AF85-4C85-823A-0273902BAD6D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7" descr="Screen Shot 2014-02-20 at 7.33.32 PM.png"/>
          <p:cNvPicPr/>
          <p:nvPr/>
        </p:nvPicPr>
        <p:blipFill>
          <a:blip r:embed="rId2"/>
          <a:stretch/>
        </p:blipFill>
        <p:spPr>
          <a:xfrm>
            <a:off x="5791320" y="1676520"/>
            <a:ext cx="3035160" cy="3098520"/>
          </a:xfrm>
          <a:prstGeom prst="rect">
            <a:avLst/>
          </a:prstGeom>
          <a:ln w="0">
            <a:noFill/>
          </a:ln>
        </p:spPr>
      </p:pic>
      <p:sp>
        <p:nvSpPr>
          <p:cNvPr id="381" name="TextBox 6"/>
          <p:cNvSpPr/>
          <p:nvPr/>
        </p:nvSpPr>
        <p:spPr>
          <a:xfrm>
            <a:off x="5021640" y="5257800"/>
            <a:ext cx="33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andard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eft Arrow 8"/>
          <p:cNvSpPr/>
          <p:nvPr/>
        </p:nvSpPr>
        <p:spPr>
          <a:xfrm>
            <a:off x="4495680" y="5257800"/>
            <a:ext cx="609840" cy="5335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0000"/>
          </a:solidFill>
          <a:ln w="0">
            <a:noFill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ACB7-C49B-4A99-846A-C422705908E4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2F16-D119-4B3F-8117-A857B124A632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" descr="Screen Shot 2014-02-21 at 1.39.54 PM.png"/>
          <p:cNvPicPr/>
          <p:nvPr/>
        </p:nvPicPr>
        <p:blipFill>
          <a:blip r:embed="rId2"/>
          <a:srcRect l="0" t="0" r="0" b="4780"/>
          <a:stretch/>
        </p:blipFill>
        <p:spPr>
          <a:xfrm>
            <a:off x="304920" y="1066680"/>
            <a:ext cx="8204040" cy="53215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Screen Shot 2014-02-20 at 7.40.45 PM.png"/>
          <p:cNvPicPr/>
          <p:nvPr/>
        </p:nvPicPr>
        <p:blipFill>
          <a:blip r:embed="rId3"/>
          <a:stretch/>
        </p:blipFill>
        <p:spPr>
          <a:xfrm>
            <a:off x="6553080" y="4730760"/>
            <a:ext cx="1932120" cy="19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FA83-2559-4067-8726-E3FB806E4B52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8C4B-F3B3-4150-BC8B-89DDE426D6C2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6" descr="Screen Shot 2014-02-20 at 7.59.18 PM.png"/>
          <p:cNvPicPr/>
          <p:nvPr/>
        </p:nvPicPr>
        <p:blipFill>
          <a:blip r:embed="rId2"/>
          <a:stretch/>
        </p:blipFill>
        <p:spPr>
          <a:xfrm>
            <a:off x="304920" y="1295280"/>
            <a:ext cx="8305560" cy="33735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shot.tiff"/>
          <p:cNvPicPr/>
          <p:nvPr/>
        </p:nvPicPr>
        <p:blipFill>
          <a:blip r:embed="rId3"/>
          <a:stretch/>
        </p:blipFill>
        <p:spPr>
          <a:xfrm>
            <a:off x="4724280" y="3200400"/>
            <a:ext cx="2895840" cy="35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ketched the idea on pap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arted with simplest stuff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uilt on previous work by adding one function or one idea at a ti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ecked after every improv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A119-8FBB-422E-BC04-14F17DF175DD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EAFD-DEE2-485F-918D-4EE1D6CF23E5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613720" cy="9939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55F0-8D4B-47C4-B1D4-8F235D1CF0CB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ED2E-6283-4228-A069-38F3D9839F8A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6" descr="game1.jpg"/>
          <p:cNvPicPr/>
          <p:nvPr/>
        </p:nvPicPr>
        <p:blipFill>
          <a:blip r:embed="rId2"/>
          <a:srcRect l="0" t="6717" r="0" b="0"/>
          <a:stretch/>
        </p:blipFill>
        <p:spPr>
          <a:xfrm>
            <a:off x="3429000" y="1371600"/>
            <a:ext cx="5079960" cy="4998960"/>
          </a:xfrm>
          <a:prstGeom prst="rect">
            <a:avLst/>
          </a:prstGeom>
          <a:ln w="0">
            <a:noFill/>
          </a:ln>
        </p:spPr>
      </p:pic>
      <p:sp>
        <p:nvSpPr>
          <p:cNvPr id="312" name="TextBox 7"/>
          <p:cNvSpPr/>
          <p:nvPr/>
        </p:nvSpPr>
        <p:spPr>
          <a:xfrm>
            <a:off x="457200" y="213372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pp works like the children’s toy. To move a piece, click on the one to be 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EFCC-8969-48A4-A376-7541D7CACA79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7A01-E37D-4313-8D2D-1AC36A57D2C9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6" descr="plan.jpg"/>
          <p:cNvPicPr/>
          <p:nvPr/>
        </p:nvPicPr>
        <p:blipFill>
          <a:blip r:embed="rId2"/>
          <a:stretch/>
        </p:blipFill>
        <p:spPr>
          <a:xfrm>
            <a:off x="914400" y="129528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A2DE-C0FC-4D8B-BDD4-1914C6A6C136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5EFC-A396-4B23-B48A-D634CBABAE24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6" descr="Screen Shot 2014-02-20 at 5.34.01 PM.png"/>
          <p:cNvPicPr/>
          <p:nvPr/>
        </p:nvPicPr>
        <p:blipFill>
          <a:blip r:embed="rId2"/>
          <a:stretch/>
        </p:blipFill>
        <p:spPr>
          <a:xfrm>
            <a:off x="304920" y="1219320"/>
            <a:ext cx="7797600" cy="5371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Screen Shot 2014-02-20 at 5.32.43 PM.png"/>
          <p:cNvPicPr/>
          <p:nvPr/>
        </p:nvPicPr>
        <p:blipFill>
          <a:blip r:embed="rId3"/>
          <a:srcRect l="10848" t="6933" r="10467" b="13877"/>
          <a:stretch/>
        </p:blipFill>
        <p:spPr>
          <a:xfrm>
            <a:off x="4800600" y="3187800"/>
            <a:ext cx="3352680" cy="351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65C9-2240-4E11-AF3E-087CCA56F991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3CFB-0987-4AFF-ABC0-C5F20FCDF16A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6" descr="Screen Shot 2014-02-20 at 5.37.29 PM.png"/>
          <p:cNvPicPr/>
          <p:nvPr/>
        </p:nvPicPr>
        <p:blipFill>
          <a:blip r:embed="rId2"/>
          <a:srcRect l="7526" t="15185" r="20794" b="26669"/>
          <a:stretch/>
        </p:blipFill>
        <p:spPr>
          <a:xfrm>
            <a:off x="457200" y="1219320"/>
            <a:ext cx="6172200" cy="53528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Screen Shot 2014-02-20 at 5.37.39 PM.png"/>
          <p:cNvPicPr/>
          <p:nvPr/>
        </p:nvPicPr>
        <p:blipFill>
          <a:blip r:embed="rId3"/>
          <a:srcRect l="11868" t="10260" r="11096" b="14559"/>
          <a:stretch/>
        </p:blipFill>
        <p:spPr>
          <a:xfrm>
            <a:off x="4952880" y="1143000"/>
            <a:ext cx="4073760" cy="41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1C45-AB93-4356-B655-EF0056778B44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6D4A-6DD3-4D11-A463-36CCB11170F5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6" descr="Screen Shot 2014-02-20 at 5.41.49 PM.png"/>
          <p:cNvPicPr/>
          <p:nvPr/>
        </p:nvPicPr>
        <p:blipFill>
          <a:blip r:embed="rId2"/>
          <a:stretch/>
        </p:blipFill>
        <p:spPr>
          <a:xfrm>
            <a:off x="152280" y="1828800"/>
            <a:ext cx="8926560" cy="4648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Screen Shot 2014-02-20 at 5.42.22 PM.png"/>
          <p:cNvPicPr/>
          <p:nvPr/>
        </p:nvPicPr>
        <p:blipFill>
          <a:blip r:embed="rId3"/>
          <a:stretch/>
        </p:blipFill>
        <p:spPr>
          <a:xfrm>
            <a:off x="5762520" y="990720"/>
            <a:ext cx="31147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tiles[ ] array is initialized with digits, but it could have been assigned in a loop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hade[ ] array is just a series of cells … it is initialized in a loop in </a:t>
            </a:r>
            <a:r>
              <a:rPr b="0" lang="en-US" sz="3200" spc="-1" strike="noStrike">
                <a:solidFill>
                  <a:srgbClr val="3792aa"/>
                </a:solidFill>
                <a:latin typeface="Corbel"/>
              </a:rPr>
              <a:t>setup( 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C7D2-09B7-4D2A-BCBB-BFB7D46117E8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B47B-413E-40A4-B7BB-6EAFE970E973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6" descr="Screen Shot 2014-02-20 at 5.49.47 PM.png"/>
          <p:cNvPicPr/>
          <p:nvPr/>
        </p:nvPicPr>
        <p:blipFill>
          <a:blip r:embed="rId2"/>
          <a:stretch/>
        </p:blipFill>
        <p:spPr>
          <a:xfrm>
            <a:off x="152280" y="2438280"/>
            <a:ext cx="8686800" cy="1143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Screen Shot 2014-02-20 at 5.59.54 PM.png"/>
          <p:cNvPicPr/>
          <p:nvPr/>
        </p:nvPicPr>
        <p:blipFill>
          <a:blip r:embed="rId3"/>
          <a:srcRect l="0" t="6252" r="0" b="4480"/>
          <a:stretch/>
        </p:blipFill>
        <p:spPr>
          <a:xfrm>
            <a:off x="457200" y="4660920"/>
            <a:ext cx="6337440" cy="12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can now draw numbers from tiles[ ] with colors from shade[ 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482A-11D8-4F6A-A69F-D4A39591D503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37E3-9EC0-43B5-A161-7CAB56D6DCCA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7" descr="Screen Shot 2014-02-20 at 6.01.50 PM.png"/>
          <p:cNvPicPr/>
          <p:nvPr/>
        </p:nvPicPr>
        <p:blipFill>
          <a:blip r:embed="rId2"/>
          <a:stretch/>
        </p:blipFill>
        <p:spPr>
          <a:xfrm>
            <a:off x="228600" y="2666880"/>
            <a:ext cx="7950240" cy="39499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Screen Shot 2014-02-20 at 5.59.35 PM.png"/>
          <p:cNvPicPr/>
          <p:nvPr/>
        </p:nvPicPr>
        <p:blipFill>
          <a:blip r:embed="rId3"/>
          <a:srcRect l="0" t="8017" r="0" b="5355"/>
          <a:stretch/>
        </p:blipFill>
        <p:spPr>
          <a:xfrm>
            <a:off x="5029200" y="1676520"/>
            <a:ext cx="312408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nvert from r/c ref.s to array index ref.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EC9F-0D9F-4153-BC37-6FCAF511DA4D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4500-85FE-4CE4-8363-8A29C41B00E0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6" descr="Screen Shot 2014-02-20 at 6.09.07 PM.png"/>
          <p:cNvPicPr/>
          <p:nvPr/>
        </p:nvPicPr>
        <p:blipFill>
          <a:blip r:embed="rId2"/>
          <a:srcRect l="0" t="17956" r="0" b="24486"/>
          <a:stretch/>
        </p:blipFill>
        <p:spPr>
          <a:xfrm>
            <a:off x="76320" y="3429000"/>
            <a:ext cx="609588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Screen Shot 2014-02-20 at 6.09.07 PM.png"/>
          <p:cNvPicPr/>
          <p:nvPr/>
        </p:nvPicPr>
        <p:blipFill>
          <a:blip r:embed="rId3"/>
          <a:srcRect l="0" t="81688" r="0" b="1188"/>
          <a:stretch/>
        </p:blipFill>
        <p:spPr>
          <a:xfrm>
            <a:off x="290520" y="1828800"/>
            <a:ext cx="8840880" cy="12826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Screen Shot 2014-02-20 at 6.11.12 PM.png"/>
          <p:cNvPicPr/>
          <p:nvPr/>
        </p:nvPicPr>
        <p:blipFill>
          <a:blip r:embed="rId4"/>
          <a:stretch/>
        </p:blipFill>
        <p:spPr>
          <a:xfrm>
            <a:off x="6095880" y="2286000"/>
            <a:ext cx="2857680" cy="2808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7:12:38Z</dcterms:created>
  <dc:creator>Information School</dc:creator>
  <dc:description/>
  <dc:language>en-US</dc:language>
  <cp:lastModifiedBy>Larry Snyder</cp:lastModifiedBy>
  <cp:lastPrinted>2012-02-17T18:28:47Z</cp:lastPrinted>
  <dcterms:modified xsi:type="dcterms:W3CDTF">2014-02-21T21:41:43Z</dcterms:modified>
  <cp:revision>145</cp:revision>
  <dc:subject/>
  <dc:title>Welcome to FIT100</dc:title>
</cp:coreProperties>
</file>