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E66-7305-4659-B94D-3FDC4AEF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00B-A5E6-4026-A913-D9C89ADE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08F-C5A4-4FF9-BE14-BB9C3CE4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13B-CFF8-488F-BB38-787EF12A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A254-E184-4CE7-A34D-0E5B6B4C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AA28-B67F-4A3C-8BDA-AB88F4C8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DC76-D1B5-4A04-AE89-DE0C66CB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7CDE-334E-4853-B2D6-AC6849F6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3C6F-BCAF-442E-B027-20C6243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D257-A64B-4E13-85EB-4CFF60EF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F0C6-0E8D-4071-A8EC-4B594A7A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E34-DA6B-4863-9C25-DA88E5E4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77F9-8FB4-4AB9-8447-A90058F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0BBF-134C-490C-85E8-BA9A7E9B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8EE0-0C93-4EC9-B7C6-F71B1CE3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0E6C-35A8-49DE-AB57-40AFFA7D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E80A-59D5-414A-BF99-7E71EFEE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29E9-582C-4E20-AEC9-0C8D63C1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271B-DA2C-4DB2-984C-D6909B2C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091A-E828-4648-BAF4-07CA1512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8AA3-4AF9-49C1-9C08-4F502BB1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8F02-9B31-4CAB-AD2B-5B00DE24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BA4-0AEB-4E8B-A307-323358D4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7FD9A-9EDC-4A82-A70A-7B3FFF09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FBFD-C8C5-4D91-BFBC-8074185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CB77-E3CE-4BCA-9637-D861A0A6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CFFDC-6AF1-4024-B9FD-4F89451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5C05-DEA8-4B34-8B56-7C9F2B3B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2424-5664-4021-BD77-001DE2CA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CD99-3A74-47AA-98F5-CDC4D233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A3602-63C9-4984-A854-4DCEB79F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D6967-E01C-45AA-A8A5-AEA4557D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4D3A-207D-4C5D-86BB-6663A123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8A5-46DE-47C7-8DFD-612E58C2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97D1-0B4B-4C70-9E01-AEC6BD1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A8C81-0073-42DC-9E58-582FF3AE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63D2-55C1-4D16-B0E1-81E012A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67F5-9252-4102-8BAE-23EE43F9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8EF2E-918F-47F8-BDD4-0E64C189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62A33-308C-4FD7-956B-D352620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1CE8-DD8F-4A57-A0DB-1036482D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8A0E2-CFAD-4655-88C7-5239794F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7A51-E2B1-48B6-91F0-BE8FABCB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B7173-9B1D-4E2D-A713-973D860E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621-7C2E-4929-A772-8916EA2C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7DBD7-B2D2-4732-8CAC-E503D9FB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E1B65-797B-4BCB-B4A2-044A9748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92D2-FD84-4E99-BBE7-29B41661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78621-F10E-43F1-BD9E-87E09133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FCA87-170A-478F-AF9B-B1451F6E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C03B0-3506-4AAE-817A-17A5133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BFE86-D16B-4AEA-B7D9-D63C390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99F7E-630C-4394-9B8B-1CB1291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979AA-51D4-4CC1-BEEF-9C7B7D2E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7BCB-EE81-4D47-B2C6-ECAE0F17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ACF-2AC4-4C6A-AC6F-9CC1B308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73B73-26CA-4B22-8730-E8C6E1DD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82B2E-E880-4CB7-A32A-1854C4BF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0B29B-1955-4C46-AC5F-3F77DF4E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FEA9-6256-4FCE-ABF8-FAAEB3A4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FAD49-32FF-4407-9EF1-4F6A3AA2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A7F14-8234-4889-AE37-100EEF27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D089-1281-4992-86A9-216653C1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A5234-66F0-4FE6-B28D-B4FEE09B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7D6D1-B0BC-4B32-8156-F12AB5F3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65CAA-9848-41C8-ABA0-F8F6A809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41B-7BB6-4615-AC19-8F8F93E9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FA678-58BF-4013-81DA-B4E11990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2B233-3E48-48C7-8457-B805BDA0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229F-4F23-4B1F-99FC-1947743E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F5D16-B789-46EF-88F9-20A1D7F3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086CB-2D6D-4BDF-9091-BE6B9C46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05D14-E0A5-458E-ADC7-56EFCDB9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BEF5B-0E57-448D-8132-6EE850D2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118B8-FBF2-4672-A9F6-1218EB11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B03AF-B23E-4B58-9D2F-3DB17A79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B48ED-C4E7-42B4-969A-1F605D8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E08-FF99-4AC9-A556-12BE310B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43875-D475-4AD6-98F8-9C703E82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05FE9-B78A-43DE-A531-FB29C803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5A7E2-B802-4BCA-AFB4-AFD18363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0125F-2169-4D8D-8D6D-8819B169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B82A8-EA97-497E-B712-A92CDF1A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0D5-8FCF-40CD-B9DF-3C630F0F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C42C-5078-41CB-875C-0D701D5974A3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A9D5-30C7-4320-AC94-8BF0F5C852F8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E4D9-0803-4168-BD2F-E6ED80D2E324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5FA2-A7D3-4E1F-A2FE-061D61BDD0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3DD3-9BE8-4875-9EDC-FAEB430C24BE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F0F4-CEE1-40C4-A853-2FEA70F4A7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A342-E828-4422-A3D5-FE2274686FEA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DBF9-C017-4171-A507-69F55B07C18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4687-F944-4555-BE3E-BD8D98D17ED1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42FD-41AE-4E81-88A5-2062FCC8BCF6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3418-8D18-407C-B7C2-5F8F9E9B29BA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19FA-278B-4DC3-A1E0-7D7B8331966D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124A-D05B-45EC-BF8A-1591E68210AE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9F10-E3D3-4545-9684-56CCA97E92BE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564840" y="53352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computers are better! How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t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23" name="Date Placeholder 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D8ED-766F-472D-B023-5B506C28B42D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DA97-4408-4AA8-93D3-EE424624583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80880" y="6095880"/>
            <a:ext cx="8305920" cy="4597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whatismyipaddress.com/traceroute-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Picture 3" descr="Screen Shot 2014-02-17 at 4.11.20 PM.png"/>
          <p:cNvPicPr/>
          <p:nvPr/>
        </p:nvPicPr>
        <p:blipFill>
          <a:blip r:embed="rId2"/>
          <a:stretch/>
        </p:blipFill>
        <p:spPr>
          <a:xfrm>
            <a:off x="1066680" y="990720"/>
            <a:ext cx="6421680" cy="51051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2"/>
          <p:cNvSpPr/>
          <p:nvPr/>
        </p:nvSpPr>
        <p:spPr>
          <a:xfrm>
            <a:off x="6029640" y="914400"/>
            <a:ext cx="1524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-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 with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red Ethernet,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ll computers in range can hear the radio signals of the oth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2" name="Picture 1" descr="Screen Shot 2014-02-17 at 4.40.34 PM.png"/>
          <p:cNvPicPr/>
          <p:nvPr/>
        </p:nvPicPr>
        <p:blipFill>
          <a:blip r:embed="rId2"/>
          <a:stretch/>
        </p:blipFill>
        <p:spPr>
          <a:xfrm>
            <a:off x="1295280" y="2019240"/>
            <a:ext cx="6553440" cy="4587840"/>
          </a:xfrm>
          <a:prstGeom prst="rect">
            <a:avLst/>
          </a:prstGeom>
          <a:ln w="0">
            <a:noFill/>
          </a:ln>
        </p:spPr>
      </p:pic>
      <p:sp>
        <p:nvSpPr>
          <p:cNvPr id="433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020E-A724-4509-9216-74C9BB5D4E6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57F6-585A-497F-9205-9A1BCAC9B89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eople name computers by a domain na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hierarchical scheme that groups like comput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.edu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All educational computers, a TL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.washington.edu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All computers at U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dante.washington.edu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A UW compu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.ischool.washington.edu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iSchool comput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.cs.washington.edu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CSE comput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spiff.cs.washington.edu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A CSE compu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7924680" y="3657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"/>
          <p:cNvSpPr/>
          <p:nvPr/>
        </p:nvSpPr>
        <p:spPr>
          <a:xfrm>
            <a:off x="7924680" y="4038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7924680" y="5410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9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"/>
          <p:cNvSpPr/>
          <p:nvPr/>
        </p:nvSpPr>
        <p:spPr>
          <a:xfrm>
            <a:off x="8534520" y="36576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8381880" y="6400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 flipH="1">
            <a:off x="9907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3"/>
          <p:cNvSpPr/>
          <p:nvPr/>
        </p:nvSpPr>
        <p:spPr>
          <a:xfrm flipH="1">
            <a:off x="99072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383400" y="49528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5"/>
          <p:cNvSpPr/>
          <p:nvPr/>
        </p:nvSpPr>
        <p:spPr>
          <a:xfrm>
            <a:off x="609480" y="5486400"/>
            <a:ext cx="830592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Domains begin with a </a:t>
            </a:r>
            <a:r>
              <a:rPr b="1" lang="ja-JP" sz="2400" spc="-1" strike="noStrike">
                <a:solidFill>
                  <a:srgbClr val="ffffff"/>
                </a:solidFill>
                <a:latin typeface="Corbel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dot</a:t>
            </a:r>
            <a:r>
              <a:rPr b="1" lang="ja-JP" sz="2400" spc="-1" strike="noStrike">
                <a:solidFill>
                  <a:srgbClr val="ffffff"/>
                </a:solidFill>
                <a:latin typeface="Corbel"/>
                <a:ea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 and get </a:t>
            </a:r>
            <a:r>
              <a:rPr b="1" lang="ja-JP" sz="2400" spc="-1" strike="noStrike">
                <a:solidFill>
                  <a:srgbClr val="ffffff"/>
                </a:solidFill>
                <a:latin typeface="Corbel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larger</a:t>
            </a:r>
            <a:r>
              <a:rPr b="1" lang="ja-JP" sz="2400" spc="-1" strike="noStrike">
                <a:solidFill>
                  <a:srgbClr val="ffffff"/>
                </a:solidFill>
                <a:latin typeface="Corbel"/>
                <a:ea typeface="Arial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 going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ate Placeholder 1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196E-3A3C-4F6C-BEAB-E181156E178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1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44A-927B-411C-8C06-B57534A786F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1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rs are named by IP address, four numbers in the range 0-25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se.washington.edu: 128.95.1.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chool.washington.edu: 128.208.100.15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membering IP addresses would be brutal for humans, so we use domai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uters find the IP address for a domain name from the </a:t>
            </a:r>
            <a:r>
              <a:rPr b="0" i="1" lang="en-US" sz="2800" spc="-1" strike="noStrike">
                <a:solidFill>
                  <a:srgbClr val="ff0000"/>
                </a:solidFill>
                <a:latin typeface="Corbel"/>
              </a:rPr>
              <a:t>Domain Name System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—an IP address-book compu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609480" y="5943600"/>
            <a:ext cx="8305920" cy="4597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A computer needs to know IP address of DNS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Date Placeholder 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A964-320A-40BE-80D0-D810CB38AD1E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9BB0-079C-425C-B0F6-06AF51F6129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edu .com .mil .gov .org .ne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mains are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p level domains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for the 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cently, new TLD names add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ach country has a top level domain nam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ca (Canada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es (Spai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de (Germany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au (Australia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at (Austria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us (U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648320" y="4038480"/>
            <a:ext cx="3962160" cy="19227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Do you know site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bit.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www.nba.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del.icio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they exploit T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Date Placeholder 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D613-846C-4C1D-BB2F-727289D95EA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D1C-AC80-4BA8-8488-457C58AF60C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ew the Internet in two way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371600" indent="-457200">
              <a:spcBef>
                <a:spcPts val="601"/>
              </a:spcBef>
              <a:buClr>
                <a:srgbClr val="e66c7d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umans see a hierarchy of domains relating computers—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logical network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371600" indent="-457200">
              <a:spcBef>
                <a:spcPts val="601"/>
              </a:spcBef>
              <a:buClr>
                <a:srgbClr val="e66c7d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mputers see groups of four number IP addresses—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physical network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(my computer: 128.208.3.136 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oth are ideal for the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r's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nee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Domain Name System (DNS) relates the logical network to the physical network by translating domains to IP addre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8CB3-E32C-4E81-AABD-B351BCA8FD16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F1BC-80BB-4A2C-8F61-72EDE95DEB6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people mis-use the terms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net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orld Wide Web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get them righ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1219320" y="3048120"/>
            <a:ext cx="670536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Internet: all of the wires, fibers, switches, routers etc. connecting named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1219320" y="4343400"/>
            <a:ext cx="6705360" cy="1557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Web: That part of the Internet —web servers—that store info and serve Web pages and provide other services to client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D66D-BAF3-4E4B-B01E-8110D08A09B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BDA0-EDAF-4CAC-86D3-7D94E640291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8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Web and much of the Internet services use the client server form of inter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’s a VERY BRIEF relationshi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4F67-D806-4D77-B577-F5617AD86C2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C14-A497-4590-85D9-C5D6C951938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clientServer.gif"/>
          <p:cNvPicPr/>
          <p:nvPr/>
        </p:nvPicPr>
        <p:blipFill>
          <a:blip r:embed="rId2"/>
          <a:stretch/>
        </p:blipFill>
        <p:spPr>
          <a:xfrm>
            <a:off x="457200" y="2057400"/>
            <a:ext cx="8305920" cy="33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45684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ents and servers are not connected – they only exchange info …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commitment issues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7E24-1653-4A70-81FE-6837FF69BA5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7F6-0A39-4D90-AE2A-D04D842EB7F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clientserverovertime.gif"/>
          <p:cNvPicPr/>
          <p:nvPr/>
        </p:nvPicPr>
        <p:blipFill>
          <a:blip r:embed="rId2"/>
          <a:stretch/>
        </p:blipFill>
        <p:spPr>
          <a:xfrm>
            <a:off x="457200" y="2133720"/>
            <a:ext cx="8153280" cy="44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tworking changed the worl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ernet: named computers using TCP/I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WW: servers providing Web pag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ogical network of domain nam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hysical network of IP address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otocols rule: LAN, TCP/IP, http.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omain Name System connects the tw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ent/Server, fleeting relationship on WW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7D8B-4E29-4931-BB36-ADF47E6F836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C764-DBE0-47E0-A601-75CC2DE782A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rs are useful alone, but are better when connected (networked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cess more information and software than is stored locall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lp users to communicate, exchange information…changing ideas about social intera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form other services—printing, Web, email, texting, mobile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304920" y="5715000"/>
            <a:ext cx="868680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Today</a:t>
            </a:r>
            <a:r>
              <a:rPr b="1" lang="ja-JP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s Message: Internet is NOT really a bunch of tub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e Placeholder 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5903-E8AB-49FE-B6B0-838EDA71D7EC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8964-D1A4-44FC-B960-9EBA4759B47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ir programming – two people work side-by-side programming one problem toget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’s thought to be more productive – fewer errors, smarter co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’s certainly more fu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SE120 Rules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L CODING WORK ON PROJECT MUST BE DONE TOGE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are coding duties, commenting duti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ms: comparable skill, compatible t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26F2-65B9-4346-A544-383F8E38EB7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A6A0-472E-4866-8267-78B86438E43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tworks are structured differently based (mostly) on distance between computer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cal area network (L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mall area: room or build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ither wired (Cu or fiber) or wirel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ide area networks (W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arge area: more than 1 k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ber-optic, copper transmission lines, μ-wave, satellite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tropolitan area networks (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eighborhood or several blocks of business distric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ivate service provider owns net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DD2-DF8D-40FA-A3EA-05B6AE2AE10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216B-5857-46B0-8878-0EB2BC983F6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communicate computers need to know how to set up the info to be sent and interpret the info receiv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unication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les are 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ple protoco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ther</a:t>
            </a:r>
            <a:r>
              <a:rPr b="0" lang="en-US" sz="2400" spc="-1" strike="noStrike">
                <a:solidFill>
                  <a:srgbClr val="a0522d"/>
                </a:solidFill>
                <a:latin typeface="Corbel"/>
              </a:rPr>
              <a:t>Ne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—for physical connection in a LAN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CP/IP—for Internet—transmission control protocol / internet protoc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TTP—for Web—hypertext transfer protoc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6CFE-DEB8-41F3-9C13-C36FD5D7FD42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D847-7927-49D3-AD17-BF7136F68225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therNet is a popular LAN protoc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t uses a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rty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protoc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 Box 36"/>
          <p:cNvSpPr/>
          <p:nvPr/>
        </p:nvSpPr>
        <p:spPr>
          <a:xfrm>
            <a:off x="1752480" y="2362320"/>
            <a:ext cx="1752840" cy="1191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to campus network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533520" y="3733920"/>
            <a:ext cx="8001000" cy="259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838080" y="3886200"/>
            <a:ext cx="685800" cy="685800"/>
          </a:xfrm>
          <a:prstGeom prst="cube">
            <a:avLst>
              <a:gd name="adj" fmla="val 25000"/>
            </a:avLst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1447920" y="4191120"/>
            <a:ext cx="6324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1905120" y="4648320"/>
            <a:ext cx="685800" cy="685800"/>
          </a:xfrm>
          <a:prstGeom prst="cube">
            <a:avLst>
              <a:gd name="adj" fmla="val 25000"/>
            </a:avLst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133720" y="4114800"/>
            <a:ext cx="304560" cy="152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2286000" y="4267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2"/>
          <p:cNvSpPr/>
          <p:nvPr/>
        </p:nvSpPr>
        <p:spPr>
          <a:xfrm>
            <a:off x="2743200" y="4648320"/>
            <a:ext cx="685800" cy="685800"/>
          </a:xfrm>
          <a:prstGeom prst="cube">
            <a:avLst>
              <a:gd name="adj" fmla="val 25000"/>
            </a:avLst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2971800" y="4114800"/>
            <a:ext cx="304920" cy="152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3124080" y="4267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6"/>
          <p:cNvSpPr/>
          <p:nvPr/>
        </p:nvSpPr>
        <p:spPr>
          <a:xfrm>
            <a:off x="3581280" y="4648320"/>
            <a:ext cx="685800" cy="685800"/>
          </a:xfrm>
          <a:prstGeom prst="cube">
            <a:avLst>
              <a:gd name="adj" fmla="val 25000"/>
            </a:avLst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3809880" y="4114800"/>
            <a:ext cx="304920" cy="152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3962520" y="4267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0"/>
          <p:cNvSpPr/>
          <p:nvPr/>
        </p:nvSpPr>
        <p:spPr>
          <a:xfrm>
            <a:off x="4419720" y="4648320"/>
            <a:ext cx="685800" cy="685800"/>
          </a:xfrm>
          <a:prstGeom prst="cube">
            <a:avLst>
              <a:gd name="adj" fmla="val 25000"/>
            </a:avLst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4648320" y="4114800"/>
            <a:ext cx="304560" cy="152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2"/>
          <p:cNvSpPr/>
          <p:nvPr/>
        </p:nvSpPr>
        <p:spPr>
          <a:xfrm>
            <a:off x="4800600" y="4267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4"/>
          <p:cNvSpPr/>
          <p:nvPr/>
        </p:nvSpPr>
        <p:spPr>
          <a:xfrm>
            <a:off x="5257800" y="4648320"/>
            <a:ext cx="685800" cy="685800"/>
          </a:xfrm>
          <a:prstGeom prst="cube">
            <a:avLst>
              <a:gd name="adj" fmla="val 25000"/>
            </a:avLst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5486400" y="4114800"/>
            <a:ext cx="304920" cy="152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6"/>
          <p:cNvSpPr/>
          <p:nvPr/>
        </p:nvSpPr>
        <p:spPr>
          <a:xfrm>
            <a:off x="5638680" y="4267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8"/>
          <p:cNvSpPr/>
          <p:nvPr/>
        </p:nvSpPr>
        <p:spPr>
          <a:xfrm>
            <a:off x="6095880" y="4648320"/>
            <a:ext cx="685800" cy="685800"/>
          </a:xfrm>
          <a:prstGeom prst="cube">
            <a:avLst>
              <a:gd name="adj" fmla="val 25000"/>
            </a:avLst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9"/>
          <p:cNvSpPr/>
          <p:nvPr/>
        </p:nvSpPr>
        <p:spPr>
          <a:xfrm>
            <a:off x="6324480" y="4114800"/>
            <a:ext cx="304920" cy="152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0"/>
          <p:cNvSpPr/>
          <p:nvPr/>
        </p:nvSpPr>
        <p:spPr>
          <a:xfrm>
            <a:off x="6477120" y="4267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1"/>
          <p:cNvSpPr/>
          <p:nvPr/>
        </p:nvSpPr>
        <p:spPr>
          <a:xfrm>
            <a:off x="7315200" y="41911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2"/>
          <p:cNvSpPr/>
          <p:nvPr/>
        </p:nvSpPr>
        <p:spPr>
          <a:xfrm>
            <a:off x="6705720" y="5334120"/>
            <a:ext cx="1387440" cy="642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 Net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3"/>
          <p:cNvSpPr/>
          <p:nvPr/>
        </p:nvSpPr>
        <p:spPr>
          <a:xfrm flipV="1">
            <a:off x="1143000" y="28191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5"/>
          <p:cNvSpPr/>
          <p:nvPr/>
        </p:nvSpPr>
        <p:spPr>
          <a:xfrm>
            <a:off x="3735720" y="2895480"/>
            <a:ext cx="3839760" cy="45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MGH or OUGL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7"/>
          <p:cNvSpPr/>
          <p:nvPr/>
        </p:nvSpPr>
        <p:spPr>
          <a:xfrm>
            <a:off x="11430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Date Placeholder 3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B52E-DF31-4938-9109-65113FE0D55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438-C3C9-467B-8B1C-22548238BD5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3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ampus subnetworks interconnect computers of the UW domain which connects to Internet via a gatew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Text Box 67"/>
          <p:cNvSpPr/>
          <p:nvPr/>
        </p:nvSpPr>
        <p:spPr>
          <a:xfrm>
            <a:off x="2438280" y="5715000"/>
            <a:ext cx="449604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ll communication by TCP/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9"/>
          <p:cNvGrpSpPr/>
          <p:nvPr/>
        </p:nvGrpSpPr>
        <p:grpSpPr>
          <a:xfrm>
            <a:off x="614160" y="2971800"/>
            <a:ext cx="8072640" cy="2743200"/>
            <a:chOff x="614160" y="2971800"/>
            <a:chExt cx="8072640" cy="2743200"/>
          </a:xfrm>
        </p:grpSpPr>
        <p:sp>
          <p:nvSpPr>
            <p:cNvPr id="359" name="Rectangle 63"/>
            <p:cNvSpPr/>
            <p:nvPr/>
          </p:nvSpPr>
          <p:spPr>
            <a:xfrm>
              <a:off x="838080" y="2971800"/>
              <a:ext cx="7848720" cy="2666880"/>
            </a:xfrm>
            <a:prstGeom prst="rect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4"/>
            <p:cNvSpPr/>
            <p:nvPr/>
          </p:nvSpPr>
          <p:spPr>
            <a:xfrm>
              <a:off x="1066680" y="3733560"/>
              <a:ext cx="990720" cy="609840"/>
            </a:xfrm>
            <a:prstGeom prst="cube">
              <a:avLst>
                <a:gd name="adj" fmla="val 25000"/>
              </a:avLst>
            </a:prstGeom>
            <a:solidFill>
              <a:srgbClr val="f0a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 flipV="1">
              <a:off x="1523880" y="34290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"/>
            <p:cNvSpPr/>
            <p:nvPr/>
          </p:nvSpPr>
          <p:spPr>
            <a:xfrm>
              <a:off x="1371600" y="3276360"/>
              <a:ext cx="304560" cy="15264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10"/>
            <p:cNvSpPr/>
            <p:nvPr/>
          </p:nvSpPr>
          <p:spPr>
            <a:xfrm>
              <a:off x="1904760" y="4343400"/>
              <a:ext cx="990720" cy="609480"/>
            </a:xfrm>
            <a:prstGeom prst="cube">
              <a:avLst>
                <a:gd name="adj" fmla="val 25000"/>
              </a:avLst>
            </a:prstGeom>
            <a:solidFill>
              <a:srgbClr val="f0a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1"/>
            <p:cNvSpPr/>
            <p:nvPr/>
          </p:nvSpPr>
          <p:spPr>
            <a:xfrm flipV="1">
              <a:off x="2286000" y="3581280"/>
              <a:ext cx="0" cy="838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4"/>
            <p:cNvSpPr/>
            <p:nvPr/>
          </p:nvSpPr>
          <p:spPr>
            <a:xfrm>
              <a:off x="2743200" y="4952880"/>
              <a:ext cx="990360" cy="609480"/>
            </a:xfrm>
            <a:prstGeom prst="cube">
              <a:avLst>
                <a:gd name="adj" fmla="val 25000"/>
              </a:avLst>
            </a:prstGeom>
            <a:solidFill>
              <a:srgbClr val="f0a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5"/>
            <p:cNvSpPr/>
            <p:nvPr/>
          </p:nvSpPr>
          <p:spPr>
            <a:xfrm flipV="1">
              <a:off x="3200400" y="3733200"/>
              <a:ext cx="0" cy="1295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"/>
            <p:cNvSpPr/>
            <p:nvPr/>
          </p:nvSpPr>
          <p:spPr>
            <a:xfrm>
              <a:off x="3047760" y="3581280"/>
              <a:ext cx="304920" cy="1522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7"/>
            <p:cNvSpPr/>
            <p:nvPr/>
          </p:nvSpPr>
          <p:spPr>
            <a:xfrm>
              <a:off x="1676160" y="3352680"/>
              <a:ext cx="2743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8"/>
            <p:cNvSpPr/>
            <p:nvPr/>
          </p:nvSpPr>
          <p:spPr>
            <a:xfrm>
              <a:off x="2438280" y="3504960"/>
              <a:ext cx="1981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9"/>
            <p:cNvSpPr/>
            <p:nvPr/>
          </p:nvSpPr>
          <p:spPr>
            <a:xfrm>
              <a:off x="3352680" y="3657600"/>
              <a:ext cx="1066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2"/>
            <p:cNvSpPr/>
            <p:nvPr/>
          </p:nvSpPr>
          <p:spPr>
            <a:xfrm>
              <a:off x="2133360" y="3429000"/>
              <a:ext cx="304920" cy="1522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25"/>
            <p:cNvSpPr/>
            <p:nvPr/>
          </p:nvSpPr>
          <p:spPr>
            <a:xfrm>
              <a:off x="3809880" y="3124080"/>
              <a:ext cx="990720" cy="609480"/>
            </a:xfrm>
            <a:prstGeom prst="cube">
              <a:avLst>
                <a:gd name="adj" fmla="val 25000"/>
              </a:avLst>
            </a:prstGeom>
            <a:solidFill>
              <a:srgbClr val="f0a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6"/>
            <p:cNvSpPr/>
            <p:nvPr/>
          </p:nvSpPr>
          <p:spPr>
            <a:xfrm flipV="1">
              <a:off x="4419360" y="373320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29"/>
            <p:cNvSpPr/>
            <p:nvPr/>
          </p:nvSpPr>
          <p:spPr>
            <a:xfrm>
              <a:off x="3962160" y="4572000"/>
              <a:ext cx="990720" cy="609480"/>
            </a:xfrm>
            <a:prstGeom prst="cube">
              <a:avLst>
                <a:gd name="adj" fmla="val 25000"/>
              </a:avLst>
            </a:prstGeom>
            <a:solidFill>
              <a:srgbClr val="f0a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0"/>
            <p:cNvSpPr/>
            <p:nvPr/>
          </p:nvSpPr>
          <p:spPr>
            <a:xfrm flipV="1">
              <a:off x="4419360" y="411444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32"/>
            <p:cNvSpPr/>
            <p:nvPr/>
          </p:nvSpPr>
          <p:spPr>
            <a:xfrm>
              <a:off x="3886200" y="4419360"/>
              <a:ext cx="144756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5a63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33"/>
            <p:cNvSpPr/>
            <p:nvPr/>
          </p:nvSpPr>
          <p:spPr>
            <a:xfrm>
              <a:off x="4726800" y="5105160"/>
              <a:ext cx="603000" cy="45972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4"/>
            <p:cNvSpPr/>
            <p:nvPr/>
          </p:nvSpPr>
          <p:spPr>
            <a:xfrm>
              <a:off x="4876560" y="480060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2"/>
            <p:cNvSpPr/>
            <p:nvPr/>
          </p:nvSpPr>
          <p:spPr>
            <a:xfrm>
              <a:off x="5181480" y="3047760"/>
              <a:ext cx="1447920" cy="99072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5a63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3"/>
            <p:cNvSpPr/>
            <p:nvPr/>
          </p:nvSpPr>
          <p:spPr>
            <a:xfrm>
              <a:off x="5796000" y="36576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D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4"/>
            <p:cNvSpPr/>
            <p:nvPr/>
          </p:nvSpPr>
          <p:spPr>
            <a:xfrm>
              <a:off x="6172200" y="335268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5"/>
            <p:cNvSpPr/>
            <p:nvPr/>
          </p:nvSpPr>
          <p:spPr>
            <a:xfrm>
              <a:off x="4419360" y="4190760"/>
              <a:ext cx="3048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39"/>
            <p:cNvSpPr/>
            <p:nvPr/>
          </p:nvSpPr>
          <p:spPr>
            <a:xfrm>
              <a:off x="5257800" y="3124080"/>
              <a:ext cx="990360" cy="609480"/>
            </a:xfrm>
            <a:prstGeom prst="cube">
              <a:avLst>
                <a:gd name="adj" fmla="val 25000"/>
              </a:avLst>
            </a:prstGeom>
            <a:solidFill>
              <a:srgbClr val="f0a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40"/>
            <p:cNvSpPr/>
            <p:nvPr/>
          </p:nvSpPr>
          <p:spPr>
            <a:xfrm flipV="1">
              <a:off x="5715000" y="3733200"/>
              <a:ext cx="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1"/>
            <p:cNvSpPr/>
            <p:nvPr/>
          </p:nvSpPr>
          <p:spPr>
            <a:xfrm>
              <a:off x="5562360" y="4114800"/>
              <a:ext cx="304920" cy="1522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47"/>
            <p:cNvSpPr/>
            <p:nvPr/>
          </p:nvSpPr>
          <p:spPr>
            <a:xfrm>
              <a:off x="6858000" y="3809880"/>
              <a:ext cx="990360" cy="990720"/>
            </a:xfrm>
            <a:prstGeom prst="cube">
              <a:avLst>
                <a:gd name="adj" fmla="val 25000"/>
              </a:avLst>
            </a:prstGeom>
            <a:solidFill>
              <a:srgbClr val="f0a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51"/>
            <p:cNvSpPr/>
            <p:nvPr/>
          </p:nvSpPr>
          <p:spPr>
            <a:xfrm>
              <a:off x="6781680" y="41148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53"/>
            <p:cNvSpPr/>
            <p:nvPr/>
          </p:nvSpPr>
          <p:spPr>
            <a:xfrm>
              <a:off x="7010280" y="5105160"/>
              <a:ext cx="990720" cy="609840"/>
            </a:xfrm>
            <a:prstGeom prst="cube">
              <a:avLst>
                <a:gd name="adj" fmla="val 25000"/>
              </a:avLst>
            </a:prstGeom>
            <a:solidFill>
              <a:srgbClr val="f0a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6"/>
            <p:cNvSpPr/>
            <p:nvPr/>
          </p:nvSpPr>
          <p:spPr>
            <a:xfrm>
              <a:off x="7315200" y="48006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57"/>
            <p:cNvSpPr/>
            <p:nvPr/>
          </p:nvSpPr>
          <p:spPr>
            <a:xfrm>
              <a:off x="7012440" y="5257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58"/>
            <p:cNvSpPr/>
            <p:nvPr/>
          </p:nvSpPr>
          <p:spPr>
            <a:xfrm>
              <a:off x="7010280" y="2971800"/>
              <a:ext cx="990720" cy="609480"/>
            </a:xfrm>
            <a:prstGeom prst="cube">
              <a:avLst>
                <a:gd name="adj" fmla="val 25000"/>
              </a:avLst>
            </a:prstGeom>
            <a:solidFill>
              <a:srgbClr val="f0a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59"/>
            <p:cNvSpPr/>
            <p:nvPr/>
          </p:nvSpPr>
          <p:spPr>
            <a:xfrm>
              <a:off x="7012440" y="32004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7315200" y="358128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61"/>
            <p:cNvSpPr/>
            <p:nvPr/>
          </p:nvSpPr>
          <p:spPr>
            <a:xfrm>
              <a:off x="7696080" y="4114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7696080" y="441936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64"/>
            <p:cNvSpPr/>
            <p:nvPr/>
          </p:nvSpPr>
          <p:spPr>
            <a:xfrm>
              <a:off x="614160" y="5105160"/>
              <a:ext cx="1776240" cy="3682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shington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70"/>
            <p:cNvSpPr/>
            <p:nvPr/>
          </p:nvSpPr>
          <p:spPr>
            <a:xfrm>
              <a:off x="4267080" y="4114800"/>
              <a:ext cx="304920" cy="1522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9"/>
            <p:cNvSpPr/>
            <p:nvPr/>
          </p:nvSpPr>
          <p:spPr>
            <a:xfrm>
              <a:off x="3962160" y="4572000"/>
              <a:ext cx="990720" cy="609480"/>
            </a:xfrm>
            <a:prstGeom prst="cube">
              <a:avLst>
                <a:gd name="adj" fmla="val 25000"/>
              </a:avLst>
            </a:prstGeom>
            <a:solidFill>
              <a:srgbClr val="f0a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Date Placeholder 4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436C-8F81-4FC8-A452-A8A9EB011E36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C426-943B-4531-B54D-8FCD39C6BD1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formation is sent across the Internet using IP—Cerf uses postcard analog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reak message into fixed size uni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m IP packets with destination address, sequence number and cont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ach makes its way separately to destination, possibly taking different rout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ssembled at destination forming ms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609480" y="4952880"/>
            <a:ext cx="8001000" cy="1557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Key Point: Taking separate routes lets packets by-pass congestion and out-of-service switches; packet reassembly discovers lost packets; ask for res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1"/>
          <p:cNvGrpSpPr/>
          <p:nvPr/>
        </p:nvGrpSpPr>
        <p:grpSpPr>
          <a:xfrm>
            <a:off x="5257800" y="3200400"/>
            <a:ext cx="2133720" cy="459720"/>
            <a:chOff x="5257800" y="3200400"/>
            <a:chExt cx="2133720" cy="459720"/>
          </a:xfrm>
        </p:grpSpPr>
        <p:sp>
          <p:nvSpPr>
            <p:cNvPr id="406" name="Text Box 8"/>
            <p:cNvSpPr/>
            <p:nvPr/>
          </p:nvSpPr>
          <p:spPr>
            <a:xfrm>
              <a:off x="5257800" y="3200400"/>
              <a:ext cx="2133720" cy="459720"/>
            </a:xfrm>
            <a:prstGeom prst="rect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r #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6019920" y="32004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6248520" y="32004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Date Placeholder 8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503F-0191-4E3F-A6E6-E2A1C7806ECC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88DC-2191-4D67-B955-EDF3CBB2F58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10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A61E-06F7-4A0F-868E-89B83113342C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EF58-C576-44AC-A245-42AC1112B4E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1105841711.LGL.2D.1024x1024.png"/>
          <p:cNvPicPr/>
          <p:nvPr/>
        </p:nvPicPr>
        <p:blipFill>
          <a:blip r:embed="rId1"/>
          <a:stretch/>
        </p:blipFill>
        <p:spPr>
          <a:xfrm>
            <a:off x="1295280" y="12600"/>
            <a:ext cx="6782040" cy="6782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internet2.tiff"/>
          <p:cNvPicPr/>
          <p:nvPr/>
        </p:nvPicPr>
        <p:blipFill>
          <a:blip r:embed="rId2"/>
          <a:stretch/>
        </p:blipFill>
        <p:spPr>
          <a:xfrm>
            <a:off x="380880" y="5943600"/>
            <a:ext cx="5664240" cy="7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18" name="Date Placeholder 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981D-99F4-4723-B766-D2ECC2B55EB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2F6F-0180-470F-808D-10F31B3C600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1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Content Placeholder 3" descr="internet3.tiff"/>
          <p:cNvPicPr/>
          <p:nvPr/>
        </p:nvPicPr>
        <p:blipFill>
          <a:blip r:embed="rId2"/>
          <a:srcRect l="0" t="9433" r="1292" b="3678"/>
          <a:stretch/>
        </p:blipFill>
        <p:spPr>
          <a:xfrm>
            <a:off x="-27000" y="1371600"/>
            <a:ext cx="9171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7:20:31Z</dcterms:created>
  <dc:creator>Information School</dc:creator>
  <dc:description/>
  <dc:language>en-US</dc:language>
  <cp:lastModifiedBy>Larry Snyder</cp:lastModifiedBy>
  <dcterms:modified xsi:type="dcterms:W3CDTF">2014-05-14T03:27:24Z</dcterms:modified>
  <cp:revision>100</cp:revision>
  <dc:subject/>
  <dc:title>Welcome to FIT100</dc:title>
</cp:coreProperties>
</file>