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9.png" ContentType="image/png"/>
  <Override PartName="/ppt/media/image29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A87D-7BC6-49A8-8F20-CB9117678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BBB3-BCAF-4A49-B467-F8347C3B3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B804-3363-4B02-B6C2-70E17DC9D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FBC8-351F-4B8D-986B-3B26FB39E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2215E-FFCB-49A8-B48F-DF242A0A5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FA437-0618-42CC-A021-516E357D5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DA21A-FE3D-4880-A789-CAE92EDFE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93A6E-D2E5-411D-8DD2-D3029E623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19B55-C1D6-4CAD-B709-F8878E457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D9E7C-1BDE-4161-870A-23F1CF4E5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EAACD-86DC-43DF-9422-B669C6722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3194-26F9-402E-8C4A-FF0418373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4B9CE-D31C-40C4-A52A-DE7ED5339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53584-5586-47A6-BB99-30196C86B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80D3E-F72D-4C17-A9B7-707B13AA8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72E93-FAAD-4F54-AFA4-5FE1E1F63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89E48-C1C1-4C25-AC07-651CEC858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E1941-20A1-4AE5-973B-BD92918DD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6CC19-9A82-4D54-99A3-AF4644365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50B5C-E558-403E-9903-E3A92AC7F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30E81-1A0A-4B58-A7F7-B2BBB75A2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22C4B-D757-4EDE-93A7-C3C242330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9A8F-F52D-458B-B6A2-4A4CD00C1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F4E76-6515-4866-B420-AC5F325AD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8F5D9-94A3-4457-8481-ABB550AB9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DEF87-14FE-48B9-B4D8-C18D69FDD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85181-89AD-445A-A975-0DE8C50BA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6839E-F81D-4E4E-BF92-F86D7728D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E9ECF-11FD-4569-9DF9-D9EBE4BB3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70991-2445-49C6-B793-034170EC3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3C7E1-1C4A-44F4-8A4E-4651393C5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B6634-E147-4302-B6CE-3E1EA600E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C1830-5EE1-4B75-8E27-3A6271EB7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AEB4-673C-4F9D-98D4-E8B5FC401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85ED1-55F7-4287-8C85-D0F55B7AC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4EE61-8DFD-4C79-A768-00643B441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90EAB-0A6F-42D0-BB63-7A1C56A01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980F4-5875-425C-9B0F-D3FF4DABF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0BB3F-E4F3-4879-860A-989FCA6C3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8044E-CDE2-49C3-AABB-DD0ADD93F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989BF-FCA5-4A7A-9042-64F5D274A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28A38-ADA4-4239-AB5F-6360E1730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60333-D941-4958-83CD-54BAAD82B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1AA19A-1451-49B6-A3F1-581D88006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D8CD-21E3-4093-A636-AF6AA03DD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E3B636-F8E6-4208-B822-A62529912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34F30A-737E-435D-99EB-773893AA8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C1404C-4026-4D92-872A-CF95BE0DE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7FBE27-0A30-46AE-B935-88FB299C1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E8F406-20D6-45E8-B1A5-667BB6947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A2F790-F677-466E-9BE2-01A8BE8B7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040069-9414-41F1-B902-CE2A0D6EB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553351-E767-421D-9988-0F560A0E0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D8EFA9-4F4E-4AEB-8671-D1BCBC499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FB7921-8DF4-4165-B830-8042A0B75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E8A6-39D7-4BEE-8F62-7532DCD85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EBD584-13DC-447F-AAF1-4F77E9B41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87B138-DB2D-4469-B3FB-BF7F8EDBE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D40C42-7076-45B4-84C1-6B3A12043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D4F9FF-7FAF-42D2-9596-11D78AD4B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9F6629-D487-4682-B3E5-12F91C2DE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12F086-E902-4C17-8DFA-6129F797F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5E1788-05CE-4DD2-AA14-3B8983B54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881D66-A033-4ECD-98A3-CBFA9E1B8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C436C0-7F0B-411C-ABD9-3463D0D12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6B5A88-A080-458D-ACFC-963120383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13C6-9FD3-4795-B1FB-03DCA273C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ED3E23-FEE1-4140-B2B4-4D27776FA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DE98C3-EA64-44CF-86EC-23A89D588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FFAD79-BBA8-433D-B2AD-908D9EB02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750007-F5A8-40DD-ADB0-3E3A92B59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563EEE-DCE2-4637-AE7F-4BAFA6D3E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174903-4CCF-4BE6-B3A0-E48570E6D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3C6FD2-E0AC-4C31-A782-2A36CA95A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18040B-E223-480B-B8AB-E39EE8B3F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04F0D2-7AA8-45DA-9A9E-5AA8F821D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7FCBE3-105F-4E6A-97CA-BD0FF6122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9D74-0FAB-423A-9673-3DF2AFAC1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4832B1-C508-4606-A499-6FD993CB9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AB4CB4-80BE-46D4-9EC3-41301A0A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8E0B26-A681-40B3-BE11-5DDBC5A04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AE45E1-6B67-44FA-85FF-85339D4D3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8B0F80-E203-4BA7-AE3F-B68A2C785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2A40-226E-4D56-BA0D-4F1AA1A91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066680"/>
            <a:ext cx="9144000" cy="446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A239E-27B0-4B82-9603-95C262D2FDF9}" type="datetime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© 2011 Larry Snyder, C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4EBE4-FCFC-44A6-8CDD-639447A0C584}" type="slidenum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6C02C-30E2-4DEA-9DFC-757F10ADED6C}" type="datetime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© 2011 Larry Snyder, C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56F85-0BA3-4700-938B-6695BE53A654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F3033-E97D-4EEA-8063-2DB50D6BD79E}" type="datetime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© 2011 Larry Snyder, C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13B65-99D5-47D4-BBAA-990DBE544E99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7590E-18A1-409B-9B0A-B5E403EFD19F}" type="datetime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© 2011 Larry Snyder, C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7D62C-1192-4187-A0DB-8F64C3661A97}" type="slidenum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066680"/>
            <a:ext cx="9144000" cy="446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75B6A-CF00-4A34-B7CE-D369CCCF2ED4}" type="datetime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© 2011 Larry Snyder, C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581B3-6282-4965-9B74-5CFE110D2884}" type="slidenum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066680"/>
            <a:ext cx="9144000" cy="446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62DE7-88B6-4055-9043-EADAA47EAB0E}" type="datetime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  <a:ea typeface="Arial"/>
              </a:rPr>
              <a:t>© 2011 Larry Snyder, C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D1703-3461-4501-90A6-40312CA03D49}" type="slidenum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C7570-4085-4E1C-A6F9-33E42DE33AC4}" type="datetime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© 2011 Larry Snyder, C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0CB3E-4F65-4195-BE7C-0914E07D7BA9}" type="slidenum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Rectangle 2" descr=""/>
          <p:cNvPicPr/>
          <p:nvPr/>
        </p:nvPicPr>
        <p:blipFill>
          <a:blip r:embed="rId1"/>
          <a:stretch/>
        </p:blipFill>
        <p:spPr>
          <a:xfrm>
            <a:off x="609480" y="2359080"/>
            <a:ext cx="8004240" cy="114624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762120" y="4114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orbel"/>
              </a:rPr>
              <a:t>Lawrence Snyder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orbel"/>
              </a:rPr>
              <a:t>University of Washington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3967560" y="6172200"/>
            <a:ext cx="1608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a6378"/>
                </a:solidFill>
                <a:latin typeface="Arial"/>
              </a:rPr>
              <a:t>© Lawrence Snyder 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4"/>
          <p:cNvSpPr/>
          <p:nvPr/>
        </p:nvSpPr>
        <p:spPr>
          <a:xfrm>
            <a:off x="549360" y="53352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what you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 g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5" descr="recursion.jpg"/>
          <p:cNvPicPr/>
          <p:nvPr/>
        </p:nvPicPr>
        <p:blipFill>
          <a:blip r:embed="rId2"/>
          <a:stretch/>
        </p:blipFill>
        <p:spPr>
          <a:xfrm>
            <a:off x="3524400" y="228600"/>
            <a:ext cx="5524200" cy="441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at is it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bstracting, we hav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Sierpinski Triangle is an equilateral triangle”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Sierpinski Triangle can also be three copies of a Sierpinski Triangle, touching at their corners”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0BA83-1176-44FD-AB0D-63395BEC231D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</a:rPr>
              <a:t>© 2011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8D1C4-474C-40F0-9FF4-05A02217A423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6" descr="sierTriangle.png"/>
          <p:cNvPicPr/>
          <p:nvPr/>
        </p:nvPicPr>
        <p:blipFill>
          <a:blip r:embed="rId2"/>
          <a:stretch/>
        </p:blipFill>
        <p:spPr>
          <a:xfrm>
            <a:off x="304920" y="4038480"/>
            <a:ext cx="840240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0000"/>
          </a:bodyPr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at is it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bstracting, we hav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57000" indent="-2455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Sierpinski Triangle is an equilateral triangle”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57000" indent="-2455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Sierpinski Triangle can also be three copies of a Sierpinski Triangle, touching at their corners”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57000" indent="-2455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57000" indent="-2455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57000" indent="-2455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57000" indent="-2455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57000" indent="-2455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What’s the base case? What’s the recursive case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C96C7-F360-47C2-8DF1-41201FC8ACA0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</a:rPr>
              <a:t>© 2011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E16BB-0A78-44B5-80FA-91B757E300FB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6" descr="sierTriangle.png"/>
          <p:cNvPicPr/>
          <p:nvPr/>
        </p:nvPicPr>
        <p:blipFill>
          <a:blip r:embed="rId2"/>
          <a:stretch/>
        </p:blipFill>
        <p:spPr>
          <a:xfrm>
            <a:off x="304920" y="4038480"/>
            <a:ext cx="840240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B40DF-218A-49CD-9878-B45D0AF719D2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</a:rPr>
              <a:t>© 2011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D4F98-27D0-4025-9343-78EB05AC7463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7" descr="sierpinski.png"/>
          <p:cNvPicPr/>
          <p:nvPr/>
        </p:nvPicPr>
        <p:blipFill>
          <a:blip r:embed="rId2"/>
          <a:stretch/>
        </p:blipFill>
        <p:spPr>
          <a:xfrm>
            <a:off x="1295280" y="1143000"/>
            <a:ext cx="54104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DE4C6-5F2C-4EB4-AB36-18819E2683BD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</a:rPr>
              <a:t>© 2011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9A7C7-8D77-44AE-92E3-0073E521FF83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7" descr="sierpinski.png"/>
          <p:cNvPicPr/>
          <p:nvPr/>
        </p:nvPicPr>
        <p:blipFill>
          <a:blip r:embed="rId2"/>
          <a:stretch/>
        </p:blipFill>
        <p:spPr>
          <a:xfrm>
            <a:off x="1295280" y="1143000"/>
            <a:ext cx="5410440" cy="55339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8" descr="sierpinski.png"/>
          <p:cNvPicPr/>
          <p:nvPr/>
        </p:nvPicPr>
        <p:blipFill>
          <a:blip r:embed="rId3"/>
          <a:srcRect l="0" t="13772" r="0" b="22882"/>
          <a:stretch/>
        </p:blipFill>
        <p:spPr>
          <a:xfrm>
            <a:off x="457200" y="1447920"/>
            <a:ext cx="7543800" cy="4887720"/>
          </a:xfrm>
          <a:prstGeom prst="rect">
            <a:avLst/>
          </a:prstGeom>
          <a:ln w="9360">
            <a:solidFill>
              <a:srgbClr val="d4d4d6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84132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 txBox="1"/>
          <p:nvPr/>
        </p:nvSpPr>
        <p:spPr>
          <a:xfrm>
            <a:off x="4568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6000"/>
          </a:bodyPr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Often we can solve a problem </a:t>
            </a:r>
            <a:r>
              <a:rPr b="0" lang="ja-JP" sz="32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op down</a:t>
            </a:r>
            <a:r>
              <a:rPr b="0" lang="ja-JP" sz="3200" spc="-1" strike="noStrike">
                <a:solidFill>
                  <a:srgbClr val="000000"/>
                </a:solidFill>
                <a:latin typeface="Corbe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bonacci numbers –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1, 1, 2, 3, 5, 8, 13, 21, 34, 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rbel"/>
              </a:rPr>
              <a:t>th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tem is i-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rbe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+ i-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rbe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except the first two, both 1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ranslate definition directly: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 if </a:t>
            </a:r>
            <a:r>
              <a:rPr b="0" i="1" lang="en-US" sz="3200" spc="-1" strike="noStrike">
                <a:solidFill>
                  <a:srgbClr val="000000"/>
                </a:solidFill>
                <a:latin typeface="Corbe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&lt;2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      </a:t>
            </a:r>
            <a:r>
              <a:rPr b="0" i="1" lang="en-US" sz="3200" spc="-1" strike="noStrike">
                <a:solidFill>
                  <a:srgbClr val="000000"/>
                </a:solidFill>
                <a:latin typeface="Corbel"/>
              </a:rPr>
              <a:t>fib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Corbe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-1) + </a:t>
            </a:r>
            <a:r>
              <a:rPr b="0" i="1" lang="en-US" sz="3200" spc="-1" strike="noStrike">
                <a:solidFill>
                  <a:srgbClr val="000000"/>
                </a:solidFill>
                <a:latin typeface="Corbel"/>
              </a:rPr>
              <a:t>fib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Corbe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-2)     otherwis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t works like all functions work 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68213-659A-4E25-84C9-41873A46221D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</a:rPr>
              <a:t>© 2011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7737F-3496-4630-942F-E782822F0EC0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eft Brace 9"/>
          <p:cNvSpPr/>
          <p:nvPr/>
        </p:nvSpPr>
        <p:spPr>
          <a:xfrm>
            <a:off x="2209680" y="4343400"/>
            <a:ext cx="152640" cy="685800"/>
          </a:xfrm>
          <a:custGeom>
            <a:avLst/>
            <a:gdLst>
              <a:gd name="textAreaLeft" fmla="*/ 97560 w 152640"/>
              <a:gd name="textAreaRight" fmla="*/ 153000 w 152640"/>
              <a:gd name="textAreaTop" fmla="*/ 3960 h 685800"/>
              <a:gd name="textAreaBottom" fmla="*/ 68184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0"/>
                  <a:pt x="10800" y="400"/>
                </a:cubicBezTo>
                <a:lnTo>
                  <a:pt x="10800" y="10400"/>
                </a:lnTo>
                <a:cubicBezTo>
                  <a:pt x="10800" y="10600"/>
                  <a:pt x="5400" y="10800"/>
                  <a:pt x="0" y="10800"/>
                </a:cubicBezTo>
                <a:cubicBezTo>
                  <a:pt x="5400" y="10800"/>
                  <a:pt x="10800" y="11000"/>
                  <a:pt x="10800" y="11200"/>
                </a:cubicBezTo>
                <a:lnTo>
                  <a:pt x="10800" y="21200"/>
                </a:lnTo>
                <a:cubicBezTo>
                  <a:pt x="10800" y="21400"/>
                  <a:pt x="16200" y="21600"/>
                  <a:pt x="21600" y="21600"/>
                </a:cubicBezTo>
              </a:path>
            </a:pathLst>
          </a:custGeom>
          <a:noFill/>
          <a:ln w="47880">
            <a:solidFill>
              <a:srgbClr val="f0ad00"/>
            </a:solidFill>
            <a:miter/>
          </a:ln>
          <a:effectLst>
            <a:outerShdw dist="2484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10"/>
          <p:cNvSpPr/>
          <p:nvPr/>
        </p:nvSpPr>
        <p:spPr>
          <a:xfrm>
            <a:off x="852120" y="4419720"/>
            <a:ext cx="12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1440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f anyone actually cared about Fibonacci numbers, they could be computed …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56814-E2E9-43FB-8228-E2338D798455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© 2011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34CFB-DB03-4F37-BAE2-6085F3AEB46F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6" descr="fib1.png"/>
          <p:cNvPicPr/>
          <p:nvPr/>
        </p:nvPicPr>
        <p:blipFill>
          <a:blip r:embed="rId2"/>
          <a:srcRect l="0" t="39383" r="18632" b="24854"/>
          <a:stretch/>
        </p:blipFill>
        <p:spPr>
          <a:xfrm>
            <a:off x="838080" y="2286000"/>
            <a:ext cx="7947000" cy="419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841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5720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9000"/>
          </a:bodyPr>
          <a:p>
            <a:pPr marL="625320" indent="-509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 if n&lt;2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625320" indent="-509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      </a:t>
            </a:r>
            <a:r>
              <a:rPr b="0" i="1" lang="en-US" sz="3200" spc="-1" strike="noStrike">
                <a:solidFill>
                  <a:srgbClr val="000000"/>
                </a:solidFill>
                <a:latin typeface="Corbel"/>
              </a:rPr>
              <a:t>fib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Corbe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-1) + </a:t>
            </a:r>
            <a:r>
              <a:rPr b="0" i="1" lang="en-US" sz="3200" spc="-1" strike="noStrike">
                <a:solidFill>
                  <a:srgbClr val="000000"/>
                </a:solidFill>
                <a:latin typeface="Corbel"/>
              </a:rPr>
              <a:t>fib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Corbe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-2)     otherwis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625320" indent="-5090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625320" indent="-509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b(4) = fib(3) + fib(2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b(3) = fib(2) + fib(1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85320" indent="-22608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b(2) = fib(1) + fib(0) = 1 + 1 = 2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= 2 + 1 = 3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625320" indent="-509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o, fib(4) =  3 + fib(2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b(2) = fib(1) + fib(0) = 1 + 1 = 2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625320" indent="-509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o, fib(4) = 3 + 2 = 5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625320" indent="-5090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2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17ACC-1316-47DD-A6B6-D49E94B63266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</a:rPr>
              <a:t>© 2011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05AE2-6DD6-42B4-A5BC-7A93148919CD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eft Brace 9"/>
          <p:cNvSpPr/>
          <p:nvPr/>
        </p:nvSpPr>
        <p:spPr>
          <a:xfrm>
            <a:off x="2209680" y="1219320"/>
            <a:ext cx="152640" cy="685800"/>
          </a:xfrm>
          <a:custGeom>
            <a:avLst/>
            <a:gdLst>
              <a:gd name="textAreaLeft" fmla="*/ 97560 w 152640"/>
              <a:gd name="textAreaRight" fmla="*/ 153000 w 152640"/>
              <a:gd name="textAreaTop" fmla="*/ 3960 h 685800"/>
              <a:gd name="textAreaBottom" fmla="*/ 68184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0"/>
                  <a:pt x="10800" y="400"/>
                </a:cubicBezTo>
                <a:lnTo>
                  <a:pt x="10800" y="10400"/>
                </a:lnTo>
                <a:cubicBezTo>
                  <a:pt x="10800" y="10600"/>
                  <a:pt x="5400" y="10800"/>
                  <a:pt x="0" y="10800"/>
                </a:cubicBezTo>
                <a:cubicBezTo>
                  <a:pt x="5400" y="10800"/>
                  <a:pt x="10800" y="11000"/>
                  <a:pt x="10800" y="11200"/>
                </a:cubicBezTo>
                <a:lnTo>
                  <a:pt x="10800" y="21200"/>
                </a:lnTo>
                <a:cubicBezTo>
                  <a:pt x="10800" y="21400"/>
                  <a:pt x="16200" y="21600"/>
                  <a:pt x="21600" y="21600"/>
                </a:cubicBezTo>
              </a:path>
            </a:pathLst>
          </a:custGeom>
          <a:noFill/>
          <a:ln w="47880">
            <a:solidFill>
              <a:srgbClr val="f0ad00"/>
            </a:solidFill>
            <a:miter/>
          </a:ln>
          <a:effectLst>
            <a:outerShdw dist="2484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10"/>
          <p:cNvSpPr/>
          <p:nvPr/>
        </p:nvSpPr>
        <p:spPr>
          <a:xfrm>
            <a:off x="852120" y="1295280"/>
            <a:ext cx="12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8"/>
          <p:cNvSpPr/>
          <p:nvPr/>
        </p:nvSpPr>
        <p:spPr>
          <a:xfrm>
            <a:off x="5943600" y="2971800"/>
            <a:ext cx="3048120" cy="26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d4d4d6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grammers d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 need to worry about the details if the definition is right and the termination is right; the computer does the 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CC140-378E-43C7-AA11-54923E7FE695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© 2011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B2B63-9F9B-4F8D-8713-D73E8EE261D4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7" descr="random3.png"/>
          <p:cNvPicPr/>
          <p:nvPr/>
        </p:nvPicPr>
        <p:blipFill>
          <a:blip r:embed="rId2"/>
          <a:srcRect l="0" t="14440" r="4576" b="29947"/>
          <a:stretch/>
        </p:blipFill>
        <p:spPr>
          <a:xfrm>
            <a:off x="1600200" y="2438280"/>
            <a:ext cx="6100920" cy="426744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8" descr="tree1.png"/>
          <p:cNvPicPr/>
          <p:nvPr/>
        </p:nvPicPr>
        <p:blipFill>
          <a:blip r:embed="rId3"/>
          <a:srcRect l="0" t="18876" r="10036" b="34943"/>
          <a:stretch/>
        </p:blipFill>
        <p:spPr>
          <a:xfrm>
            <a:off x="609480" y="1219320"/>
            <a:ext cx="7815240" cy="98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5" name="TextBox 9"/>
          <p:cNvSpPr/>
          <p:nvPr/>
        </p:nvSpPr>
        <p:spPr>
          <a:xfrm>
            <a:off x="6248520" y="2895480"/>
            <a:ext cx="236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oxes are drawn in order, left to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8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0CE48-C36F-4D77-BEDD-A298FEEB23B3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© 2011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D3974-9CFE-41E6-85BC-CD409AB3A217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10" descr="randoma.png"/>
          <p:cNvPicPr/>
          <p:nvPr/>
        </p:nvPicPr>
        <p:blipFill>
          <a:blip r:embed="rId2"/>
          <a:srcRect l="0" t="14690" r="6878" b="26559"/>
          <a:stretch/>
        </p:blipFill>
        <p:spPr>
          <a:xfrm>
            <a:off x="1295280" y="2286000"/>
            <a:ext cx="5867640" cy="4441680"/>
          </a:xfrm>
          <a:prstGeom prst="rect">
            <a:avLst/>
          </a:prstGeom>
          <a:ln w="0">
            <a:noFill/>
          </a:ln>
        </p:spPr>
      </p:pic>
      <p:sp>
        <p:nvSpPr>
          <p:cNvPr id="432" name="TextBox 9"/>
          <p:cNvSpPr/>
          <p:nvPr/>
        </p:nvSpPr>
        <p:spPr>
          <a:xfrm>
            <a:off x="6400800" y="251460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level 0 call draws a lea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2" descr="Screen Shot 2014-02-10 at 10.56.16 AM.png"/>
          <p:cNvPicPr/>
          <p:nvPr/>
        </p:nvPicPr>
        <p:blipFill>
          <a:blip r:embed="rId3"/>
          <a:srcRect l="5658" t="20864" r="14992" b="37729"/>
          <a:stretch/>
        </p:blipFill>
        <p:spPr>
          <a:xfrm>
            <a:off x="1219320" y="1143000"/>
            <a:ext cx="662940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1440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 txBox="1"/>
          <p:nvPr/>
        </p:nvSpPr>
        <p:spPr>
          <a:xfrm>
            <a:off x="228600" y="1066680"/>
            <a:ext cx="4191120" cy="51818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4000"/>
          </a:bodyPr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Recursion often simplifies programming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t’s only a big deal to CS people, and for them only because it is so “elegant” (?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e Processing Ref for this cute program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6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38458-9E94-40E0-9498-9852D0892253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</a:rPr>
              <a:t>© 2011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5249B-FAF9-4F88-A68C-95208CBF5337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Picture 6" descr="galaxy.tiff"/>
          <p:cNvPicPr/>
          <p:nvPr/>
        </p:nvPicPr>
        <p:blipFill>
          <a:blip r:embed="rId2"/>
          <a:srcRect l="5999" t="4600" r="23203" b="27585"/>
          <a:stretch/>
        </p:blipFill>
        <p:spPr>
          <a:xfrm>
            <a:off x="4419720" y="1219320"/>
            <a:ext cx="4495680" cy="44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1440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8AED1-79AD-4F9B-8212-943F64B16380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</a:rPr>
              <a:t>© 2011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88BA2-F9F2-4950-8A35-B6CC97081B9C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6" descr="lightbot.png"/>
          <p:cNvPicPr/>
          <p:nvPr/>
        </p:nvPicPr>
        <p:blipFill>
          <a:blip r:embed="rId2"/>
          <a:stretch/>
        </p:blipFill>
        <p:spPr>
          <a:xfrm>
            <a:off x="304920" y="1219320"/>
            <a:ext cx="8534160" cy="4841640"/>
          </a:xfrm>
          <a:prstGeom prst="rect">
            <a:avLst/>
          </a:prstGeom>
          <a:ln w="0">
            <a:noFill/>
          </a:ln>
        </p:spPr>
      </p:pic>
      <p:sp>
        <p:nvSpPr>
          <p:cNvPr id="314" name="TextBox 7"/>
          <p:cNvSpPr/>
          <p:nvPr/>
        </p:nvSpPr>
        <p:spPr>
          <a:xfrm>
            <a:off x="380880" y="144792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cursion means to call a function in its own 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5" name="Straight Arrow Connector 9"/>
          <p:cNvCxnSpPr/>
          <p:nvPr/>
        </p:nvCxnSpPr>
        <p:spPr>
          <a:xfrm>
            <a:off x="4266720" y="2057400"/>
            <a:ext cx="3506040" cy="1905840"/>
          </a:xfrm>
          <a:prstGeom prst="straightConnector1">
            <a:avLst/>
          </a:prstGeom>
          <a:ln w="47880">
            <a:solidFill>
              <a:srgbClr val="f0ad00"/>
            </a:solidFill>
            <a:miter/>
            <a:tailEnd len="med" type="arrow" w="med"/>
          </a:ln>
        </p:spPr>
      </p:cxn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06704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B813B-CB66-4A99-87BF-3D148F4C27FA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© 2011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ADAF7-5FBA-4705-BC75-AFBAD4547606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3" descr="random2.png"/>
          <p:cNvPicPr/>
          <p:nvPr/>
        </p:nvPicPr>
        <p:blipFill>
          <a:blip r:embed="rId2"/>
          <a:srcRect l="0" t="5160" r="0" b="30189"/>
          <a:stretch/>
        </p:blipFill>
        <p:spPr>
          <a:xfrm>
            <a:off x="380880" y="1143000"/>
            <a:ext cx="8374320" cy="556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Title 1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766360" cy="99396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f the </a:t>
            </a:r>
            <a:r>
              <a:rPr b="0" lang="ja-JP" sz="32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oncept applies,</a:t>
            </a:r>
            <a:r>
              <a:rPr b="0" lang="ja-JP" sz="3200" spc="-1" strike="noStrike">
                <a:solidFill>
                  <a:srgbClr val="000000"/>
                </a:solidFill>
                <a:latin typeface="Corbe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use i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9D3E1-5EEB-4C3A-B6D4-579EC3B08708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</a:rPr>
              <a:t>© 2010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FA8AC-9F72-4CA1-A1E2-118F8041806A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6" descr="lightbot13.gif"/>
          <p:cNvPicPr/>
          <p:nvPr/>
        </p:nvPicPr>
        <p:blipFill>
          <a:blip r:embed="rId2"/>
          <a:stretch/>
        </p:blipFill>
        <p:spPr>
          <a:xfrm>
            <a:off x="654120" y="1866960"/>
            <a:ext cx="7880400" cy="458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1440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45720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pecification: Draw alternating purple &amp; gold bars across the top, leaving 10 px at each en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How large is canvas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How many bars are needed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What color to start/end with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4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56F42-156E-4CD5-B0F7-FFCF60FBD8C7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© 2011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4B328-532D-4C4F-AAAA-BA6A0527639F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6" descr="rec2.png"/>
          <p:cNvPicPr/>
          <p:nvPr/>
        </p:nvPicPr>
        <p:blipFill>
          <a:blip r:embed="rId2"/>
          <a:stretch/>
        </p:blipFill>
        <p:spPr>
          <a:xfrm>
            <a:off x="685800" y="3733920"/>
            <a:ext cx="6350040" cy="2819160"/>
          </a:xfrm>
          <a:prstGeom prst="rect">
            <a:avLst/>
          </a:prstGeom>
          <a:ln w="0">
            <a:noFill/>
          </a:ln>
        </p:spPr>
      </p:pic>
      <p:sp>
        <p:nvSpPr>
          <p:cNvPr id="328" name="Rounded Rectangle 7"/>
          <p:cNvSpPr/>
          <p:nvPr/>
        </p:nvSpPr>
        <p:spPr>
          <a:xfrm>
            <a:off x="6248520" y="4800600"/>
            <a:ext cx="2666880" cy="1905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f00"/>
              </a:gs>
              <a:gs pos="100000">
                <a:srgbClr val="cc8900"/>
              </a:gs>
            </a:gsLst>
            <a:lin ang="5400000"/>
          </a:gradFill>
          <a:ln cap="rnd" w="6480">
            <a:solidFill>
              <a:srgbClr val="f0ac00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Don’t Kn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Make solution that is flexible and adjust l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Title 1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8534160" cy="9144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7CD4F-08CD-4630-BF30-365448C2675E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© 2011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6E318-37B2-40B6-8F9D-A5E3F1306B12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6" descr="rec1.png"/>
          <p:cNvPicPr/>
          <p:nvPr/>
        </p:nvPicPr>
        <p:blipFill>
          <a:blip r:embed="rId2"/>
          <a:stretch/>
        </p:blipFill>
        <p:spPr>
          <a:xfrm>
            <a:off x="457200" y="1143000"/>
            <a:ext cx="4464000" cy="5410080"/>
          </a:xfrm>
          <a:prstGeom prst="rect">
            <a:avLst/>
          </a:prstGeom>
          <a:ln w="0">
            <a:noFill/>
          </a:ln>
        </p:spPr>
      </p:pic>
      <p:sp>
        <p:nvSpPr>
          <p:cNvPr id="335" name="TextBox 7"/>
          <p:cNvSpPr/>
          <p:nvPr/>
        </p:nvSpPr>
        <p:spPr>
          <a:xfrm>
            <a:off x="5486400" y="3657600"/>
            <a:ext cx="207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w A Purple 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8"/>
          <p:cNvSpPr/>
          <p:nvPr/>
        </p:nvSpPr>
        <p:spPr>
          <a:xfrm>
            <a:off x="5484960" y="4327560"/>
            <a:ext cx="18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w A Gold 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9"/>
          <p:cNvSpPr/>
          <p:nvPr/>
        </p:nvSpPr>
        <p:spPr>
          <a:xfrm>
            <a:off x="5486400" y="49975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ere Space For One More Pair Before En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10"/>
          <p:cNvSpPr/>
          <p:nvPr/>
        </p:nvSpPr>
        <p:spPr>
          <a:xfrm>
            <a:off x="5484600" y="5943600"/>
            <a:ext cx="184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up, Do It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9" name="Straight Arrow Connector 12"/>
          <p:cNvCxnSpPr>
            <a:stCxn id="335" idx="1"/>
          </p:cNvCxnSpPr>
          <p:nvPr/>
        </p:nvCxnSpPr>
        <p:spPr>
          <a:xfrm flipH="1">
            <a:off x="3961800" y="3841920"/>
            <a:ext cx="1524600" cy="730800"/>
          </a:xfrm>
          <a:prstGeom prst="straightConnector1">
            <a:avLst/>
          </a:prstGeom>
          <a:ln w="47880">
            <a:solidFill>
              <a:srgbClr val="f0ad00"/>
            </a:solidFill>
            <a:miter/>
            <a:tailEnd len="med" type="arrow" w="med"/>
          </a:ln>
        </p:spPr>
      </p:cxnSp>
      <p:cxnSp>
        <p:nvCxnSpPr>
          <p:cNvPr id="340" name="Straight Arrow Connector 15"/>
          <p:cNvCxnSpPr/>
          <p:nvPr/>
        </p:nvCxnSpPr>
        <p:spPr>
          <a:xfrm flipH="1">
            <a:off x="4419000" y="4495680"/>
            <a:ext cx="1067400" cy="534240"/>
          </a:xfrm>
          <a:prstGeom prst="straightConnector1">
            <a:avLst/>
          </a:prstGeom>
          <a:ln w="47880">
            <a:solidFill>
              <a:srgbClr val="f0ad00"/>
            </a:solidFill>
            <a:miter/>
            <a:tailEnd len="med" type="arrow" w="med"/>
          </a:ln>
        </p:spPr>
      </p:cxnSp>
      <p:cxnSp>
        <p:nvCxnSpPr>
          <p:cNvPr id="341" name="Straight Arrow Connector 17"/>
          <p:cNvCxnSpPr/>
          <p:nvPr/>
        </p:nvCxnSpPr>
        <p:spPr>
          <a:xfrm flipH="1">
            <a:off x="4038120" y="5181120"/>
            <a:ext cx="1448640" cy="229320"/>
          </a:xfrm>
          <a:prstGeom prst="straightConnector1">
            <a:avLst/>
          </a:prstGeom>
          <a:ln w="47880">
            <a:solidFill>
              <a:srgbClr val="f0ad00"/>
            </a:solidFill>
            <a:miter/>
            <a:tailEnd len="med" type="arrow" w="med"/>
          </a:ln>
        </p:spPr>
      </p:cxnSp>
      <p:cxnSp>
        <p:nvCxnSpPr>
          <p:cNvPr id="342" name="Straight Arrow Connector 20"/>
          <p:cNvCxnSpPr/>
          <p:nvPr/>
        </p:nvCxnSpPr>
        <p:spPr>
          <a:xfrm flipH="1" flipV="1">
            <a:off x="3885480" y="5790960"/>
            <a:ext cx="1600920" cy="381600"/>
          </a:xfrm>
          <a:prstGeom prst="straightConnector1">
            <a:avLst/>
          </a:prstGeom>
          <a:ln w="47880">
            <a:solidFill>
              <a:srgbClr val="e66c7d"/>
            </a:solidFill>
            <a:miter/>
            <a:tailEnd len="med" type="arrow" w="med"/>
          </a:ln>
        </p:spPr>
      </p:cxnSp>
      <p:pic>
        <p:nvPicPr>
          <p:cNvPr id="343" name="Picture 22" descr="rec2.png"/>
          <p:cNvPicPr/>
          <p:nvPr/>
        </p:nvPicPr>
        <p:blipFill>
          <a:blip r:embed="rId3"/>
          <a:stretch/>
        </p:blipFill>
        <p:spPr>
          <a:xfrm>
            <a:off x="3809880" y="1143000"/>
            <a:ext cx="5234040" cy="2324160"/>
          </a:xfrm>
          <a:prstGeom prst="rect">
            <a:avLst/>
          </a:prstGeom>
          <a:ln w="0">
            <a:noFill/>
          </a:ln>
        </p:spPr>
      </p:pic>
      <p:sp>
        <p:nvSpPr>
          <p:cNvPr id="344" name="Rounded Rectangle 16"/>
          <p:cNvSpPr/>
          <p:nvPr/>
        </p:nvSpPr>
        <p:spPr>
          <a:xfrm>
            <a:off x="1523880" y="6095880"/>
            <a:ext cx="18288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f00"/>
              </a:gs>
              <a:gs pos="100000">
                <a:srgbClr val="cc8900"/>
              </a:gs>
            </a:gsLst>
            <a:lin ang="5400000"/>
          </a:gradFill>
          <a:ln cap="rnd" w="6480">
            <a:solidFill>
              <a:srgbClr val="f0ac00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Just Do I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1440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 txBox="1"/>
          <p:nvPr/>
        </p:nvSpPr>
        <p:spPr>
          <a:xfrm>
            <a:off x="380880" y="114300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32F51-559F-403A-9107-5E49AC880E45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© 2011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D3AC8-7775-4EF2-A868-321687CF98F1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6" descr="rec3.png"/>
          <p:cNvPicPr/>
          <p:nvPr/>
        </p:nvPicPr>
        <p:blipFill>
          <a:blip r:embed="rId2"/>
          <a:stretch/>
        </p:blipFill>
        <p:spPr>
          <a:xfrm>
            <a:off x="380880" y="1219320"/>
            <a:ext cx="7358040" cy="533376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7" descr="rec4.png"/>
          <p:cNvPicPr/>
          <p:nvPr/>
        </p:nvPicPr>
        <p:blipFill>
          <a:blip r:embed="rId3"/>
          <a:srcRect l="0" t="0" r="0" b="44253"/>
          <a:stretch/>
        </p:blipFill>
        <p:spPr>
          <a:xfrm>
            <a:off x="4114800" y="1143000"/>
            <a:ext cx="4915080" cy="1192320"/>
          </a:xfrm>
          <a:prstGeom prst="rect">
            <a:avLst/>
          </a:prstGeom>
          <a:ln w="0">
            <a:noFill/>
          </a:ln>
        </p:spPr>
      </p:pic>
      <p:sp>
        <p:nvSpPr>
          <p:cNvPr id="352" name="TextBox 8"/>
          <p:cNvSpPr/>
          <p:nvPr/>
        </p:nvSpPr>
        <p:spPr>
          <a:xfrm>
            <a:off x="7482960" y="2209680"/>
            <a:ext cx="14882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92aa"/>
                </a:solidFill>
                <a:latin typeface="Arial"/>
              </a:rPr>
              <a:t>width</a:t>
            </a:r>
            <a:r>
              <a:rPr b="0" lang="en-US" sz="1800" spc="-1" strike="noStrike">
                <a:solidFill>
                  <a:srgbClr val="47924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= 5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ounded Rectangle 9"/>
          <p:cNvSpPr/>
          <p:nvPr/>
        </p:nvSpPr>
        <p:spPr>
          <a:xfrm>
            <a:off x="5257800" y="6019920"/>
            <a:ext cx="1828800" cy="60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f00"/>
              </a:gs>
              <a:gs pos="100000">
                <a:srgbClr val="cc8900"/>
              </a:gs>
            </a:gsLst>
            <a:lin ang="5400000"/>
          </a:gradFill>
          <a:ln cap="rnd" w="6480">
            <a:solidFill>
              <a:srgbClr val="f0ac00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Just Do I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1440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 txBox="1"/>
          <p:nvPr/>
        </p:nvSpPr>
        <p:spPr>
          <a:xfrm>
            <a:off x="380520" y="1066680"/>
            <a:ext cx="8534520" cy="51818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2000"/>
          </a:bodyPr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ath people say n! = n * (n-1)*(n-2)* … * 2 * 1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S people say n! = if n == 1, then 1, else n*(n-1)!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420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nt fact( int n) {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nt fact( int n ) {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420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nt soFar = 1;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     if (n &lt;= 1)  {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420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r(int i = 2; i &lt;= n; i = i +1) {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return 1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420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oFar= soFar* i;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     } else {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420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return n*fact(n-1)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420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     }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420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AF4C3-C229-4D48-B056-D5C4AFC601DD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© 2011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B2749-893B-4AC4-8D4D-5A8897D416E6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 txBox="1"/>
          <p:nvPr/>
        </p:nvSpPr>
        <p:spPr>
          <a:xfrm>
            <a:off x="456840" y="12189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Generally, in recursion, the program will show two cases: Base and Recursive … you need both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fact( int n ) {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n &lt;= 1)  {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1;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} else {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n*fact(n-1)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7E7F4-3CFD-4FF5-9702-6B693D67264E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© 2011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FC640-7267-4E7F-99FB-985AA6278B16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6"/>
          <p:cNvSpPr/>
          <p:nvPr/>
        </p:nvSpPr>
        <p:spPr>
          <a:xfrm>
            <a:off x="5804280" y="3886200"/>
            <a:ext cx="23644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is Case – It St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cu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7"/>
          <p:cNvSpPr/>
          <p:nvPr/>
        </p:nvSpPr>
        <p:spPr>
          <a:xfrm>
            <a:off x="5732280" y="5410080"/>
            <a:ext cx="28828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ursive Case – It Ke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cursion Go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8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66F6F-2CCB-45D6-B0AD-57E7E97BFCD1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</a:rPr>
              <a:t>© 2011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3598F-FCEE-46BC-B00E-37EBAE0729CD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6" descr="sierpinskiFig.png"/>
          <p:cNvPicPr/>
          <p:nvPr/>
        </p:nvPicPr>
        <p:blipFill>
          <a:blip r:embed="rId2"/>
          <a:srcRect l="0" t="10001" r="24529" b="11113"/>
          <a:stretch/>
        </p:blipFill>
        <p:spPr>
          <a:xfrm>
            <a:off x="1828800" y="1143000"/>
            <a:ext cx="6330960" cy="5410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9T16:45:58Z</dcterms:created>
  <dc:creator>Information School</dc:creator>
  <dc:description/>
  <dc:language>en-US</dc:language>
  <cp:lastModifiedBy>Larry Snyder</cp:lastModifiedBy>
  <cp:lastPrinted>2011-02-09T18:23:55Z</cp:lastPrinted>
  <dcterms:modified xsi:type="dcterms:W3CDTF">2014-05-13T23:26:22Z</dcterms:modified>
  <cp:revision>105</cp:revision>
  <dc:subject/>
  <dc:title>Welcome to FIT100</dc:title>
</cp:coreProperties>
</file>