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0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37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1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13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1F1-158C-46EB-B77F-8BA20331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461-6DDB-4D93-8A95-0288B846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009-E7B2-40CF-B16F-F866742B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B28-8417-4864-8B2D-DA5C51FA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A834-B3B0-4798-A50D-81D6C45F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792A-5845-4757-AD2B-CF564FC4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F865-9BEE-4858-AD2B-D78CECB4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9E33-A4E6-4659-8024-0D157BB3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79F4-49E3-4BC1-8FAD-81108D8E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DDDB-DD98-4092-ABB5-F898295E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B906-0F80-4F5E-9DFD-0FDA233B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878-4916-4565-97F3-4C5B3BE3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D743-CFEC-44DB-9D83-2A08C1FD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F53E-D613-4391-802B-2C17211B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CD16-4F35-458A-B081-19C5EC08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DCC1-5C26-441A-8DAC-12316AF9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DF12-EA12-402D-A295-89B9A7C8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8DB6-6A1F-442D-A6BC-6D021D3F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49FA-40A2-4B5D-A2D1-B9956349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5C56-3EE8-4278-A67F-0698BB2D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711A-DBAC-4A3A-9E11-DECB1D29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7826-9701-4F4E-8067-F88BC875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E63-ED90-4DA7-99AC-0582F37A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D903-071E-4823-91A0-CFE32955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22B0-2AD8-46C5-8B10-2EEA8DC1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FCA0-4CBD-4434-9DDA-0236F13C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AD5A-CAA2-4A0D-9E5C-4F8F9F6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800F-3FC6-40A5-9716-E6658ECE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8260-1579-4EB8-BE11-74233E26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C27B-0439-41F2-836D-D9F23D65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4CD7-FE64-4593-B0BB-47250FA9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A142D-349D-41D4-A6A4-1A335E90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CA2FC-7D70-4892-BA54-CA43FC4E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08C-0065-4A62-B1CE-3E0C5823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49F0-31EC-485F-B37D-32A9573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D75DE-9CBB-4B96-B942-78419751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D43E-420F-49CC-81A6-09ED37C4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70C5-3CB9-4ACD-B59A-8374909B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51FA2-806E-46C1-B872-4BB670DF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7C72B-5120-4F5A-A57F-A3B4A05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26F03-4DF1-4203-8B63-92A807D5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5C02-8995-412B-BDAD-99DC6682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0AFE-DF74-4E87-8B52-6ACB9EDE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9AC4B-4622-4640-B5E8-84C041D2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A8E-2765-42D1-85BF-788BD4B0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1EAB4-A421-4D54-B014-33CE724A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B1F2D-9AFB-4BCE-9105-5F74D6C5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75C14-9AD9-46E8-87A0-5D3275AE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6605-3075-4257-8D46-A7E56353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DF457-0E0E-44BF-94E6-B8322BB3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F9CD-A395-48D4-ACAD-48FA79FD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05011-141C-4A41-8418-BA2DCE20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4F54E-A712-478B-A165-88CFF6B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6A86-8BA1-4608-9169-21C2CF64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D99E2-2E5C-4AE1-8C88-06ED992D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EC1-D7A1-47F6-99C6-0AB0668F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6E40-CC12-4E0B-8D17-6A576FC0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B7288-FFFA-4B04-9D42-D0F07840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41AC0-360A-40F7-B8A2-6EBF64D4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CAB4E-9253-4E2A-81DC-34BB315A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2F6C-EFB8-4826-9B82-85B7A934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2C4CA-9DA4-474A-89C4-929CB948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425B4-4A34-403B-990D-6181BEDA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C3876-6D64-4F07-9EDC-F935DD46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6C231-315A-4913-A595-A36A58D6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0A88A-2ECB-4870-BF1B-7A7C633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516-E843-4406-BA8A-BD68462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64289-F444-4E65-AB65-4BE41957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F36EB-275E-4678-8B39-C078C3D9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A0630-3CF6-499C-A9F3-B700F0D9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45FFE-DEC4-48AF-A426-8091C50E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B755C-EFA4-4F19-B67D-6ECDFEDE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D3799-132D-4862-B6F1-270889A4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3E95B-278A-47EF-9BBA-FA1C0E6C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09B7F-7B39-4B49-AB96-8B8B1CCD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4CBE-CAFE-4810-AFC4-893FBF10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16FED-25DD-4105-A76D-25BB1BAF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2D8-30AF-487B-8783-B7F1B04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67BAA-B39A-4D43-822B-45F8B8E1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F13CD-F0E9-46E2-9411-4B3A0E4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A012-3EAE-415F-89F4-E6DC58ED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13359-6A96-4B8D-8C22-12503A41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EEE96-F869-4742-9166-C13C7DA6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47C-AE7D-4F50-93FF-2D940B53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ECDF-52BB-484A-AD29-862C0A2F1FB1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91FC-C8D8-4EEA-8EA2-3AC66EFC9CF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1D3C-3E21-4034-AA1D-DB87F214C79F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D1B5-D7E0-4D41-A36D-0F994FCDE4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8EB1-736A-4C95-80DF-56F8EF94E391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90BA-4A0C-4C4B-9C5C-04F02216CF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9343-3E49-4DE3-AAD4-908946D1A623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44C8-53E6-4F69-B8C5-F0B445F18C1A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92BC-59F3-471C-9D7A-52627141B63F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84AD-B6B2-40D6-972A-0A908EDE3B26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5161-D8C3-417A-B9D3-39D1B010AC48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6C47-AB1E-46B2-9DBA-A285C3A768DF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ED2F-6AEE-4188-AD70-1C4EF59941A5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9D57-9524-4A67-A7CF-A8DE6450E1C2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freerice.com/" TargetMode="External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kickstarter.com/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beamartian.jpl.nasa.gov/" TargetMode="Externa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fold.it/" TargetMode="External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378000" y="2054160"/>
            <a:ext cx="8235720" cy="1335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762120" y="5334120"/>
            <a:ext cx="6705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With Special Thanks to Prof. Richard Lad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cell-tower.jpg"/>
          <p:cNvPicPr/>
          <p:nvPr/>
        </p:nvPicPr>
        <p:blipFill>
          <a:blip r:embed="rId1"/>
          <a:stretch/>
        </p:blipFill>
        <p:spPr>
          <a:xfrm>
            <a:off x="2362320" y="152388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373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about ASL over a smart phon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CF8D-986F-4735-9712-D0DA95B6B24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725-2516-426C-81F8-F33C8B0C176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mobileASL2.jpg"/>
          <p:cNvPicPr/>
          <p:nvPr/>
        </p:nvPicPr>
        <p:blipFill>
          <a:blip r:embed="rId3"/>
          <a:stretch/>
        </p:blipFill>
        <p:spPr>
          <a:xfrm>
            <a:off x="152280" y="3809880"/>
            <a:ext cx="3505320" cy="2327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MobileASL.jpg"/>
          <p:cNvPicPr/>
          <p:nvPr/>
        </p:nvPicPr>
        <p:blipFill>
          <a:blip r:embed="rId4"/>
          <a:stretch/>
        </p:blipFill>
        <p:spPr>
          <a:xfrm>
            <a:off x="3962520" y="3200400"/>
            <a:ext cx="5065560" cy="3276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0"/>
          <p:cNvSpPr/>
          <p:nvPr/>
        </p:nvSpPr>
        <p:spPr>
          <a:xfrm>
            <a:off x="5276880" y="19051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gh problems: Bandwid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Speed, Battery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n’t think of disabled people as a medical, educational or social “problem” … think how tech can let them live WELL with a disabili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734B-7234-44FB-A45D-CD4E0B1698A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5DD6-23ED-4C1C-B141-9D7CA3AC1F7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ounded Rectangle 6"/>
          <p:cNvSpPr/>
          <p:nvPr/>
        </p:nvSpPr>
        <p:spPr>
          <a:xfrm>
            <a:off x="1447920" y="3124080"/>
            <a:ext cx="5867280" cy="198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ssisting The Disabled Is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rst: Their Lives Ar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Next: Everyone’s Life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owd sourcing is a distributed problem-solving and production techniqu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blems are broadcast to an unknown group of ‘solvers’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lvers’ – the crowd – submit solutions that become the property of the broadcas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are compensated in some form -- money, prizes, community accolades, intellectual satisfaction and/or skill develop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rs are the perfect ‘agent’ for thi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EA5F-689E-4C06-99F5-3FC70C95EBC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40BF-5C84-4533-ADCF-027187238A2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owd sourcing doesn’t need computers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Oxford English Dictionary (OED), started in 1857, is an example. (It has EVERY English word in it; it’s so huge a person would need 120 years to type it in!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ED gave a general call for people to find the earliest use of each word … so, for example,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was first used in 196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,000s and 1,000s of people have helped out, and continue 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83F9-4B7D-407E-A79D-65CADA71063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6632-8DAC-4B17-B11A-66681824A1E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10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9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database of knowled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C05-03FF-42AE-8E7E-50A9592A035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F9A2-4259-4435-BCD5-7B715693789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Screen Shot 2014-02-11 at 3.46.04 PM.png"/>
          <p:cNvPicPr/>
          <p:nvPr/>
        </p:nvPicPr>
        <p:blipFill>
          <a:blip r:embed="rId2"/>
          <a:stretch/>
        </p:blipFill>
        <p:spPr>
          <a:xfrm>
            <a:off x="990720" y="1447920"/>
            <a:ext cx="693396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www.freerice.com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 Food Program gets rice; Users learn voca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2A0D-FFE8-4E33-BCC0-3EAC2E4150AC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4B47-9D8C-46EE-A0BD-239244B2E1EE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freeRice.png"/>
          <p:cNvPicPr/>
          <p:nvPr/>
        </p:nvPicPr>
        <p:blipFill>
          <a:blip r:embed="rId3"/>
          <a:stretch/>
        </p:blipFill>
        <p:spPr>
          <a:xfrm>
            <a:off x="228600" y="1752480"/>
            <a:ext cx="865512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990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www.kickstarter.c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trepreneur gets presales; users get discou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0087-7419-481D-9DFC-4EEB67EB583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AC86-AD0E-47C8-A0BD-E0DD1ED24E13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ivajean1.png"/>
          <p:cNvPicPr/>
          <p:nvPr/>
        </p:nvPicPr>
        <p:blipFill>
          <a:blip r:embed="rId3"/>
          <a:stretch/>
        </p:blipFill>
        <p:spPr>
          <a:xfrm>
            <a:off x="1143000" y="1676520"/>
            <a:ext cx="6934320" cy="42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beamartian.jpl.nasa.gov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ASA processes data; user gets prizes, stat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E792-F0FE-4209-88B0-A38B2F6C025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C549-774D-43AC-BF4D-C0F25AA1247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martian.png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fold.i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ttp://vimeo.com/focusforwardfilms/semifinalists/5188839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IDS research furthered; users get status!!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3EE5-4F9B-453D-96DD-2EEB987D0500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8DED-81E6-422C-98B6-63D37A44490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foldit.png"/>
          <p:cNvPicPr/>
          <p:nvPr/>
        </p:nvPicPr>
        <p:blipFill>
          <a:blip r:embed="rId3"/>
          <a:stretch/>
        </p:blipFill>
        <p:spPr>
          <a:xfrm>
            <a:off x="380880" y="1676520"/>
            <a:ext cx="7620120" cy="4167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gamers.png"/>
          <p:cNvPicPr/>
          <p:nvPr/>
        </p:nvPicPr>
        <p:blipFill>
          <a:blip r:embed="rId4"/>
          <a:stretch/>
        </p:blipFill>
        <p:spPr>
          <a:xfrm>
            <a:off x="5791320" y="3352680"/>
            <a:ext cx="284292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other crowd sourcing activities are you familiar with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6320-0780-4CC5-96B6-73054EC2AFB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19B2-8C39-4E4C-AC2E-D28A85C1A0D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0A62-F35F-4B6E-BBC6-4435FC1A4E1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2CDB-AA43-4152-B134-DF294FC3422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2118-43AE-43A6-8B7C-42D21964974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we think of computers and society at the same time, we usually think of social media – FB, Twitter, Tumblr, Pintere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other crowd sourcing activities are you familiar with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types of crowd sourcing do the examples illustrat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1399-8E58-48D7-B412-59053A6A34D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B035-2F9B-4A2D-B75E-9D0903DC07E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08800" cy="993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eople bring a variety of skills to the problem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amers may be better at 3D visualization than people selected for medical research knowledg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tivation – Learning vocabulary and giving rice to UNWFP is better than learning vocabulary alo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rge supply of workers with nothing else to do –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echanical Turk exploits programming skil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95680" indent="-205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eing a Martian is a “better” time waster than SuDoKu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lective intelligence trumps a few smart peop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ticipating in something new is FUN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871B-8514-4B45-A7B5-6DE0AEF0BC4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F8FB-F182-4024-9B1F-7AB69116DEB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rs and the Internet made crowd sourcing a powerful, easy-to-apply idea that makes the world bet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may all be able (and eager to) contribu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“two heads are better than one” than a million heads are at least better than 500,00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F6E9-E0DD-4243-9771-62D27AE28E7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4A25-7F8D-4D1A-86C7-456E0314783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236080" cy="987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rthday Paradox – For 23 randomly selected people, the odds are better than 0.5 that two of them have the same birthd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dds are 0.999 when there are just 70 peop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should be true in this room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2075-A7F4-4D8D-8B01-7D000E22D04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B957-032D-462E-9956-1328E91EF22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236080" cy="9874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A977-F6A7-442F-A6DD-82B1FB5037E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501F-2973-4C83-944B-291B2123C45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heatmapbirthdays1.jpg"/>
          <p:cNvPicPr/>
          <p:nvPr/>
        </p:nvPicPr>
        <p:blipFill>
          <a:blip r:embed="rId2"/>
          <a:stretch/>
        </p:blipFill>
        <p:spPr>
          <a:xfrm>
            <a:off x="4495680" y="152280"/>
            <a:ext cx="4496040" cy="65232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Screen Shot 2014-02-12 at 9.37.22 AM.png"/>
          <p:cNvPicPr/>
          <p:nvPr/>
        </p:nvPicPr>
        <p:blipFill>
          <a:blip r:embed="rId3"/>
          <a:srcRect l="9866" t="6784" r="10859" b="9605"/>
          <a:stretch/>
        </p:blipFill>
        <p:spPr>
          <a:xfrm>
            <a:off x="762120" y="990720"/>
            <a:ext cx="3581280" cy="56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EFBA-CCB5-4C34-A3D8-8BE6841A46C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96AC-28A9-4487-96C1-ADD028637EB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E36A-FF65-436A-AA6E-E7AE40BFC3A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we think of computers and society at the same time, we usually think of social media – FB, Twitter, Tumblr, Pintere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stead, think of ways computers make the society bet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day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Assistive Technologies help people with disabiliti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Crowd Sourcing harnesses the power of the peop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Straight Connector 2"/>
          <p:cNvSpPr/>
          <p:nvPr/>
        </p:nvSpPr>
        <p:spPr>
          <a:xfrm>
            <a:off x="2286000" y="1295280"/>
            <a:ext cx="3733920" cy="167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9"/>
          <p:cNvSpPr/>
          <p:nvPr/>
        </p:nvSpPr>
        <p:spPr>
          <a:xfrm flipV="1">
            <a:off x="1523880" y="1447560"/>
            <a:ext cx="4876920" cy="1523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650 million people worldwi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ght: blind, low vision, color bli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aring: deaf, hard of hear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ech: limited ability to speak, stutter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bility: limited ability to walk, use hands, a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gnition: dyslexia, short-term memory loss, dementi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ultiple: deaf-blindn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E3CB-26D1-4313-9B34-A35AD362449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65C2-6E84-4D7C-989D-563A1790D3A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10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ay Kurzweil built first text-to-speech mach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076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nk of the proble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igh resolution scanning of docu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acter recognition from bits (OC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d identif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ech Synthes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+ a zillion tough te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blems in betwe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AMAZING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1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2EF8-3F7F-4306-BB5A-8BF4AF18520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AC20-A587-4411-A0CA-55757AFDC30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250px-Raymond_Kurzweil_Fantastic_Voyage.jpg"/>
          <p:cNvPicPr/>
          <p:nvPr/>
        </p:nvPicPr>
        <p:blipFill>
          <a:blip r:embed="rId2"/>
          <a:stretch/>
        </p:blipFill>
        <p:spPr>
          <a:xfrm>
            <a:off x="5029200" y="3429000"/>
            <a:ext cx="228600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21896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11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tevie Wonder said: "The Kurzweil Reading Machine was a breakthrough that changed my life. With the Kurzweil Reading Machine, I could read anything I wanted with complete privacy: music lyrics, letters from my children, the latest best sellers and magazines, memos from my business associates. </a:t>
            </a:r>
            <a:r>
              <a:rPr b="0" lang="en-US" sz="2000" spc="-1" strike="noStrike">
                <a:solidFill>
                  <a:srgbClr val="ff0000"/>
                </a:solidFill>
                <a:latin typeface="Corbel"/>
              </a:rPr>
              <a:t>It gave blind people the one thing that everyone treasures, which is independence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."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A82D-8ED2-498D-B8E8-2644E5BD6F80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1061-368B-434B-9E86-F1522888598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kur1-008.jpg"/>
          <p:cNvPicPr/>
          <p:nvPr/>
        </p:nvPicPr>
        <p:blipFill>
          <a:blip r:embed="rId2"/>
          <a:stretch/>
        </p:blipFill>
        <p:spPr>
          <a:xfrm>
            <a:off x="3886200" y="12193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6563520" y="16765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 Kurzw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3" descr="google_books_logo.jpg"/>
          <p:cNvPicPr/>
          <p:nvPr/>
        </p:nvPicPr>
        <p:blipFill>
          <a:blip r:embed="rId1"/>
          <a:stretch/>
        </p:blipFill>
        <p:spPr>
          <a:xfrm>
            <a:off x="4191120" y="4343400"/>
            <a:ext cx="2400120" cy="1706400"/>
          </a:xfrm>
          <a:prstGeom prst="rect">
            <a:avLst/>
          </a:prstGeom>
          <a:ln w="0">
            <a:noFill/>
          </a:ln>
        </p:spPr>
      </p:pic>
      <p:pic>
        <p:nvPicPr>
          <p:cNvPr id="340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8331-54D4-46E8-8FA2-6142C43DA65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6B91-FD46-4FC0-9A65-F1116B17435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kurzweil_reading_machine.jpg"/>
          <p:cNvPicPr/>
          <p:nvPr/>
        </p:nvPicPr>
        <p:blipFill>
          <a:blip r:embed="rId3"/>
          <a:srcRect l="0" t="12318" r="0" b="0"/>
          <a:stretch/>
        </p:blipFill>
        <p:spPr>
          <a:xfrm>
            <a:off x="533520" y="1230480"/>
            <a:ext cx="1923840" cy="2249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reader-hand3.jpg"/>
          <p:cNvPicPr/>
          <p:nvPr/>
        </p:nvPicPr>
        <p:blipFill>
          <a:blip r:embed="rId4"/>
          <a:srcRect l="0" t="0" r="29943" b="29997"/>
          <a:stretch/>
        </p:blipFill>
        <p:spPr>
          <a:xfrm>
            <a:off x="6781680" y="1523880"/>
            <a:ext cx="1957680" cy="2373480"/>
          </a:xfrm>
          <a:prstGeom prst="rect">
            <a:avLst/>
          </a:prstGeom>
          <a:ln w="0">
            <a:noFill/>
          </a:ln>
        </p:spPr>
      </p:pic>
      <p:sp>
        <p:nvSpPr>
          <p:cNvPr id="347" name="TextBox 8"/>
          <p:cNvSpPr/>
          <p:nvPr/>
        </p:nvSpPr>
        <p:spPr>
          <a:xfrm>
            <a:off x="3601080" y="1143000"/>
            <a:ext cx="53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s://www.youtube.com/watch?v=TOwDzDnd9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9"/>
          <p:cNvSpPr/>
          <p:nvPr/>
        </p:nvSpPr>
        <p:spPr>
          <a:xfrm>
            <a:off x="4661640" y="16765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FB 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0" descr="prismo.jpg"/>
          <p:cNvPicPr/>
          <p:nvPr/>
        </p:nvPicPr>
        <p:blipFill>
          <a:blip r:embed="rId5"/>
          <a:srcRect l="17245" t="-9803" r="2259" b="9823"/>
          <a:stretch/>
        </p:blipFill>
        <p:spPr>
          <a:xfrm>
            <a:off x="7010280" y="4343400"/>
            <a:ext cx="1881360" cy="17524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11"/>
          <p:cNvSpPr/>
          <p:nvPr/>
        </p:nvSpPr>
        <p:spPr>
          <a:xfrm>
            <a:off x="5653440" y="40384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mo for i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14"/>
          <p:cNvSpPr/>
          <p:nvPr/>
        </p:nvSpPr>
        <p:spPr>
          <a:xfrm>
            <a:off x="2438280" y="2209680"/>
            <a:ext cx="327672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17"/>
          <p:cNvSpPr/>
          <p:nvPr/>
        </p:nvSpPr>
        <p:spPr>
          <a:xfrm>
            <a:off x="2438280" y="2438280"/>
            <a:ext cx="335304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9"/>
          <p:cNvSpPr/>
          <p:nvPr/>
        </p:nvSpPr>
        <p:spPr>
          <a:xfrm>
            <a:off x="2286000" y="2743200"/>
            <a:ext cx="2514600" cy="19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21"/>
          <p:cNvSpPr/>
          <p:nvPr/>
        </p:nvSpPr>
        <p:spPr>
          <a:xfrm>
            <a:off x="1219320" y="31240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22"/>
          <p:cNvSpPr/>
          <p:nvPr/>
        </p:nvSpPr>
        <p:spPr>
          <a:xfrm>
            <a:off x="2057400" y="3048120"/>
            <a:ext cx="2362320" cy="2743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520RateSign345x2492.gif"/>
          <p:cNvPicPr/>
          <p:nvPr/>
        </p:nvPicPr>
        <p:blipFill>
          <a:blip r:embed="rId6"/>
          <a:stretch/>
        </p:blipFill>
        <p:spPr>
          <a:xfrm>
            <a:off x="152280" y="3733920"/>
            <a:ext cx="3711600" cy="2603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2" descr="logo.jpg"/>
          <p:cNvPicPr/>
          <p:nvPr/>
        </p:nvPicPr>
        <p:blipFill>
          <a:blip r:embed="rId7"/>
          <a:stretch/>
        </p:blipFill>
        <p:spPr>
          <a:xfrm>
            <a:off x="4114800" y="5867280"/>
            <a:ext cx="304812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85DF-0555-4405-86CD-318AD071188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4BCA-A201-49A0-A7F4-E590BD96EC5E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da1.jpg"/>
          <p:cNvPicPr/>
          <p:nvPr/>
        </p:nvPicPr>
        <p:blipFill>
          <a:blip r:embed="rId2"/>
          <a:srcRect l="0" t="0" r="17264" b="0"/>
          <a:stretch/>
        </p:blipFill>
        <p:spPr>
          <a:xfrm>
            <a:off x="228600" y="1371600"/>
            <a:ext cx="4202280" cy="3238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tty.jpg"/>
          <p:cNvPicPr/>
          <p:nvPr/>
        </p:nvPicPr>
        <p:blipFill>
          <a:blip r:embed="rId3"/>
          <a:stretch/>
        </p:blipFill>
        <p:spPr>
          <a:xfrm>
            <a:off x="4648320" y="1371600"/>
            <a:ext cx="3205080" cy="24163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9"/>
          <p:cNvSpPr/>
          <p:nvPr/>
        </p:nvSpPr>
        <p:spPr>
          <a:xfrm>
            <a:off x="414360" y="4876920"/>
            <a:ext cx="52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f people need to type/read text w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ng over a distance …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vention of the acoustic modem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s this has been possible, but only now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0" descr="12353sms.jpg"/>
          <p:cNvPicPr/>
          <p:nvPr/>
        </p:nvPicPr>
        <p:blipFill>
          <a:blip r:embed="rId4"/>
          <a:srcRect l="54364" t="25728" r="20986" b="19043"/>
          <a:stretch/>
        </p:blipFill>
        <p:spPr>
          <a:xfrm>
            <a:off x="6451560" y="3429000"/>
            <a:ext cx="220824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ologies designed to assist the disabled to function in society usually turn out to be extremely useful to everyone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xt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C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ech recogni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ech synthes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lectric toothbru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dewalk curb ramps and on and on and on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2392-A91C-4D4D-9730-547EF7EC8D0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4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A8C8-9244-4102-933A-782E7648193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8:37:27Z</dcterms:created>
  <dc:creator>Information School</dc:creator>
  <dc:description/>
  <dc:language>en-US</dc:language>
  <cp:lastModifiedBy>Larry Snyder</cp:lastModifiedBy>
  <cp:lastPrinted>2011-01-26T18:11:01Z</cp:lastPrinted>
  <dcterms:modified xsi:type="dcterms:W3CDTF">2014-05-13T23:27:16Z</dcterms:modified>
  <cp:revision>119</cp:revision>
  <dc:subject/>
  <dc:title>Welcome to FIT100</dc:title>
</cp:coreProperties>
</file>