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712-2CBA-4EB9-ABBD-76D24835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EBE-4F2B-4114-A617-AFED97FC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BBF-7FA9-4E53-94CE-00A90C48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630-C5C0-4CF1-983D-E1B9ACB4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A64A-A84D-4BDD-9DEB-960CCFA6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E874-AB96-42E9-85C2-26E78F85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5EFE-E81A-4776-B048-0B657AC7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1F11-9A40-4EB0-BEB6-365DAA88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14C6-2A34-4150-B257-4FD3E847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B0F2-69A7-4BA7-A242-5A81F54A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4FBF-A949-42C3-B638-C4D599C8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D11-29F4-4810-B8A7-572A683B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7C15-324C-49B7-9D80-A827EBB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AF87-30FF-4688-BDB1-CCD6B082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BA9D-D4B2-49F6-867B-6B36776C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9A03-B58A-457E-ADA2-B51B2E18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EAA4-BEB2-4B45-AC68-A2AB5997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CA9F-DDBB-4EF0-913E-F5B58EC1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EC20-42F6-4DDA-93FB-6AE6ABC3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B81D-17B6-48F4-BA32-B27F7E48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BCB0-C5B4-47C7-B3F6-A9ED2226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D274-BE62-478B-9F21-ED5049EA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947-DBCB-476F-B530-FA5CC97A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ACF2-D22D-4286-90E3-ABDBDFEE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E708-48DB-4303-9B73-F058A963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AAAA-E184-401F-88E3-36335DFB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8AB7-1C1C-4951-963D-08CCA1EC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690E-6B0E-41C7-A36E-506CEA3C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713EB-A83B-4911-8D64-C379C2E7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EC6FC-E345-4397-B07E-022B2047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7649C-1548-4D8D-9AD7-E32D9059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CD7C4-E454-46D8-BA0A-3EBD2B2B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A9471-03CA-487B-B06F-435DD4F6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744-03B4-4BD8-909D-06139825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55576-A18A-4E8C-8A52-951A14AD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32674-4CDC-424A-BE19-1C780D22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74075-F22C-4BF0-AFBC-A60F8898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61D60-4D33-4458-8782-25C0BDED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93CF5-412B-4FF0-9C18-CADDDB9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E8D50-0BA8-47DA-8ED6-D4E27BC0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E79EF-C810-4F9E-88E9-9420BFD8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74890-721E-487F-9DEA-39022981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49E65-DB71-4820-8BBF-AA6BD38A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85667-0DCA-45C2-8A9A-8D924CCD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997-6A56-4506-B272-5D006D81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1471A-D7E6-4DA5-86D9-0303EF07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C2CC4-C4BD-48AD-AC55-15DB8604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B924C-5353-42D3-BE5F-A4825683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CC890-735D-452F-9D03-39EDBE8F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6502F-4BA0-4F1A-A9E2-57873C0F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0087F-41ED-4D97-BC93-F8E2422A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69173-CB24-4B43-8714-B352E5C1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E724C-C3ED-4527-8F73-4D560595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04BA7-C03D-4B2C-BA8C-C6FE5EA2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259C9-E066-4792-9A62-A06811FF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C02-32E2-414E-8552-2FF90E30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1E956-5B7A-4757-85F1-A863C9DA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2F121-7056-4D42-911D-B7970497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72FAE-B896-4490-BD1D-F9D401EE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3164B-EC6E-41BB-989D-012BDD5E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02D5B-753D-4411-B765-93273AFB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17A53-AD9F-4F01-AB98-27552BF4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73568-0F63-4A52-97AB-2CA3CA1C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2E0AC-D8ED-48B3-B2C3-72E05357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A24D-FF81-40F2-8DA0-45C28E23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F796C-76CC-4A6E-B80A-2AF6970A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3FC-4E8C-4813-82C0-97D3B72F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A025-C929-4B9A-A947-1FD5BE45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C593A-22D0-42E0-BD9E-67496483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7BE76-445F-425F-8D5A-47071ACB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EA32B-040A-4EBF-9B5E-F4632892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111FB-FE03-4C05-ADA8-507F543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F25C6-8671-4536-94D5-0A517DAB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39A83-8A30-4666-A954-9227F97E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79E3C-0D53-47B8-8101-A9D7A7C3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2C25F-52F0-4A3F-AA45-BC8901B8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D7DA9-1923-4555-80E4-A7FEECF5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218-8ED0-4307-A4CE-4130F1CD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CAB4E-2392-41CA-8C26-34C093B4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FE47-FEF0-4BD5-85C1-5723529E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4FD0B-FC6E-49DE-820C-A4B82CD9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08830-D5FB-4A61-9D55-674CD6AE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43E05-050E-4584-B898-D853F462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5F0-EBE3-4CD6-8EBB-DAD62F97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78AF-4057-4867-932B-3C7BBAAA98D1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0D30-DB31-4DC8-9CB7-CAFE867BFB4B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7587-76BA-4F0F-A034-9D99309D7CE9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73B1-4C5E-4FA5-872C-97757F0D01A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0B6B-5FFC-4F22-B7ED-F224570B48A8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5BC9-3D1D-423B-8A6F-AAEDBDBEB93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30B5-77D8-4158-A4E2-D5DD6FEC18DA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1190-6E9A-4D31-AF17-BE6CC928CB07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F4D6-4903-4F45-B4A1-CD0A4CE6D688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2A15-2A3A-401F-A2DC-2AF7E6BAACFC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F0D3-2D95-45A5-AF8F-AD198864B9BC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6E72-3A09-41C9-A750-2231287AD971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AAFC-52D2-4FE3-87CC-69D538DDD615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D184-C8DB-446C-898F-54F0087D41A6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53352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etails and explanati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2286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reate Font …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under Too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8E56-604F-4547-83F1-A9265CBE4160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3EE5-FED6-4704-8330-FE9B07FF3D7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font1.tiff"/>
          <p:cNvPicPr/>
          <p:nvPr/>
        </p:nvPicPr>
        <p:blipFill>
          <a:blip r:embed="rId2"/>
          <a:stretch/>
        </p:blipFill>
        <p:spPr>
          <a:xfrm>
            <a:off x="3657600" y="0"/>
            <a:ext cx="5410080" cy="6769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font5.png"/>
          <p:cNvPicPr/>
          <p:nvPr/>
        </p:nvPicPr>
        <p:blipFill>
          <a:blip r:embed="rId3"/>
          <a:stretch/>
        </p:blipFill>
        <p:spPr>
          <a:xfrm>
            <a:off x="152280" y="2819520"/>
            <a:ext cx="341640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AFF4-9438-4902-BDE9-397DC323A09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CABF-45A9-4A0B-AF8E-A7EBC57EC7B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y to pi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mon fo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loa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nt into t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ata directo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2" descr="font4.png"/>
          <p:cNvPicPr/>
          <p:nvPr/>
        </p:nvPicPr>
        <p:blipFill>
          <a:blip r:embed="rId2"/>
          <a:stretch/>
        </p:blipFill>
        <p:spPr>
          <a:xfrm>
            <a:off x="3505320" y="990720"/>
            <a:ext cx="53974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A124-CFC6-42B1-B242-F066BBAF8CE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471C-844E-4775-BC6F-F7C882EF909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y to pi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mon fo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loa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nt into t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ata directo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2" descr="font4.png"/>
          <p:cNvPicPr/>
          <p:nvPr/>
        </p:nvPicPr>
        <p:blipFill>
          <a:blip r:embed="rId2"/>
          <a:stretch/>
        </p:blipFill>
        <p:spPr>
          <a:xfrm>
            <a:off x="3505320" y="990720"/>
            <a:ext cx="5397480" cy="5410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font3.tiff"/>
          <p:cNvPicPr/>
          <p:nvPr/>
        </p:nvPicPr>
        <p:blipFill>
          <a:blip r:embed="rId3"/>
          <a:srcRect l="16286" t="21159" r="50990" b="41239"/>
          <a:stretch/>
        </p:blipFill>
        <p:spPr>
          <a:xfrm>
            <a:off x="304920" y="3886200"/>
            <a:ext cx="50590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8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D51E-EEFB-4579-AFCE-AB1E18FB62FD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7EEE-1323-4BB4-863F-CAFB79EDE79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2189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ed to declare font name(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2" descr="font1.tiff"/>
          <p:cNvPicPr/>
          <p:nvPr/>
        </p:nvPicPr>
        <p:blipFill>
          <a:blip r:embed="rId2"/>
          <a:srcRect l="0" t="14265" r="35399" b="47420"/>
          <a:stretch/>
        </p:blipFill>
        <p:spPr>
          <a:xfrm>
            <a:off x="3962520" y="1295280"/>
            <a:ext cx="5032080" cy="3581640"/>
          </a:xfrm>
          <a:prstGeom prst="rect">
            <a:avLst/>
          </a:prstGeom>
          <a:ln w="0">
            <a:noFill/>
          </a:ln>
        </p:spPr>
      </p:pic>
      <p:sp>
        <p:nvSpPr>
          <p:cNvPr id="393" name="Right Arrow 3"/>
          <p:cNvSpPr/>
          <p:nvPr/>
        </p:nvSpPr>
        <p:spPr>
          <a:xfrm>
            <a:off x="3581280" y="1143000"/>
            <a:ext cx="381240" cy="5335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38E1-5796-4359-A1DE-1AAD5F38E69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5AA2-4C3F-4FC4-8C67-C6A5C472ED0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2189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ed to declare font name(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ed to load named fo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Picture 2" descr="font1.tiff"/>
          <p:cNvPicPr/>
          <p:nvPr/>
        </p:nvPicPr>
        <p:blipFill>
          <a:blip r:embed="rId2"/>
          <a:srcRect l="0" t="14265" r="35399" b="47420"/>
          <a:stretch/>
        </p:blipFill>
        <p:spPr>
          <a:xfrm>
            <a:off x="3886200" y="1295280"/>
            <a:ext cx="5032440" cy="3581640"/>
          </a:xfrm>
          <a:prstGeom prst="rect">
            <a:avLst/>
          </a:prstGeom>
          <a:ln w="0">
            <a:noFill/>
          </a:ln>
        </p:spPr>
      </p:pic>
      <p:sp>
        <p:nvSpPr>
          <p:cNvPr id="400" name="Right Arrow 7"/>
          <p:cNvSpPr/>
          <p:nvPr/>
        </p:nvSpPr>
        <p:spPr>
          <a:xfrm>
            <a:off x="3581280" y="2438280"/>
            <a:ext cx="381240" cy="5335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0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71E6-161F-47F3-AE5F-DEC45D3B316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ADDF-3F2E-48DC-B4DB-8EB6342167F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2189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ed to declare font name(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ed to load named fo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ed to select named font as “in use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Picture 2" descr="font1.tiff"/>
          <p:cNvPicPr/>
          <p:nvPr/>
        </p:nvPicPr>
        <p:blipFill>
          <a:blip r:embed="rId2"/>
          <a:srcRect l="0" t="14265" r="35399" b="47420"/>
          <a:stretch/>
        </p:blipFill>
        <p:spPr>
          <a:xfrm>
            <a:off x="3886200" y="1295280"/>
            <a:ext cx="5032440" cy="3581640"/>
          </a:xfrm>
          <a:prstGeom prst="rect">
            <a:avLst/>
          </a:prstGeom>
          <a:ln w="0">
            <a:noFill/>
          </a:ln>
        </p:spPr>
      </p:pic>
      <p:sp>
        <p:nvSpPr>
          <p:cNvPr id="407" name="Right Arrow 7"/>
          <p:cNvSpPr/>
          <p:nvPr/>
        </p:nvSpPr>
        <p:spPr>
          <a:xfrm>
            <a:off x="3581280" y="2666880"/>
            <a:ext cx="381240" cy="5335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0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AD0B-66C5-4F55-93C1-CC734CD0024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F62-751E-4D75-BA6D-EF0C1CBD590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2189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ed to declare font name(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ed to load named fo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ed to select named font as “in use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n, fill( ) and write text( … 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3" name="Picture 2" descr="font1.tiff"/>
          <p:cNvPicPr/>
          <p:nvPr/>
        </p:nvPicPr>
        <p:blipFill>
          <a:blip r:embed="rId2"/>
          <a:srcRect l="0" t="14265" r="35399" b="47420"/>
          <a:stretch/>
        </p:blipFill>
        <p:spPr>
          <a:xfrm>
            <a:off x="3886200" y="1295280"/>
            <a:ext cx="5032440" cy="3581640"/>
          </a:xfrm>
          <a:prstGeom prst="rect">
            <a:avLst/>
          </a:prstGeom>
          <a:ln w="0">
            <a:noFill/>
          </a:ln>
        </p:spPr>
      </p:pic>
      <p:sp>
        <p:nvSpPr>
          <p:cNvPr id="414" name="Right Arrow 7"/>
          <p:cNvSpPr/>
          <p:nvPr/>
        </p:nvSpPr>
        <p:spPr>
          <a:xfrm>
            <a:off x="3581280" y="3809880"/>
            <a:ext cx="381240" cy="5335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6" descr="font2.tiff"/>
          <p:cNvPicPr/>
          <p:nvPr/>
        </p:nvPicPr>
        <p:blipFill>
          <a:blip r:embed="rId3"/>
          <a:stretch/>
        </p:blipFill>
        <p:spPr>
          <a:xfrm>
            <a:off x="3505320" y="4495680"/>
            <a:ext cx="5486400" cy="22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609480" y="-45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63C7-A7FC-4DE0-8C0D-11BF869B7A5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EBF7-005A-4C26-AB65-EFE9E7931A2D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" descr="font6.png"/>
          <p:cNvPicPr/>
          <p:nvPr/>
        </p:nvPicPr>
        <p:blipFill>
          <a:blip r:embed="rId2"/>
          <a:srcRect l="0" t="0" r="0" b="41154"/>
          <a:stretch/>
        </p:blipFill>
        <p:spPr>
          <a:xfrm>
            <a:off x="609480" y="1219320"/>
            <a:ext cx="8328240" cy="50292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font6.png"/>
          <p:cNvPicPr/>
          <p:nvPr/>
        </p:nvPicPr>
        <p:blipFill>
          <a:blip r:embed="rId3"/>
          <a:srcRect l="0" t="59568" r="27138" b="7632"/>
          <a:stretch/>
        </p:blipFill>
        <p:spPr>
          <a:xfrm>
            <a:off x="5029200" y="3429000"/>
            <a:ext cx="399744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5CAF-A311-4C7A-994E-2FE9C447CF28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09D6-9DFA-49AA-BC00-C36AB94A1E8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font7.tiff"/>
          <p:cNvPicPr/>
          <p:nvPr/>
        </p:nvPicPr>
        <p:blipFill>
          <a:blip r:embed="rId2"/>
          <a:srcRect l="0" t="14770" r="36340" b="35409"/>
          <a:stretch/>
        </p:blipFill>
        <p:spPr>
          <a:xfrm>
            <a:off x="762120" y="1066680"/>
            <a:ext cx="5943600" cy="5581800"/>
          </a:xfrm>
          <a:prstGeom prst="rect">
            <a:avLst/>
          </a:prstGeom>
          <a:ln w="0">
            <a:noFill/>
          </a:ln>
        </p:spPr>
      </p:pic>
      <p:sp>
        <p:nvSpPr>
          <p:cNvPr id="429" name="TextBox 7"/>
          <p:cNvSpPr/>
          <p:nvPr/>
        </p:nvSpPr>
        <p:spPr>
          <a:xfrm>
            <a:off x="3124080" y="12952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String is a datatype of a letter sequence. The sequence must be surrounded by (double) quotes. "" is the empty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4BD9-114F-457D-867C-85EDDD7199D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6F92-5275-4417-8F1D-25D7B59E4473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font7.tiff"/>
          <p:cNvPicPr/>
          <p:nvPr/>
        </p:nvPicPr>
        <p:blipFill>
          <a:blip r:embed="rId2"/>
          <a:srcRect l="0" t="14770" r="36340" b="35409"/>
          <a:stretch/>
        </p:blipFill>
        <p:spPr>
          <a:xfrm>
            <a:off x="762120" y="1066680"/>
            <a:ext cx="5943600" cy="5581800"/>
          </a:xfrm>
          <a:prstGeom prst="rect">
            <a:avLst/>
          </a:prstGeom>
          <a:ln w="0">
            <a:noFill/>
          </a:ln>
        </p:spPr>
      </p:pic>
      <p:sp>
        <p:nvSpPr>
          <p:cNvPr id="436" name="TextBox 7"/>
          <p:cNvSpPr/>
          <p:nvPr/>
        </p:nvSpPr>
        <p:spPr>
          <a:xfrm>
            <a:off x="3124080" y="12952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 String is a datatype of a letter sequence. The sequence must be surrounded by (double) quotes. "" is the empty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3581280" y="57150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character can be added to a String (it’s called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oncaten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 using a + 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684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important part of computing is the input to the program and the output it produ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consider three types of I/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use Inpu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ey Input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xt Inpu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899A-8150-4A24-B2B3-7F2E9BFB495B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F1C6-8A07-40EF-9342-F56FABF77ED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ED77-3AB0-46EA-90B1-8FDB5421AE8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66C5-2136-434F-8D5E-9875A5210C9E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6" descr="font7.tiff"/>
          <p:cNvPicPr/>
          <p:nvPr/>
        </p:nvPicPr>
        <p:blipFill>
          <a:blip r:embed="rId2"/>
          <a:srcRect l="0" t="14770" r="36340" b="35409"/>
          <a:stretch/>
        </p:blipFill>
        <p:spPr>
          <a:xfrm>
            <a:off x="762120" y="1066680"/>
            <a:ext cx="5943600" cy="55818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7"/>
          <p:cNvSpPr/>
          <p:nvPr/>
        </p:nvSpPr>
        <p:spPr>
          <a:xfrm>
            <a:off x="3124080" y="12952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 String is a datatype of a letter sequence. The sequence must be surrounded by (double) quotes. "" is the empty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8"/>
          <p:cNvSpPr/>
          <p:nvPr/>
        </p:nvSpPr>
        <p:spPr>
          <a:xfrm>
            <a:off x="3581280" y="57150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 character can be added to a String (it’s called </a:t>
            </a:r>
            <a:r>
              <a:rPr b="0" i="1" lang="en-US" sz="1800" spc="-1" strike="noStrike">
                <a:solidFill>
                  <a:srgbClr val="7f7f7f"/>
                </a:solidFill>
                <a:latin typeface="Arial"/>
              </a:rPr>
              <a:t>concatenation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) using a + 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3733920" y="45720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e the String like any quoted letter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5051-7D57-4FE2-9EEE-8D88F98176A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0442-C488-4389-B1FD-4D1E0FBAC05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6" descr="font7.tiff"/>
          <p:cNvPicPr/>
          <p:nvPr/>
        </p:nvPicPr>
        <p:blipFill>
          <a:blip r:embed="rId2"/>
          <a:srcRect l="0" t="14770" r="36340" b="35409"/>
          <a:stretch/>
        </p:blipFill>
        <p:spPr>
          <a:xfrm>
            <a:off x="762120" y="1066680"/>
            <a:ext cx="5943600" cy="5581800"/>
          </a:xfrm>
          <a:prstGeom prst="rect">
            <a:avLst/>
          </a:prstGeom>
          <a:ln w="0">
            <a:noFill/>
          </a:ln>
        </p:spPr>
      </p:pic>
      <p:sp>
        <p:nvSpPr>
          <p:cNvPr id="453" name="TextBox 7"/>
          <p:cNvSpPr/>
          <p:nvPr/>
        </p:nvSpPr>
        <p:spPr>
          <a:xfrm>
            <a:off x="3124080" y="12952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 String is a datatype of a letter sequence. The sequence must be surrounded by (double) quotes. “” is the empty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8"/>
          <p:cNvSpPr/>
          <p:nvPr/>
        </p:nvSpPr>
        <p:spPr>
          <a:xfrm>
            <a:off x="3581280" y="57150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 character can be added to a String (it’s called </a:t>
            </a:r>
            <a:r>
              <a:rPr b="0" i="1" lang="en-US" sz="1800" spc="-1" strike="noStrike">
                <a:solidFill>
                  <a:srgbClr val="7f7f7f"/>
                </a:solidFill>
                <a:latin typeface="Arial"/>
              </a:rPr>
              <a:t>concatenation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) using a + 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9" descr="font8.tiff"/>
          <p:cNvPicPr/>
          <p:nvPr/>
        </p:nvPicPr>
        <p:blipFill>
          <a:blip r:embed="rId3"/>
          <a:stretch/>
        </p:blipFill>
        <p:spPr>
          <a:xfrm>
            <a:off x="3886200" y="3352680"/>
            <a:ext cx="5079960" cy="1905120"/>
          </a:xfrm>
          <a:prstGeom prst="rect">
            <a:avLst/>
          </a:prstGeom>
          <a:ln w="0">
            <a:noFill/>
          </a:ln>
        </p:spPr>
      </p:pic>
      <p:sp>
        <p:nvSpPr>
          <p:cNvPr id="456" name="TextBox 10"/>
          <p:cNvSpPr/>
          <p:nvPr/>
        </p:nvSpPr>
        <p:spPr>
          <a:xfrm>
            <a:off x="4419720" y="5105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ype A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C617-8422-49D2-B564-736EEFCDDD9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10FE-A2D3-4F1B-B1EA-18F021622BB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6" descr="font7.tiff"/>
          <p:cNvPicPr/>
          <p:nvPr/>
        </p:nvPicPr>
        <p:blipFill>
          <a:blip r:embed="rId2"/>
          <a:srcRect l="0" t="14770" r="36340" b="35409"/>
          <a:stretch/>
        </p:blipFill>
        <p:spPr>
          <a:xfrm>
            <a:off x="762120" y="1066680"/>
            <a:ext cx="5943600" cy="5581800"/>
          </a:xfrm>
          <a:prstGeom prst="rect">
            <a:avLst/>
          </a:prstGeom>
          <a:ln w="0">
            <a:noFill/>
          </a:ln>
        </p:spPr>
      </p:pic>
      <p:sp>
        <p:nvSpPr>
          <p:cNvPr id="463" name="TextBox 7"/>
          <p:cNvSpPr/>
          <p:nvPr/>
        </p:nvSpPr>
        <p:spPr>
          <a:xfrm>
            <a:off x="3124080" y="129528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 String is a datatype of a letter sequence. The sequence must be surrounded by (double) quotes. “” is the empty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8"/>
          <p:cNvSpPr/>
          <p:nvPr/>
        </p:nvSpPr>
        <p:spPr>
          <a:xfrm>
            <a:off x="3581280" y="57150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 character can be added to a String (it’s called </a:t>
            </a:r>
            <a:r>
              <a:rPr b="0" i="1" lang="en-US" sz="1800" spc="-1" strike="noStrike">
                <a:solidFill>
                  <a:srgbClr val="7f7f7f"/>
                </a:solidFill>
                <a:latin typeface="Arial"/>
              </a:rPr>
              <a:t>concatenation</a:t>
            </a: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) using a + 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9" descr="font8.tiff"/>
          <p:cNvPicPr/>
          <p:nvPr/>
        </p:nvPicPr>
        <p:blipFill>
          <a:blip r:embed="rId3"/>
          <a:stretch/>
        </p:blipFill>
        <p:spPr>
          <a:xfrm>
            <a:off x="3886200" y="3352680"/>
            <a:ext cx="5079960" cy="1905120"/>
          </a:xfrm>
          <a:prstGeom prst="rect">
            <a:avLst/>
          </a:prstGeom>
          <a:ln w="0">
            <a:noFill/>
          </a:ln>
        </p:spPr>
      </p:pic>
      <p:sp>
        <p:nvSpPr>
          <p:cNvPr id="466" name="TextBox 10"/>
          <p:cNvSpPr/>
          <p:nvPr/>
        </p:nvSpPr>
        <p:spPr>
          <a:xfrm>
            <a:off x="4419720" y="5105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ype A B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1"/>
          <p:cNvSpPr/>
          <p:nvPr/>
        </p:nvSpPr>
        <p:spPr>
          <a:xfrm>
            <a:off x="6858000" y="4800600"/>
            <a:ext cx="990720" cy="119124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 that it is all out there, here’s the situation on the mouse (you’ve seen most of this)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92aa"/>
                </a:solidFill>
                <a:latin typeface="Corbel"/>
              </a:rPr>
              <a:t>mouseX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3200" spc="-1" strike="noStrike">
                <a:solidFill>
                  <a:srgbClr val="3792aa"/>
                </a:solidFill>
                <a:latin typeface="Corbel"/>
              </a:rPr>
              <a:t>mouseY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ive the coordinates of the mouse on the canvas … recall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d9253e"/>
                </a:solidFill>
                <a:latin typeface="Arial"/>
                <a:ea typeface="Arial"/>
              </a:rPr>
              <a:t>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3792aa"/>
                </a:solidFill>
                <a:latin typeface="Arial"/>
                <a:ea typeface="Arial"/>
              </a:rPr>
              <a:t>mous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3200" spc="-1" strike="noStrike">
                <a:solidFill>
                  <a:srgbClr val="3792aa"/>
                </a:solidFill>
                <a:latin typeface="Arial"/>
                <a:ea typeface="Arial"/>
              </a:rPr>
              <a:t>mous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20, 20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253e"/>
                </a:solidFill>
                <a:latin typeface="Arial"/>
                <a:ea typeface="Arial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3792aa"/>
                </a:solidFill>
                <a:latin typeface="Arial"/>
                <a:ea typeface="Arial"/>
              </a:rPr>
              <a:t>mousePres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 ) {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 = 0 – dir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re’s also </a:t>
            </a:r>
            <a:r>
              <a:rPr b="0" lang="en-US" sz="3200" spc="-1" strike="noStrike">
                <a:solidFill>
                  <a:srgbClr val="3792aa"/>
                </a:solidFill>
                <a:latin typeface="Corbel"/>
              </a:rPr>
              <a:t>mouseReleas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at “fires” when the mouse is released after being press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7D36-FCD1-4909-8202-10B6E1D4CFA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51FC-B244-468C-9F67-AD6DB45F568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8" descr="arrow.gif"/>
          <p:cNvPicPr/>
          <p:nvPr/>
        </p:nvPicPr>
        <p:blipFill>
          <a:blip r:embed="rId2"/>
          <a:stretch/>
        </p:blipFill>
        <p:spPr>
          <a:xfrm>
            <a:off x="6629400" y="2743200"/>
            <a:ext cx="24811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trol “looping” with the mou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227F-FFCC-46F6-ADD9-6B19AB56BBC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5E87-35CB-48FE-9E5C-93818FD212B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rocket1.tiff"/>
          <p:cNvPicPr/>
          <p:nvPr/>
        </p:nvPicPr>
        <p:blipFill>
          <a:blip r:embed="rId2"/>
          <a:srcRect l="0" t="14477" r="13263" b="30391"/>
          <a:stretch/>
        </p:blipFill>
        <p:spPr>
          <a:xfrm>
            <a:off x="914400" y="1752480"/>
            <a:ext cx="6553080" cy="4999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rocket2.png"/>
          <p:cNvPicPr/>
          <p:nvPr/>
        </p:nvPicPr>
        <p:blipFill>
          <a:blip r:embed="rId3"/>
          <a:stretch/>
        </p:blipFill>
        <p:spPr>
          <a:xfrm>
            <a:off x="4191120" y="1828800"/>
            <a:ext cx="4495680" cy="2247840"/>
          </a:xfrm>
          <a:prstGeom prst="rect">
            <a:avLst/>
          </a:prstGeom>
          <a:ln w="0">
            <a:noFill/>
          </a:ln>
        </p:spPr>
      </p:pic>
      <p:sp>
        <p:nvSpPr>
          <p:cNvPr id="325" name="TextBox 8"/>
          <p:cNvSpPr/>
          <p:nvPr/>
        </p:nvSpPr>
        <p:spPr>
          <a:xfrm>
            <a:off x="6858000" y="4800600"/>
            <a:ext cx="990720" cy="119124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trol “looping” with the mou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3D69-3A23-4B67-A926-6C057B040D1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77F6-5B8B-4EE2-9370-CC1E24332CE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rocket3.tiff"/>
          <p:cNvPicPr/>
          <p:nvPr/>
        </p:nvPicPr>
        <p:blipFill>
          <a:blip r:embed="rId2"/>
          <a:srcRect l="0" t="50389" r="15642" b="22300"/>
          <a:stretch/>
        </p:blipFill>
        <p:spPr>
          <a:xfrm>
            <a:off x="533520" y="3581280"/>
            <a:ext cx="7181640" cy="3024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rocket3.tiff"/>
          <p:cNvPicPr/>
          <p:nvPr/>
        </p:nvPicPr>
        <p:blipFill>
          <a:blip r:embed="rId3"/>
          <a:srcRect l="0" t="12988" r="15642" b="72566"/>
          <a:stretch/>
        </p:blipFill>
        <p:spPr>
          <a:xfrm>
            <a:off x="533520" y="1905120"/>
            <a:ext cx="7184880" cy="1600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rocket2.png"/>
          <p:cNvPicPr/>
          <p:nvPr/>
        </p:nvPicPr>
        <p:blipFill>
          <a:blip r:embed="rId4"/>
          <a:stretch/>
        </p:blipFill>
        <p:spPr>
          <a:xfrm>
            <a:off x="4191120" y="1828800"/>
            <a:ext cx="4495680" cy="224784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0"/>
          <p:cNvSpPr/>
          <p:nvPr/>
        </p:nvSpPr>
        <p:spPr>
          <a:xfrm>
            <a:off x="995040" y="32004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ight Arrow 11"/>
          <p:cNvSpPr/>
          <p:nvPr/>
        </p:nvSpPr>
        <p:spPr>
          <a:xfrm>
            <a:off x="228600" y="5715000"/>
            <a:ext cx="380880" cy="3808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ight Arrow 12"/>
          <p:cNvSpPr/>
          <p:nvPr/>
        </p:nvSpPr>
        <p:spPr>
          <a:xfrm>
            <a:off x="228600" y="4876920"/>
            <a:ext cx="380880" cy="3808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ight Arrow 13"/>
          <p:cNvSpPr/>
          <p:nvPr/>
        </p:nvSpPr>
        <p:spPr>
          <a:xfrm>
            <a:off x="228600" y="2895480"/>
            <a:ext cx="380880" cy="3812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4"/>
          <p:cNvSpPr/>
          <p:nvPr/>
        </p:nvSpPr>
        <p:spPr>
          <a:xfrm>
            <a:off x="2834280" y="28954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oping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5"/>
          <p:cNvSpPr/>
          <p:nvPr/>
        </p:nvSpPr>
        <p:spPr>
          <a:xfrm>
            <a:off x="2750760" y="51814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urn looping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6"/>
          <p:cNvSpPr/>
          <p:nvPr/>
        </p:nvSpPr>
        <p:spPr>
          <a:xfrm>
            <a:off x="2754000" y="60199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urn looping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essing a key is lik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essing mouse button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0736-07C9-4287-8DF9-213F8DD5DBF2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36D4-C146-4FE9-B7F1-49A18CD9668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dots1.tiff"/>
          <p:cNvPicPr/>
          <p:nvPr/>
        </p:nvPicPr>
        <p:blipFill>
          <a:blip r:embed="rId2"/>
          <a:srcRect l="0" t="13411" r="50794" b="26770"/>
          <a:stretch/>
        </p:blipFill>
        <p:spPr>
          <a:xfrm>
            <a:off x="5181480" y="982800"/>
            <a:ext cx="3733920" cy="5902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dots2.tiff"/>
          <p:cNvPicPr/>
          <p:nvPr/>
        </p:nvPicPr>
        <p:blipFill>
          <a:blip r:embed="rId3"/>
          <a:stretch/>
        </p:blipFill>
        <p:spPr>
          <a:xfrm>
            <a:off x="457200" y="2590920"/>
            <a:ext cx="4572000" cy="17143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8"/>
          <p:cNvSpPr/>
          <p:nvPr/>
        </p:nvSpPr>
        <p:spPr>
          <a:xfrm>
            <a:off x="1082520" y="42670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sult of typing g y m m y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2057400" y="5181480"/>
            <a:ext cx="990720" cy="119124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Just Do I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lang="en-US" sz="3200" spc="-1" strike="noStrike">
                <a:solidFill>
                  <a:srgbClr val="3792aa"/>
                </a:solidFill>
                <a:latin typeface="Corbel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keyword has the value of the key just pressed; it has the datatype of a character, that is, </a:t>
            </a:r>
            <a:r>
              <a:rPr b="0" lang="en-US" sz="3200" spc="-1" strike="noStrike">
                <a:solidFill>
                  <a:srgbClr val="d9253e"/>
                </a:solidFill>
                <a:latin typeface="Corbel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ice that character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e enclosed in single quot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9211-4B6E-40DA-9036-2E8413C19FB2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A659-ACCA-4D25-9DD3-D020FEC4B234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dots1.tiff"/>
          <p:cNvPicPr/>
          <p:nvPr/>
        </p:nvPicPr>
        <p:blipFill>
          <a:blip r:embed="rId2"/>
          <a:srcRect l="0" t="40874" r="66024" b="28262"/>
          <a:stretch/>
        </p:blipFill>
        <p:spPr>
          <a:xfrm>
            <a:off x="5638680" y="2362320"/>
            <a:ext cx="3124440" cy="36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47B9-5196-42D4-A35A-BA19BDC0839A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6C98-D007-4F25-81C0-55C0DE47DB5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dots3.png"/>
          <p:cNvPicPr/>
          <p:nvPr/>
        </p:nvPicPr>
        <p:blipFill>
          <a:blip r:embed="rId2"/>
          <a:stretch/>
        </p:blipFill>
        <p:spPr>
          <a:xfrm>
            <a:off x="1219320" y="1143000"/>
            <a:ext cx="6933960" cy="53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cessing is great for graphics and images, but it is a little more cumbersome for tex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llow these step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) Go to tools and locate the font you wa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) Load font into the data directory of your program … this happens automatically when you lo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3) In the code, load the font into the computation (get name and size perfect); specify its 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4) Use text( ) to print text; color using fill( 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8CE7-E5A4-40D7-8B34-D1445487A06C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792C-E42E-4EBE-896E-3BB112B3613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6:15:23Z</dcterms:created>
  <dc:creator>Information School</dc:creator>
  <dc:description/>
  <dc:language>en-US</dc:language>
  <cp:lastModifiedBy>Larry Snyder</cp:lastModifiedBy>
  <cp:lastPrinted>2012-01-27T17:43:31Z</cp:lastPrinted>
  <dcterms:modified xsi:type="dcterms:W3CDTF">2014-05-13T22:21:31Z</dcterms:modified>
  <cp:revision>112</cp:revision>
  <dc:subject/>
  <dc:title>Welcome to FIT100</dc:title>
</cp:coreProperties>
</file>