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13.png" ContentType="image/png"/>
  <Override PartName="/ppt/media/image35.png" ContentType="image/png"/>
  <Override PartName="/ppt/media/image50.png" ContentType="image/png"/>
  <Override PartName="/ppt/media/image5.jpeg" ContentType="image/jpeg"/>
  <Override PartName="/ppt/media/image39.png" ContentType="image/png"/>
  <Override PartName="/ppt/media/image4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8.jpeg" ContentType="image/jpeg"/>
  <Override PartName="/ppt/media/image3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823-43B9-495F-B761-9F04077B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04A-8180-4E7C-BC82-D76E0122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59E-6BB9-424F-AE77-75673245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031-8639-43E7-962D-83D0EDFC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BBEC-2E57-4098-910C-A78DDCCC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A856-CEDA-4616-B4BB-4C16A11A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74C1-64E5-4294-A37C-003E21F1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E924-FA16-4169-A7A1-791E0865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8927-E3BB-4A2E-8D9A-407D6A86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B7BD-4CB4-4410-8E9D-5FF74582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3786-3966-419B-A1C1-AE5751E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5836-D410-496B-A3DB-D5F4D50F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F01C-68CF-42BD-8132-96175F40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CD8F-BAC1-4068-9808-0FECD386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7198-8BAA-4B76-BD3D-ABF47695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B61A-407B-40EA-815E-B58261A8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C2E2-25A8-46C8-899E-E1D1000C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396F-362C-48DC-8629-8DE804F5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0E99-ABBA-4DA7-9854-A68D8558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A6D1D-7A03-45FB-8A9D-DA655311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C6B8-CEFD-420F-B5A6-8AC26594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8E3D-3EAC-41EB-A593-6FF65DB4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A03-AD27-4C0F-AD56-280A804A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F91A7-11AE-4177-BD42-3CF6C02F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A61F-6F0F-453A-860B-0CA2CBBC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4B8E-D17E-4256-995B-769F4AC8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C2613-F671-47B7-A274-6122CC50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B9B0-227D-4F61-BC8B-98B0B710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21F0-1472-4886-B154-36BA3292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7BDE-3ACF-4B9E-B582-15368637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368A-00A5-49FC-B17F-B6A2FBD7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99E2-506F-470B-9D41-32DB7674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924E8-C104-4656-9B57-FF365C59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A50-D972-4381-B3D3-5DB2B448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924C-B68B-477B-AB45-18384D99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5554-5D97-499C-B1AD-EFE897C7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498D6-F7D6-4C0A-A399-5D32FD1E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E0A9D-31C6-41AF-A803-35745DEF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2E0A5-9442-458B-B81C-A1984ADB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98ED9-2B12-4409-9962-DF0CB753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9F2F2-CE66-48C8-9A0A-86733FC3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F3416-7261-44C7-B8D0-89A44136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F7CF-BC63-448F-9DE6-7C8718F9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AECE5-37EF-4DC4-8527-7A5993C9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B87-E881-415A-93BA-AD555E3A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F0E11-F6BD-4D51-A4A4-C8977026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8A2C-95F1-46EC-8CBD-73AF4933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E90CB-7BE5-4356-B62C-6612ADAC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41DAD-FB14-42B6-9313-10159E77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4F93D-BA2A-4712-B61B-68D9068B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A3300-A2DB-4F5C-AF7B-91AD73CB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1BC0B-99A5-4A76-9553-E072CA16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ACE1D-D61D-40D6-B91A-8F5E1884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4BB0D-5E46-4C21-92C2-71B19B27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D852D-C52E-4434-94DB-7328DBD4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CFD-DC79-46E3-A3E9-58EB7E23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B681-324D-4D0A-B718-C42F5300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C3F6E-2008-4D8D-A094-3BE2CCEE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F9434-69FA-43D2-BE75-F6351E7E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D40B2-7B46-4D43-B8C9-A1010EB3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C9DA1-9AF4-423C-BC87-DE71B50A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759AA-0353-4F44-84E8-E582C743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9F8E4-CF4B-400C-A983-677E4A43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131B5-DDC9-4D90-9D02-1715EC47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16E1C-B108-4D7F-85F4-9120E6FA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E9CD3-B3AA-4AB7-8679-ED4F61D3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71E-3B93-4E1B-8746-A191CCB3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8D4D9-F4DF-4590-BDE1-A16BC757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F6FF6-F549-4775-A434-C559688E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5474D-B91D-4E33-BBFB-29AB290F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6043A-B5C4-4F3A-A800-811B6727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34FD7-DCDC-4303-9229-79390258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F58B4-7AD8-4C1D-A1F4-D5721311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6A436-F941-423B-8A6A-9E58597C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E73E2-D297-420B-B5BE-9ED479A3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3253A-6733-4EC7-BA33-4F7F78D6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9CD83-6CF7-4216-AC96-76DEA246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41A-943C-4C15-8A2C-99BCD9B6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C817A-4B78-49F4-BB19-784124BB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287B0-5515-485F-B661-12307D9F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18674-E3E3-4DF0-88B3-06CDCE8E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657F2-597E-430E-B891-823916FC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FC1A3-117E-425C-89D1-16F55BAF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2FA0-2258-4FD8-8BBF-889C2843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4249-1EAB-42D1-BCDD-5E3C4821543C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A3A5-BDB7-4162-89D1-07563CF9233C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8861-8D71-4495-B8B1-9150F28BBB1A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9D65-FC68-4E22-BEDF-96871460B55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EE4E-AC53-4F44-B60D-924C861B2EB4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DC0F-0455-480E-B944-A5784D610B7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AC6E-9F6E-4376-9271-31F6AA964D8A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4116-08F9-43C3-AB63-A18EA436DD67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61BF-E1BB-440B-A6E1-027E5104E648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E102-17DB-4DB6-A4EF-63B9B89FFEAF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6BE7-E7FE-467E-9C91-D05F75CDA949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0105-036C-4C1E-BCE5-6001A23AEBF6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2890-2A8C-40AB-AD93-F346992B69EB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5C31-DFFF-4E0A-8656-5821150104FA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565200" y="53352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some light to computing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alog is needed for the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al world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gital is best for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formation world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n be modified, enhanced, remixed, et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ared, stored permanently, reproduced,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7C35-2BD2-439F-849A-63175AFF8A2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7F0F-FBE0-44AF-92ED-4EAB19812BB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23"/>
          <p:cNvGrpSpPr/>
          <p:nvPr/>
        </p:nvGrpSpPr>
        <p:grpSpPr>
          <a:xfrm>
            <a:off x="457200" y="1752480"/>
            <a:ext cx="8102520" cy="2387880"/>
            <a:chOff x="457200" y="1752480"/>
            <a:chExt cx="8102520" cy="2387880"/>
          </a:xfrm>
        </p:grpSpPr>
        <p:sp>
          <p:nvSpPr>
            <p:cNvPr id="402" name="Text Box 3"/>
            <p:cNvSpPr/>
            <p:nvPr/>
          </p:nvSpPr>
          <p:spPr>
            <a:xfrm>
              <a:off x="2743200" y="2116440"/>
              <a:ext cx="1714320" cy="42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vice Dri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"/>
            <p:cNvSpPr/>
            <p:nvPr/>
          </p:nvSpPr>
          <p:spPr>
            <a:xfrm>
              <a:off x="457200" y="1904760"/>
              <a:ext cx="1714320" cy="84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5"/>
            <p:cNvSpPr/>
            <p:nvPr/>
          </p:nvSpPr>
          <p:spPr>
            <a:xfrm>
              <a:off x="5219640" y="1904760"/>
              <a:ext cx="1523880" cy="84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/D Conver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7"/>
            <p:cNvSpPr/>
            <p:nvPr/>
          </p:nvSpPr>
          <p:spPr>
            <a:xfrm>
              <a:off x="6934320" y="2116440"/>
              <a:ext cx="380880" cy="423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8"/>
            <p:cNvSpPr/>
            <p:nvPr/>
          </p:nvSpPr>
          <p:spPr>
            <a:xfrm>
              <a:off x="4648320" y="2116440"/>
              <a:ext cx="380880" cy="423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9"/>
            <p:cNvSpPr/>
            <p:nvPr/>
          </p:nvSpPr>
          <p:spPr>
            <a:xfrm>
              <a:off x="2171520" y="2116440"/>
              <a:ext cx="380880" cy="423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0"/>
            <p:cNvSpPr/>
            <p:nvPr/>
          </p:nvSpPr>
          <p:spPr>
            <a:xfrm>
              <a:off x="2743200" y="3386880"/>
              <a:ext cx="1714320" cy="42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vice Dri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11"/>
            <p:cNvSpPr/>
            <p:nvPr/>
          </p:nvSpPr>
          <p:spPr>
            <a:xfrm>
              <a:off x="457200" y="3175200"/>
              <a:ext cx="1714320" cy="84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12"/>
            <p:cNvSpPr/>
            <p:nvPr/>
          </p:nvSpPr>
          <p:spPr>
            <a:xfrm>
              <a:off x="5219640" y="3175200"/>
              <a:ext cx="1523880" cy="84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/A Conver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13"/>
            <p:cNvSpPr/>
            <p:nvPr/>
          </p:nvSpPr>
          <p:spPr>
            <a:xfrm flipH="1">
              <a:off x="6934320" y="3386880"/>
              <a:ext cx="380880" cy="423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4"/>
            <p:cNvSpPr/>
            <p:nvPr/>
          </p:nvSpPr>
          <p:spPr>
            <a:xfrm flipH="1">
              <a:off x="4648320" y="3386880"/>
              <a:ext cx="380880" cy="423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15"/>
            <p:cNvSpPr/>
            <p:nvPr/>
          </p:nvSpPr>
          <p:spPr>
            <a:xfrm flipH="1">
              <a:off x="2171520" y="3386880"/>
              <a:ext cx="380880" cy="423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Picture 21" descr="mic"/>
            <p:cNvPicPr/>
            <p:nvPr/>
          </p:nvPicPr>
          <p:blipFill>
            <a:blip r:embed="rId2"/>
            <a:stretch/>
          </p:blipFill>
          <p:spPr>
            <a:xfrm>
              <a:off x="73915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2" descr="speaker"/>
            <p:cNvPicPr/>
            <p:nvPr/>
          </p:nvPicPr>
          <p:blipFill>
            <a:blip r:embed="rId3"/>
            <a:stretch/>
          </p:blipFill>
          <p:spPr>
            <a:xfrm>
              <a:off x="7467840" y="3048120"/>
              <a:ext cx="1091880" cy="1092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ing too slowly misses wav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ing too fast keeps lots of redundant inf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range of human hearing is 20-20,000 hz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aster or slower, only the dog can hear 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yquist Rule: Sampling rate must be twice as fast as fastest frequency to be captur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 technical reasons, the number is 44,100 hz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precise to sample: 16 bits gives -32k to 32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C29C-615B-4467-A56F-ADAFAA21643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F32F-A700-47FF-A067-38ED3894A12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684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different forms of online information with special represent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PG, MP3, MPEG, WAV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st forms of multimedia require many, many bi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minute of digital audi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167120" indent="-1749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60 seconds x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167120" indent="-1749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44,100 samples per second x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167120" indent="-1749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16 bits each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167120" indent="-1749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x 2 for stere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84,672,000 bits, or 10,584,000 B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 hour is 635 MB!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30BC-8FE4-4348-B965-BE29284B52F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4F51-C95F-43AE-9A3E-8F66E5338F4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ten, most of the bits are not needed – MP3 audio is less than 1MB/min because many sounds can be eliminated – we can’t hear th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ression … comes in two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ossless – eliminated bit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n be recover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ossy – eliminated bit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re gone for good … MP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2D5F-FFBF-4F1B-BCBC-91FFD617C8E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DBB1-4322-40C6-ACB8-6D43F8C99B86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SuzanneVega.jpg"/>
          <p:cNvPicPr/>
          <p:nvPr/>
        </p:nvPicPr>
        <p:blipFill>
          <a:blip r:embed="rId2"/>
          <a:stretch/>
        </p:blipFill>
        <p:spPr>
          <a:xfrm>
            <a:off x="6095880" y="3352680"/>
            <a:ext cx="2502000" cy="3335400"/>
          </a:xfrm>
          <a:prstGeom prst="rect">
            <a:avLst/>
          </a:prstGeom>
          <a:ln w="0">
            <a:noFill/>
          </a:ln>
        </p:spPr>
      </p:pic>
      <p:sp>
        <p:nvSpPr>
          <p:cNvPr id="432" name="TextBox 7"/>
          <p:cNvSpPr/>
          <p:nvPr/>
        </p:nvSpPr>
        <p:spPr>
          <a:xfrm>
            <a:off x="266760" y="5638680"/>
            <a:ext cx="55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anne Vega sing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m’s Di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s://www.youtube.com/watch?v=VGw3W10Qx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ssless compression seems strange – it eliminates bits that can be recovered again … weren’t they necessary in the first place??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sider a fax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ually faxes use a scanner that produces row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ress by counting … it’s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run-length encod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0000000000000000000001111111000000001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=  22:0,7:1,8:0,2:1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EBAF-D2FC-4BE1-A3D9-1D277ACABAA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21E4-2B8B-4E2F-9D81-0AD9C2F8176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aphics Interchange Format (GIF) uses several kinds of compres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lor T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n Length Encod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emple/Ziv/Welch Encod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01B6-E530-4E53-87D0-CFA64DE87B7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F760-5660-487E-A5D3-39162F703D6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" descr="gifTable"/>
          <p:cNvPicPr/>
          <p:nvPr/>
        </p:nvPicPr>
        <p:blipFill>
          <a:blip r:embed="rId2"/>
          <a:stretch/>
        </p:blipFill>
        <p:spPr>
          <a:xfrm>
            <a:off x="6095880" y="1981080"/>
            <a:ext cx="2403720" cy="1204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flags.tiff"/>
          <p:cNvPicPr/>
          <p:nvPr/>
        </p:nvPicPr>
        <p:blipFill>
          <a:blip r:embed="rId3"/>
          <a:srcRect l="17247" t="60064" r="46921" b="7569"/>
          <a:stretch/>
        </p:blipFill>
        <p:spPr>
          <a:xfrm>
            <a:off x="4572000" y="3886200"/>
            <a:ext cx="3117960" cy="23716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hungry.tiff"/>
          <p:cNvPicPr/>
          <p:nvPr/>
        </p:nvPicPr>
        <p:blipFill>
          <a:blip r:embed="rId4"/>
          <a:srcRect l="20198" t="11180" r="43829" b="54122"/>
          <a:stretch/>
        </p:blipFill>
        <p:spPr>
          <a:xfrm>
            <a:off x="838080" y="3886200"/>
            <a:ext cx="292896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are Hungarian Flag and Italian Fla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uFlag: [15 × 9] 45:1, 45:2, 45:3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rbel"/>
              </a:rPr>
              <a:t>itFlag: [15 x 9]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rbel"/>
              </a:rPr>
              <a:t>5:3,5:2,5:1,5:3,5:2,5:1,5:3,5:2,5:1, 5:3,5:2,5:1,5:3,5:2,5:1,5:3,5:2,5:1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rbel"/>
              </a:rPr>
              <a:t>5:3,5:2,5:1,5:3,5:2,5:1,5:3,5:2,5:1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D641-B149-42AA-8422-6853893CC5B0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A6D9-AEDE-482A-92D6-E0D7B9FCDFF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" descr="gifTable"/>
          <p:cNvPicPr/>
          <p:nvPr/>
        </p:nvPicPr>
        <p:blipFill>
          <a:blip r:embed="rId2"/>
          <a:stretch/>
        </p:blipFill>
        <p:spPr>
          <a:xfrm>
            <a:off x="5943600" y="2057400"/>
            <a:ext cx="2403360" cy="12049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flags.tiff"/>
          <p:cNvPicPr/>
          <p:nvPr/>
        </p:nvPicPr>
        <p:blipFill>
          <a:blip r:embed="rId3"/>
          <a:srcRect l="17247" t="60064" r="46921" b="7569"/>
          <a:stretch/>
        </p:blipFill>
        <p:spPr>
          <a:xfrm>
            <a:off x="4648320" y="4191120"/>
            <a:ext cx="3117600" cy="2371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hungry.tiff"/>
          <p:cNvPicPr/>
          <p:nvPr/>
        </p:nvPicPr>
        <p:blipFill>
          <a:blip r:embed="rId4"/>
          <a:srcRect l="20198" t="11180" r="43829" b="54122"/>
          <a:stretch/>
        </p:blipFill>
        <p:spPr>
          <a:xfrm>
            <a:off x="914400" y="4191120"/>
            <a:ext cx="292896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eas of similar color are represented by one shade … it’s OK for a whi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8141-F156-4AB7-9629-42E2BFFD910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29A8-144F-446D-AA02-88CD6F9C79B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6" descr="Fig08-15alivesaver3orig4x3.jpg"/>
          <p:cNvPicPr/>
          <p:nvPr/>
        </p:nvPicPr>
        <p:blipFill>
          <a:blip r:embed="rId2"/>
          <a:stretch/>
        </p:blipFill>
        <p:spPr>
          <a:xfrm>
            <a:off x="380880" y="2666880"/>
            <a:ext cx="4156200" cy="3429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8" descr="Fig08-15dlivesaver3orig4x3least.jpg"/>
          <p:cNvPicPr/>
          <p:nvPr/>
        </p:nvPicPr>
        <p:blipFill>
          <a:blip r:embed="rId3"/>
          <a:stretch/>
        </p:blipFill>
        <p:spPr>
          <a:xfrm>
            <a:off x="4800600" y="2666880"/>
            <a:ext cx="420228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acts about physical representa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formation is represented by the presence or absence of a physical phenomenon (PandA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-214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ole punched in a card; no hole [Hollerith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-214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og barks in the night; no barking in the night [Holmes]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-214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ire is electrically charged; wire is neutr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35640" indent="-21456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bstract all these cases with 0 and 1; it unifies them so we don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 have to consider the detai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86CC-4A75-4A60-A7BD-8AE54F23716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0599-B6A1-4319-9660-A697F80BB76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inary is sufficient for number representation (place/value) and arithmet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number base is 2, instead of 1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nary addition is just like addition in any other base except it has fewer cases … better for circui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l arithmetic and standard calculations have binary equival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ixels represented by amount of light intens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conclude: bits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ork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for quantit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65AC-36EF-475D-9279-152C48A3711B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594C-99DA-494D-98CB-9285A2F0677C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call that the screen (and other video displays) use red-green-blue lights, arranged in an array of picture elements, or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pix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EF1A-FF96-4225-B32F-A86569DE1907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3FA9-D9D7-46AB-B0EB-2B2B831C49A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"/>
          <p:cNvGrpSpPr/>
          <p:nvPr/>
        </p:nvGrpSpPr>
        <p:grpSpPr>
          <a:xfrm>
            <a:off x="990720" y="2590920"/>
            <a:ext cx="7467120" cy="4038480"/>
            <a:chOff x="990720" y="2590920"/>
            <a:chExt cx="7467120" cy="4038480"/>
          </a:xfrm>
        </p:grpSpPr>
        <p:pic>
          <p:nvPicPr>
            <p:cNvPr id="313" name="Picture 3" descr="coffeecupssmall"/>
            <p:cNvPicPr/>
            <p:nvPr/>
          </p:nvPicPr>
          <p:blipFill>
            <a:blip r:embed="rId2"/>
            <a:stretch/>
          </p:blipFill>
          <p:spPr>
            <a:xfrm>
              <a:off x="990720" y="2602800"/>
              <a:ext cx="2726640" cy="40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" descr="coffeecupsEyeNose"/>
            <p:cNvPicPr/>
            <p:nvPr/>
          </p:nvPicPr>
          <p:blipFill>
            <a:blip r:embed="rId3"/>
            <a:stretch/>
          </p:blipFill>
          <p:spPr>
            <a:xfrm>
              <a:off x="3808440" y="2590920"/>
              <a:ext cx="464940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TextBox 9"/>
          <p:cNvSpPr/>
          <p:nvPr/>
        </p:nvSpPr>
        <p:spPr>
          <a:xfrm>
            <a:off x="304920" y="259092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ffee Cup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ytes illustrate that bits can be grouped in sequence to generate unique patter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 bits in sequence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= 4 patterns: 00, 01, 10, 11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4 bits in sequence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= 8 patterns: 0000, 0001,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8 bits in sequence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=256 patterns: 0000 0000,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CII groups 8 bits i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y seem to b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ssigned intelligently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ut they’re just pattern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2240" indent="-2401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63D8-B009-4D03-BABD-7736552284A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8961-B2AD-465A-9A2F-C61B3F8AD48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7" descr="temp1"/>
          <p:cNvPicPr/>
          <p:nvPr/>
        </p:nvPicPr>
        <p:blipFill>
          <a:blip r:embed="rId2"/>
          <a:stretch/>
        </p:blipFill>
        <p:spPr>
          <a:xfrm>
            <a:off x="4800600" y="3657600"/>
            <a:ext cx="3124080" cy="30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568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are binary arithmetic to ASCI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nary encodes the positions to make using the information (numbers) easy, like for addi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SCII assigns some pattern to each let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ven any finite set of things – colors, computer addresses, English words, etc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 might figure out a smart way to represent them as bits – colors can give light intensity of RGB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 can just assign patterns, and manipulate them by pattern matching – red can be 0000 0001, dark red 0000 0010,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82F7-2D6E-4652-A483-A376CEEE64B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2CB7-81AB-4114-B9ED-F866DC0D5D9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does this represent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0000 0000 1111 0001 0000 1000 0010 0000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don’t know until you know how it was enco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s a binary number: 15,796,256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s a color, RGB(241,8,32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s a computer instruction: Add 1, 7, 17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s ASCII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ñ &lt;space&gt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P Address: 0.241.8.3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xadecimal number: 00 F1 08 2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infinity and beyo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F6A3-D003-427C-BDAF-B89559A9E90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194E-8ED9-4743-BFF7-D4913310422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5029200" y="3657600"/>
            <a:ext cx="45720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s is the princi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its are it!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ers encode information with bits, not numbers … the bits might be numbers, but they might be a lot of other stuff instead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56AF-1236-4C1B-AF3C-E844B74ECCAB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6DEB-B4F0-4826-83C2-23BB3296071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762120" y="1981080"/>
            <a:ext cx="7162560" cy="1373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as-free Universal Medium 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Bits can represent all discrete information; bits have no inherent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t 1: HW 11, due Tuesda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t 2: Lab 7, do it in lab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70DA-27E4-4C13-8795-3580A16B338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C040-2400-402C-9C51-D4A5B58E2D1C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6" descr="Screen Shot 2014-01-31 at 10.15.49 AM.png"/>
          <p:cNvPicPr/>
          <p:nvPr/>
        </p:nvPicPr>
        <p:blipFill>
          <a:blip r:embed="rId2"/>
          <a:stretch/>
        </p:blipFill>
        <p:spPr>
          <a:xfrm>
            <a:off x="1676520" y="1295280"/>
            <a:ext cx="2806560" cy="1562400"/>
          </a:xfrm>
          <a:prstGeom prst="rect">
            <a:avLst/>
          </a:prstGeom>
          <a:ln w="0">
            <a:noFill/>
          </a:ln>
        </p:spPr>
      </p:pic>
      <p:sp>
        <p:nvSpPr>
          <p:cNvPr id="500" name="TextBox 7"/>
          <p:cNvSpPr/>
          <p:nvPr/>
        </p:nvSpPr>
        <p:spPr>
          <a:xfrm>
            <a:off x="3281760" y="4495680"/>
            <a:ext cx="180072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Arial"/>
              </a:rPr>
              <a:t>Just Do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E6D8-33D4-4D58-B946-8F9A5965E0A1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564E-B8C3-4CFE-93A0-D3CD8E04230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2"/>
          <p:cNvGrpSpPr/>
          <p:nvPr/>
        </p:nvGrpSpPr>
        <p:grpSpPr>
          <a:xfrm>
            <a:off x="533520" y="1219320"/>
            <a:ext cx="7924680" cy="4952880"/>
            <a:chOff x="533520" y="1219320"/>
            <a:chExt cx="7924680" cy="4952880"/>
          </a:xfrm>
        </p:grpSpPr>
        <p:sp>
          <p:nvSpPr>
            <p:cNvPr id="322" name="Line 3"/>
            <p:cNvSpPr/>
            <p:nvPr/>
          </p:nvSpPr>
          <p:spPr>
            <a:xfrm>
              <a:off x="695160" y="3965760"/>
              <a:ext cx="1380240" cy="21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"/>
            <p:cNvSpPr/>
            <p:nvPr/>
          </p:nvSpPr>
          <p:spPr>
            <a:xfrm flipV="1">
              <a:off x="683640" y="1232640"/>
              <a:ext cx="1381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"/>
            <p:cNvSpPr/>
            <p:nvPr/>
          </p:nvSpPr>
          <p:spPr>
            <a:xfrm>
              <a:off x="4909680" y="5036400"/>
              <a:ext cx="75384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6"/>
            <p:cNvSpPr/>
            <p:nvPr/>
          </p:nvSpPr>
          <p:spPr>
            <a:xfrm flipV="1">
              <a:off x="4909680" y="2315880"/>
              <a:ext cx="77040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Picture 7" descr="Fig1"/>
            <p:cNvPicPr/>
            <p:nvPr/>
          </p:nvPicPr>
          <p:blipFill>
            <a:blip r:embed="rId2"/>
            <a:stretch/>
          </p:blipFill>
          <p:spPr>
            <a:xfrm>
              <a:off x="533520" y="3496680"/>
              <a:ext cx="415800" cy="47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8" descr="Fig1"/>
            <p:cNvPicPr/>
            <p:nvPr/>
          </p:nvPicPr>
          <p:blipFill>
            <a:blip r:embed="rId3"/>
            <a:stretch/>
          </p:blipFill>
          <p:spPr>
            <a:xfrm>
              <a:off x="2070360" y="1219320"/>
              <a:ext cx="2841480" cy="49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9" descr="Fig1"/>
            <p:cNvPicPr/>
            <p:nvPr/>
          </p:nvPicPr>
          <p:blipFill>
            <a:blip r:embed="rId4"/>
            <a:stretch/>
          </p:blipFill>
          <p:spPr>
            <a:xfrm>
              <a:off x="5671440" y="2306160"/>
              <a:ext cx="2786760" cy="2851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Amazing Properties of Colored Light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ution: It doesn’t work like pig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22AD-8CE8-4361-BBC3-7CDB2BC989C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8B0A-79A5-4FBF-B502-AC0819833F84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2"/>
          <p:cNvGrpSpPr/>
          <p:nvPr/>
        </p:nvGrpSpPr>
        <p:grpSpPr>
          <a:xfrm>
            <a:off x="1371600" y="2057400"/>
            <a:ext cx="6019560" cy="3505320"/>
            <a:chOff x="1371600" y="2057400"/>
            <a:chExt cx="6019560" cy="3505320"/>
          </a:xfrm>
        </p:grpSpPr>
        <p:pic>
          <p:nvPicPr>
            <p:cNvPr id="335" name="Picture 3" descr="rgbColorCombo"/>
            <p:cNvPicPr/>
            <p:nvPr/>
          </p:nvPicPr>
          <p:blipFill>
            <a:blip r:embed="rId2"/>
            <a:stretch/>
          </p:blipFill>
          <p:spPr>
            <a:xfrm>
              <a:off x="1371600" y="2107080"/>
              <a:ext cx="5654880" cy="33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4" descr="600px-RGB copy"/>
            <p:cNvPicPr/>
            <p:nvPr/>
          </p:nvPicPr>
          <p:blipFill>
            <a:blip r:embed="rId3"/>
            <a:stretch/>
          </p:blipFill>
          <p:spPr>
            <a:xfrm rot="5400000">
              <a:off x="3833640" y="2005200"/>
              <a:ext cx="3505320" cy="3609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4495680" y="1828800"/>
            <a:ext cx="4343400" cy="2590920"/>
            <a:chOff x="4495680" y="1828800"/>
            <a:chExt cx="4343400" cy="2590920"/>
          </a:xfrm>
        </p:grpSpPr>
        <p:pic>
          <p:nvPicPr>
            <p:cNvPr id="338" name="Picture 3" descr="rgbColorCombo"/>
            <p:cNvPicPr/>
            <p:nvPr/>
          </p:nvPicPr>
          <p:blipFill>
            <a:blip r:embed="rId1"/>
            <a:stretch/>
          </p:blipFill>
          <p:spPr>
            <a:xfrm>
              <a:off x="4495680" y="1865520"/>
              <a:ext cx="408024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4" descr="600px-RGB copy"/>
            <p:cNvPicPr/>
            <p:nvPr/>
          </p:nvPicPr>
          <p:blipFill>
            <a:blip r:embed="rId2"/>
            <a:stretch/>
          </p:blipFill>
          <p:spPr>
            <a:xfrm rot="5400000">
              <a:off x="6241320" y="1821960"/>
              <a:ext cx="2590920" cy="260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ored light seems to violat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ur grade school rule o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een = blue + yellow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giv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pigment, the col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see is the reflect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or from white light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other colors a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bsorb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Title 1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28A2-F5BC-4551-AD5C-81B002D12B2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BE25-1789-47D3-BD19-F839569C6F5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4724280" y="4800600"/>
            <a:ext cx="1244880" cy="1374480"/>
            <a:chOff x="4724280" y="4800600"/>
            <a:chExt cx="1244880" cy="1374480"/>
          </a:xfrm>
        </p:grpSpPr>
        <p:pic>
          <p:nvPicPr>
            <p:cNvPr id="346" name="Picture 3" descr="colorBlobYe"/>
            <p:cNvPicPr/>
            <p:nvPr/>
          </p:nvPicPr>
          <p:blipFill>
            <a:blip r:embed="rId4"/>
            <a:stretch/>
          </p:blipFill>
          <p:spPr>
            <a:xfrm>
              <a:off x="4860000" y="5057640"/>
              <a:ext cx="1062720" cy="11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Line 4"/>
            <p:cNvSpPr/>
            <p:nvPr/>
          </p:nvSpPr>
          <p:spPr>
            <a:xfrm>
              <a:off x="4724280" y="4947840"/>
              <a:ext cx="626400" cy="643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 flipV="1">
              <a:off x="5342760" y="4923720"/>
              <a:ext cx="626400" cy="65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 flipV="1">
              <a:off x="5350680" y="4800600"/>
              <a:ext cx="375840" cy="7567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7"/>
            <p:cNvSpPr/>
            <p:nvPr/>
          </p:nvSpPr>
          <p:spPr>
            <a:xfrm>
              <a:off x="4858920" y="5091480"/>
              <a:ext cx="482400" cy="5072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8"/>
            <p:cNvSpPr/>
            <p:nvPr/>
          </p:nvSpPr>
          <p:spPr>
            <a:xfrm>
              <a:off x="4872240" y="5082840"/>
              <a:ext cx="482400" cy="5072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9"/>
            <p:cNvSpPr/>
            <p:nvPr/>
          </p:nvSpPr>
          <p:spPr>
            <a:xfrm>
              <a:off x="4874760" y="5071680"/>
              <a:ext cx="482400" cy="50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0"/>
          <p:cNvGrpSpPr/>
          <p:nvPr/>
        </p:nvGrpSpPr>
        <p:grpSpPr>
          <a:xfrm>
            <a:off x="6019920" y="4800240"/>
            <a:ext cx="1272960" cy="1425960"/>
            <a:chOff x="6019920" y="4800240"/>
            <a:chExt cx="1272960" cy="1425960"/>
          </a:xfrm>
        </p:grpSpPr>
        <p:pic>
          <p:nvPicPr>
            <p:cNvPr id="354" name="Picture 11" descr="colorBlobCy"/>
            <p:cNvPicPr/>
            <p:nvPr/>
          </p:nvPicPr>
          <p:blipFill>
            <a:blip r:embed="rId5"/>
            <a:stretch/>
          </p:blipFill>
          <p:spPr>
            <a:xfrm>
              <a:off x="6147000" y="5072400"/>
              <a:ext cx="1080000" cy="11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12"/>
            <p:cNvSpPr/>
            <p:nvPr/>
          </p:nvSpPr>
          <p:spPr>
            <a:xfrm>
              <a:off x="6147000" y="5072400"/>
              <a:ext cx="509040" cy="543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13"/>
            <p:cNvGrpSpPr/>
            <p:nvPr/>
          </p:nvGrpSpPr>
          <p:grpSpPr>
            <a:xfrm>
              <a:off x="6019920" y="4934160"/>
              <a:ext cx="643320" cy="671400"/>
              <a:chOff x="6019920" y="4934160"/>
              <a:chExt cx="643320" cy="671400"/>
            </a:xfrm>
          </p:grpSpPr>
          <p:sp>
            <p:nvSpPr>
              <p:cNvPr id="357" name="Line 14"/>
              <p:cNvSpPr/>
              <p:nvPr/>
            </p:nvSpPr>
            <p:spPr>
              <a:xfrm>
                <a:off x="6019920" y="4934160"/>
                <a:ext cx="636480" cy="66384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15"/>
              <p:cNvSpPr/>
              <p:nvPr/>
            </p:nvSpPr>
            <p:spPr>
              <a:xfrm>
                <a:off x="6156720" y="5082120"/>
                <a:ext cx="490320" cy="5234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16"/>
              <p:cNvSpPr/>
              <p:nvPr/>
            </p:nvSpPr>
            <p:spPr>
              <a:xfrm>
                <a:off x="6170040" y="5073480"/>
                <a:ext cx="490320" cy="5234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7"/>
              <p:cNvSpPr/>
              <p:nvPr/>
            </p:nvSpPr>
            <p:spPr>
              <a:xfrm>
                <a:off x="6172920" y="5061960"/>
                <a:ext cx="490320" cy="523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Line 18"/>
            <p:cNvSpPr/>
            <p:nvPr/>
          </p:nvSpPr>
          <p:spPr>
            <a:xfrm flipV="1">
              <a:off x="6656400" y="4936320"/>
              <a:ext cx="636480" cy="679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9"/>
            <p:cNvSpPr/>
            <p:nvPr/>
          </p:nvSpPr>
          <p:spPr>
            <a:xfrm flipV="1">
              <a:off x="6656400" y="4800240"/>
              <a:ext cx="381600" cy="8154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20"/>
          <p:cNvGrpSpPr/>
          <p:nvPr/>
        </p:nvGrpSpPr>
        <p:grpSpPr>
          <a:xfrm>
            <a:off x="7315200" y="4876560"/>
            <a:ext cx="1388880" cy="1343160"/>
            <a:chOff x="7315200" y="4876560"/>
            <a:chExt cx="1388880" cy="1343160"/>
          </a:xfrm>
        </p:grpSpPr>
        <p:pic>
          <p:nvPicPr>
            <p:cNvPr id="364" name="Picture 21" descr="colorBlobGr"/>
            <p:cNvPicPr/>
            <p:nvPr/>
          </p:nvPicPr>
          <p:blipFill>
            <a:blip r:embed="rId6"/>
            <a:stretch/>
          </p:blipFill>
          <p:spPr>
            <a:xfrm>
              <a:off x="7449120" y="5051880"/>
              <a:ext cx="1077120" cy="116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Line 22"/>
            <p:cNvSpPr/>
            <p:nvPr/>
          </p:nvSpPr>
          <p:spPr>
            <a:xfrm flipV="1">
              <a:off x="7940160" y="4876560"/>
              <a:ext cx="763920" cy="6901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23"/>
            <p:cNvGrpSpPr/>
            <p:nvPr/>
          </p:nvGrpSpPr>
          <p:grpSpPr>
            <a:xfrm>
              <a:off x="7315200" y="4905360"/>
              <a:ext cx="643320" cy="681840"/>
              <a:chOff x="7315200" y="4905360"/>
              <a:chExt cx="643320" cy="681840"/>
            </a:xfrm>
          </p:grpSpPr>
          <p:sp>
            <p:nvSpPr>
              <p:cNvPr id="367" name="Line 24"/>
              <p:cNvSpPr/>
              <p:nvPr/>
            </p:nvSpPr>
            <p:spPr>
              <a:xfrm>
                <a:off x="7315200" y="4905360"/>
                <a:ext cx="636480" cy="6739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25"/>
              <p:cNvSpPr/>
              <p:nvPr/>
            </p:nvSpPr>
            <p:spPr>
              <a:xfrm>
                <a:off x="7452000" y="5055840"/>
                <a:ext cx="490320" cy="5313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26"/>
              <p:cNvSpPr/>
              <p:nvPr/>
            </p:nvSpPr>
            <p:spPr>
              <a:xfrm>
                <a:off x="7465320" y="5046840"/>
                <a:ext cx="490320" cy="53136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27"/>
              <p:cNvSpPr/>
              <p:nvPr/>
            </p:nvSpPr>
            <p:spPr>
              <a:xfrm>
                <a:off x="7468200" y="5034960"/>
                <a:ext cx="490320" cy="531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D8AA-BDBD-4FEA-A767-EFEFF313F24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56A6-C86A-49FD-A6F0-070D91AFD93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6" descr="bitsOfBlue.tiff"/>
          <p:cNvPicPr/>
          <p:nvPr/>
        </p:nvPicPr>
        <p:blipFill>
          <a:blip r:embed="rId2"/>
          <a:stretch/>
        </p:blipFill>
        <p:spPr>
          <a:xfrm>
            <a:off x="228600" y="1371600"/>
            <a:ext cx="8763120" cy="45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alogue information directly applies physical phenomena, e.g. vinyl recor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C142-3252-4047-B417-AD21D9282DF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622B-3E5C-4CFB-AAE8-6A47CED6800C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record_groove copy.jpg"/>
          <p:cNvPicPr/>
          <p:nvPr/>
        </p:nvPicPr>
        <p:blipFill>
          <a:blip r:embed="rId2"/>
          <a:srcRect l="0" t="9088" r="0" b="0"/>
          <a:stretch/>
        </p:blipFill>
        <p:spPr>
          <a:xfrm>
            <a:off x="1600200" y="2438280"/>
            <a:ext cx="58482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mpling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wave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CA82-413B-4850-8551-CE9750B512A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5342-E8E0-499E-BB81-8C0E0EBD0976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6" descr="rates.png"/>
          <p:cNvPicPr/>
          <p:nvPr/>
        </p:nvPicPr>
        <p:blipFill>
          <a:blip r:embed="rId2"/>
          <a:stretch/>
        </p:blipFill>
        <p:spPr>
          <a:xfrm>
            <a:off x="2666880" y="1219320"/>
            <a:ext cx="5756400" cy="5333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ymbal.png"/>
          <p:cNvPicPr/>
          <p:nvPr/>
        </p:nvPicPr>
        <p:blipFill>
          <a:blip r:embed="rId3"/>
          <a:stretch/>
        </p:blipFill>
        <p:spPr>
          <a:xfrm>
            <a:off x="76320" y="3276720"/>
            <a:ext cx="2654280" cy="14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0D86-5087-446C-A1B3-0B2A183B772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9625-6763-4DD7-A71E-B5BB455060D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6" descr="sound.png"/>
          <p:cNvPicPr/>
          <p:nvPr/>
        </p:nvPicPr>
        <p:blipFill>
          <a:blip r:embed="rId2"/>
          <a:stretch/>
        </p:blipFill>
        <p:spPr>
          <a:xfrm>
            <a:off x="304920" y="1143000"/>
            <a:ext cx="86659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8:08:16Z</dcterms:created>
  <dc:creator>Information School</dc:creator>
  <dc:description/>
  <dc:language>en-US</dc:language>
  <cp:lastModifiedBy>Larry Snyder</cp:lastModifiedBy>
  <dcterms:modified xsi:type="dcterms:W3CDTF">2014-05-13T22:22:46Z</dcterms:modified>
  <cp:revision>97</cp:revision>
  <dc:subject/>
  <dc:title>Welcome to FIT100</dc:title>
</cp:coreProperties>
</file>