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26.png" ContentType="image/png"/>
  <Override PartName="/ppt/media/image34.png" ContentType="image/png"/>
  <Override PartName="/ppt/media/image13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1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C9E6-6924-41BF-BC4A-E111742A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1F5-D837-4F37-9D18-1A9EC450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864-05B1-45CD-9DED-0A318868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9A6-F4D7-47CF-A224-BEFF1C19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A98F-1053-4E9F-AF28-640E5996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B2BA-6943-47CA-AA38-196F4AC2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3081-C0D0-49D9-934F-EA6183D8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E76F-EEE6-4F58-BA4B-36FB5C02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6B59-6943-492B-AEAC-D4A8EACF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0D00-0C29-4FF2-B8AE-01E770D5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5715-BBA2-4BD4-976B-01DD79B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78D-76B8-474E-9A2B-6B1EA37E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B636-891B-49CD-A18A-DA448623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0B26-838C-4DDD-B646-0CB0178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B059-83ED-4FE5-A170-45EE285B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36AC-4894-4B4B-A213-E632208D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B2B3-C536-4DA1-AD19-EB6D67AF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EE8E-846F-43C4-A29E-52BCE683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E8F28-0CDB-4784-B6C9-9B385A9C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2F4A-E357-4C68-B266-6C0DAE74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1B23-D812-4D29-B29A-BB619521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DC588-1E73-4320-9CB8-7160EA4C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0E5-45C8-4321-A907-4478A48E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9E77-8F43-4625-B14C-424A0814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86C0-5DDF-40D7-B098-4202E8D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E5BF5-AF60-43A4-AB95-B2CF7552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636F-691C-469F-934D-E134AC3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AA05-FCA7-4C0D-87ED-019FD65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2144-2077-4359-9FD6-138D09E7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3E5E7-6342-4F85-BFA7-49610BB0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E5E8D-21E5-4A0B-8BD2-DA2745DB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79FF7-C9F6-405E-BFD0-B5E35E4A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5F32-B213-49AD-9ED1-DA2CEC4F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D91-B665-4AE0-ACB0-C8F924A7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708D-606C-4455-A739-904869C7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7F854-74E3-4D6E-8064-91698515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AFE82-7FCD-4E3C-89EB-5496B61F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9575-FDB6-4F4B-BA34-97E5FA8B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37AA-28B6-4742-88ED-76D61B4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25DF-9072-4E6F-A051-56EDD6F2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3B6C-DFF0-4A0B-8997-F097E46E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9D8D-A6F8-4E46-B917-E9579BE1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F31FD-AB06-4B8E-B88C-88EE6EDE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46ED1-24B3-487B-A9EB-B3CD8D90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08A-8AA3-42FA-9802-EFC3BE3A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D1549-2945-415F-83F6-D284493A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8CE93-5D9B-4BC5-8306-91AEDC19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0F975-2246-4D19-89D3-A6B4425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E59F5-E9C9-4E48-B7EA-7EDCC404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0CC07-82E6-43A3-8907-BF107FF0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87011-F56D-4B4C-B561-1CA8C1A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C5EAC-DBFD-4E2A-B932-FBD0F093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56302-99AD-4DF7-A3FF-5BFA8E02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D7C41-9DF9-4B17-A965-2357FAB2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293D-D9B7-4915-954D-AFDB73A1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637-88ED-4295-88C6-D9F6D0C0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E4B2E-AEFC-4A1A-AA69-E1620EE9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A3138-9CCE-4F29-ABEC-75283004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03EA6-7EC8-4DEF-9237-182281A6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515DB-6A66-44C0-8384-7DF62057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F2974-18EC-412C-AEC8-F016DB7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5DAF-ABC5-4F33-B798-6C886108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7E475-2B3F-461A-9B39-C53C0030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EC9B5-26A6-4989-B196-CE30B34F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8BFF2-A300-43E9-9EA6-E6A6C421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5285-F5DC-4A42-A5FD-8B2E74C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786-5E3F-44C8-AE97-7C2F839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5EC6-3194-458F-9DA8-E1364E47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03ED8-2404-4796-914B-3951BAB2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B4ACA-5EA9-458C-8898-A67305D3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B3C70-09BC-46A5-B3E7-F402AA55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08AE1-1FD5-41CE-87CB-A7D59408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905CA-B67C-444E-A37A-FF45CE77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35A49-BE53-4A31-A984-6D7ABA3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87729-8703-4F99-A69D-36F7DF93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4954B-386D-4418-B78E-F4AA9CF8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044C5-BAD5-42A2-BD8C-5D6C7E21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193-6376-46DD-B4AE-A4CF6EA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43777-CBB8-4F05-9E4E-5E3020AD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1D7F1-39D1-4E15-896A-1F2BF6F5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67206-B698-4062-890C-FA3C25C9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B0D92-8214-46C0-B761-CE76E8F3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C1963-3CEC-4CA6-B6D6-EF7E85C2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8BA30-18C2-4514-A237-66E15AD7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40489-9AA8-40C0-8143-93DE744D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AEBBA-8718-42BC-AFB2-01FFF0AB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7DF46-9635-40A7-8971-3FDD7AB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3668-69B5-4D62-9CF8-DE59208B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CA7-F030-4191-B680-D1C4B21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06C06-960C-4A1C-BE6E-DF13D862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7312-AAAE-4B0A-A2F9-B349366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B8BF1-5380-4C9A-9EE4-969EA273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0DA40-53BE-4277-B6D4-FCCB3C8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FEF97-F9FA-4061-B676-94BED700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93CF8-B5D1-4481-8C01-CD38B0A2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22997-73D1-4EB5-A556-2B485349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8CAE-BE4D-4974-BF9E-F13DAF1B69A9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9EF5-4F46-41FB-99A0-E8341B8D426A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C08C-FE49-4666-8E5B-542A7F028CAC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3C42-DC2E-47FE-B9F9-C8A75FB9A71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0061-3018-47C8-A6F8-76828F14920A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0E75-4927-4F13-923B-C798B4F8982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6392-F61F-4146-B6C2-85B653A374F3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809E-CE17-4F4E-8033-48F95B073EEE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FDBA-8E50-452E-8FCE-E2AE930F340D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0327-4B11-4525-BC56-894B232E0C76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AF75-C5E5-4A37-9F66-4D8DBC2F31F6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CD26-44E1-4204-A873-B173343E13B4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4F1D-3D10-41B7-99A2-65B0F4F64C26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6C7D-3141-4B00-BF9B-B0E40441AE7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3707-C794-40F8-AE3E-61BAD4D089E4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6EF3-44EC-44E9-84C7-8D753004A97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0.jpe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7.jpeg"/><Relationship Id="rId19" Type="http://schemas.openxmlformats.org/officeDocument/2006/relationships/image" Target="../media/image10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3348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561600" y="53352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represent bits, numbers, let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6207-7F71-480D-A2F9-E0B5A5D12A4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many questions to encod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Plus ça change, plus c'est la même chose?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king in Frequency Order: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247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ESARINTULOMDPCFBVHGJQZYXK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king in Alphabetical Order: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32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BCDEFGHIJKLMNOPQRSTUVWXYZ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lling by going through the letters is an algorith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ing through the letters in frequency order is a program (also, an algorithm but with the order specified to a particular case, i.e. F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nurses didn’t look this up in a book … they invented it to make their work easier; they were thinking computationally, though they probably didn’t know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7C2A-7F8A-4CD8-8795-91DFF80D7B8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B559-73F2-48B5-8E33-E1281C31F02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ndA is 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binary representa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because it uses 2 patter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t – it’s a contraction for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nary digit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formation exists even if the phenom is ab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mory -- a position in space/time capable of being set and detected in 2 patter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1219320" y="4038480"/>
            <a:ext cx="6476760" cy="1557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Sherlock Holmes</a:t>
            </a: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s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Mystery of Silver Blaz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-- a popular example where </a:t>
            </a: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bsent</a:t>
            </a: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 gives information … the dog didn</a:t>
            </a: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t bark, that is the phenomenon wasn</a:t>
            </a: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t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"/>
          <p:cNvGrpSpPr/>
          <p:nvPr/>
        </p:nvGrpSpPr>
        <p:grpSpPr>
          <a:xfrm>
            <a:off x="3352680" y="533520"/>
            <a:ext cx="5516640" cy="1425600"/>
            <a:chOff x="3352680" y="533520"/>
            <a:chExt cx="5516640" cy="1425600"/>
          </a:xfrm>
        </p:grpSpPr>
        <p:pic>
          <p:nvPicPr>
            <p:cNvPr id="430" name="Picture 6" descr="binary2"/>
            <p:cNvPicPr/>
            <p:nvPr/>
          </p:nvPicPr>
          <p:blipFill>
            <a:blip r:embed="rId2"/>
            <a:stretch/>
          </p:blipFill>
          <p:spPr>
            <a:xfrm>
              <a:off x="5252400" y="533520"/>
              <a:ext cx="1899720" cy="14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binary2"/>
            <p:cNvPicPr/>
            <p:nvPr/>
          </p:nvPicPr>
          <p:blipFill>
            <a:blip r:embed="rId3"/>
            <a:stretch/>
          </p:blipFill>
          <p:spPr>
            <a:xfrm>
              <a:off x="3352680" y="533520"/>
              <a:ext cx="1780920" cy="142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8" descr="binary3a"/>
            <p:cNvPicPr/>
            <p:nvPr/>
          </p:nvPicPr>
          <p:blipFill>
            <a:blip r:embed="rId4"/>
            <a:stretch/>
          </p:blipFill>
          <p:spPr>
            <a:xfrm>
              <a:off x="7271280" y="533520"/>
              <a:ext cx="1598040" cy="1423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043E-B028-48D5-8D6C-3692E52280A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byte is eight bits treated as a un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opted by IBM in 1960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tandard measure ever si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tes encode the Latin alphabet using ASCII -- the American Standard Code for Information Interchang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3505320" y="5105520"/>
            <a:ext cx="1600200" cy="8380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0101 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0101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1021-9B2A-4C1F-9A07-45625D33578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609480" y="3352680"/>
            <a:ext cx="1600200" cy="1143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0100 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0101 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0101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7" descr="temp1"/>
          <p:cNvPicPr/>
          <p:nvPr/>
        </p:nvPicPr>
        <p:blipFill>
          <a:blip r:embed="rId2"/>
          <a:stretch/>
        </p:blipFill>
        <p:spPr>
          <a:xfrm>
            <a:off x="2362320" y="193680"/>
            <a:ext cx="6781680" cy="666432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533520" y="6019920"/>
            <a:ext cx="8458200" cy="61164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00 1000</a:t>
            </a:r>
            <a:r>
              <a:rPr b="1" lang="en-US" sz="1800" spc="-1" strike="noStrike">
                <a:solidFill>
                  <a:srgbClr val="ff0000"/>
                </a:solidFill>
                <a:latin typeface="Corbel"/>
                <a:ea typeface="Arial"/>
              </a:rPr>
              <a:t>|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11 0101</a:t>
            </a:r>
            <a:r>
              <a:rPr b="1" lang="en-US" sz="1800" spc="-1" strike="noStrike">
                <a:solidFill>
                  <a:srgbClr val="ff0000"/>
                </a:solidFill>
                <a:latin typeface="Corbel"/>
                <a:ea typeface="Arial"/>
              </a:rPr>
              <a:t>|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11 0011</a:t>
            </a:r>
            <a:r>
              <a:rPr b="1" lang="en-US" sz="1800" spc="-1" strike="noStrike">
                <a:solidFill>
                  <a:srgbClr val="ff0000"/>
                </a:solidFill>
                <a:latin typeface="Corbel"/>
                <a:ea typeface="Arial"/>
              </a:rPr>
              <a:t>|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10 1011</a:t>
            </a:r>
            <a:r>
              <a:rPr b="1" lang="en-US" sz="1800" spc="-1" strike="noStrike">
                <a:solidFill>
                  <a:srgbClr val="ff0000"/>
                </a:solidFill>
                <a:latin typeface="Corbel"/>
                <a:ea typeface="Arial"/>
              </a:rPr>
              <a:t>|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10 1001</a:t>
            </a:r>
            <a:r>
              <a:rPr b="1" lang="en-US" sz="1800" spc="-1" strike="noStrike">
                <a:solidFill>
                  <a:srgbClr val="ff0000"/>
                </a:solidFill>
                <a:latin typeface="Corbel"/>
                <a:ea typeface="Arial"/>
              </a:rPr>
              <a:t>|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10 0101</a:t>
            </a:r>
            <a:r>
              <a:rPr b="1" lang="en-US" sz="1800" spc="-1" strike="noStrike">
                <a:solidFill>
                  <a:srgbClr val="ff0000"/>
                </a:solidFill>
                <a:latin typeface="Corbel"/>
                <a:ea typeface="Arial"/>
              </a:rPr>
              <a:t>|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111 0011</a:t>
            </a:r>
            <a:r>
              <a:rPr b="1" lang="en-US" sz="1800" spc="-1" strike="noStrike">
                <a:solidFill>
                  <a:srgbClr val="ff0000"/>
                </a:solidFill>
                <a:latin typeface="Corbel"/>
                <a:ea typeface="Arial"/>
              </a:rPr>
              <a:t>|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0010 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5259-A851-46D7-AEA7-F2B2A36D739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languages"/>
          <p:cNvPicPr/>
          <p:nvPr/>
        </p:nvPicPr>
        <p:blipFill>
          <a:blip r:embed="rId1"/>
          <a:stretch/>
        </p:blipFill>
        <p:spPr>
          <a:xfrm>
            <a:off x="3576600" y="838080"/>
            <a:ext cx="5567400" cy="6019920"/>
          </a:xfrm>
          <a:prstGeom prst="rect">
            <a:avLst/>
          </a:prstGeom>
          <a:ln w="0">
            <a:noFill/>
          </a:ln>
        </p:spPr>
      </p:pic>
      <p:pic>
        <p:nvPicPr>
          <p:cNvPr id="448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rbel"/>
              </a:rPr>
              <a:t>Unifor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rbel"/>
              </a:rPr>
              <a:t>Transformatio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rbel"/>
              </a:rPr>
              <a:t>Forma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rbel"/>
              </a:rPr>
              <a:t>for by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UTF-8) i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iversal … al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s have 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ace: 1,2,3,4 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17E-5684-49DA-8C85-467F659BCBBD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languages"/>
          <p:cNvPicPr/>
          <p:nvPr/>
        </p:nvPicPr>
        <p:blipFill>
          <a:blip r:embed="rId1"/>
          <a:stretch/>
        </p:blipFill>
        <p:spPr>
          <a:xfrm>
            <a:off x="3576600" y="838080"/>
            <a:ext cx="5567400" cy="6019920"/>
          </a:xfrm>
          <a:prstGeom prst="rect">
            <a:avLst/>
          </a:prstGeom>
          <a:ln w="0">
            <a:noFill/>
          </a:ln>
        </p:spPr>
      </p:pic>
      <p:pic>
        <p:nvPicPr>
          <p:cNvPr id="453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ifor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formation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mat for by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UTF-8) i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iversal … al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racters have 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ace: 1,2,3,4 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rbel"/>
              </a:rPr>
              <a:t>100,000 charac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¿sı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ɥʇ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p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ɐǝɹ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no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ʎ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u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ɐɔ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70FD-D3A2-45D1-BDC0-0941332CC0C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ts and bytes encode the information, but that’s not al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gs encode format and some structure in word processo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gs encode format and some structure in HTM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Oxford English Dictionar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tags encode structure and some formatt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gs are one form of meta-data: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eta-data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information about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D238-9696-4AD1-807B-3922B2538B7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2575080" y="118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066680" y="1371600"/>
            <a:ext cx="769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y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(baIt).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Computers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. [Arbitrary, prob. influenced by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i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sb.</a:t>
            </a:r>
            <a:r>
              <a:rPr b="0" lang="en-US" sz="14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bi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sb.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] A group of eight consecutive bits operated on as a unit in a computer. </a:t>
            </a:r>
            <a:r>
              <a:rPr b="1" lang="en-US" sz="1400" spc="-1" strike="noStrike">
                <a:solidFill>
                  <a:srgbClr val="0000ff"/>
                </a:solidFill>
                <a:latin typeface="FranklinGothic"/>
              </a:rPr>
              <a:t>1964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FranklinGothic"/>
              </a:rPr>
              <a:t>Blaauw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&amp; </a:t>
            </a:r>
            <a:r>
              <a:rPr b="1" i="1" lang="en-US" sz="1400" spc="-1" strike="noStrike">
                <a:solidFill>
                  <a:srgbClr val="0000ff"/>
                </a:solidFill>
                <a:latin typeface="FranklinGothic"/>
              </a:rPr>
              <a:t>Brooks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in </a:t>
            </a:r>
            <a:r>
              <a:rPr b="0" i="1" lang="en-US" sz="1400" spc="-1" strike="noStrike">
                <a:solidFill>
                  <a:srgbClr val="0000ff"/>
                </a:solidFill>
                <a:latin typeface="FranklinGothic"/>
              </a:rPr>
              <a:t>IBM Systems Jrnl.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III. 122 An 8-bit unit of information is fundamental to most of the formats [of the System/360]. A consecutive group of </a:t>
            </a:r>
            <a:r>
              <a:rPr b="0" i="1" lang="en-US" sz="1400" spc="-1" strike="noStrike">
                <a:solidFill>
                  <a:srgbClr val="0000ff"/>
                </a:solidFill>
                <a:latin typeface="FranklinGothic"/>
              </a:rPr>
              <a:t>n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such units constitutes a field of length </a:t>
            </a:r>
            <a:r>
              <a:rPr b="0" i="1" lang="en-US" sz="1400" spc="-1" strike="noStrike">
                <a:solidFill>
                  <a:srgbClr val="0000ff"/>
                </a:solidFill>
                <a:latin typeface="FranklinGothic"/>
              </a:rPr>
              <a:t>n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. Fixed-length fields of length one, two, four, and eight are termed bytes, halfwords, words, and double words respectively. </a:t>
            </a:r>
            <a:r>
              <a:rPr b="1" lang="en-US" sz="1400" spc="-1" strike="noStrike">
                <a:solidFill>
                  <a:srgbClr val="0000ff"/>
                </a:solidFill>
                <a:latin typeface="FranklinGothic"/>
              </a:rPr>
              <a:t>1964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</a:t>
            </a:r>
            <a:r>
              <a:rPr b="0" i="1" lang="en-US" sz="1400" spc="-1" strike="noStrike">
                <a:solidFill>
                  <a:srgbClr val="0000ff"/>
                </a:solidFill>
                <a:latin typeface="FranklinGothic"/>
              </a:rPr>
              <a:t>IBM Jrnl. Res. &amp; Developm.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VIII. 97/1 When a byte of data appears from an I/O device, the CPU is seized, dumped, used and restored. </a:t>
            </a:r>
            <a:r>
              <a:rPr b="1" lang="en-US" sz="1400" spc="-1" strike="noStrike">
                <a:solidFill>
                  <a:srgbClr val="0000ff"/>
                </a:solidFill>
                <a:latin typeface="FranklinGothic"/>
              </a:rPr>
              <a:t>1967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FranklinGothic"/>
              </a:rPr>
              <a:t>P. A. Stark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</a:t>
            </a:r>
            <a:r>
              <a:rPr b="0" i="1" lang="en-US" sz="1400" spc="-1" strike="noStrike">
                <a:solidFill>
                  <a:srgbClr val="0000ff"/>
                </a:solidFill>
                <a:latin typeface="FranklinGothic"/>
              </a:rPr>
              <a:t>Digital Computer Programming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xix. 351 The normal operations in fixed point are done on four bytes at a time. </a:t>
            </a:r>
            <a:r>
              <a:rPr b="1" lang="en-US" sz="1400" spc="-1" strike="noStrike">
                <a:solidFill>
                  <a:srgbClr val="0000ff"/>
                </a:solidFill>
                <a:latin typeface="FranklinGothic"/>
              </a:rPr>
              <a:t>1968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</a:t>
            </a:r>
            <a:r>
              <a:rPr b="0" i="1" lang="en-US" sz="1400" spc="-1" strike="noStrike">
                <a:solidFill>
                  <a:srgbClr val="0000ff"/>
                </a:solidFill>
                <a:latin typeface="FranklinGothic"/>
              </a:rPr>
              <a:t>Dataweek</a:t>
            </a:r>
            <a:r>
              <a:rPr b="0" lang="en-US" sz="1400" spc="-1" strike="noStrike">
                <a:solidFill>
                  <a:srgbClr val="0000ff"/>
                </a:solidFill>
                <a:latin typeface="FranklinGothic"/>
              </a:rPr>
              <a:t> 24 Jan. 1/1 Tape reading and writing is at from 34,160 to 192,000 bytes per sec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&lt;e&gt;&lt;hg&gt;&lt;hw&gt;byte&lt;/hw&gt; &lt;pr&gt;&lt;ph&gt;baIt&lt;/ph&gt;&lt;/pr&gt;&lt;/hg&gt;. &lt;la&gt;Computers&lt;/la&gt;. &lt;etym&gt;Arbitrary, prob. influenced by &lt;xr&gt;&lt;x&gt;bit&lt;/x&gt;&lt;/xr&gt; &lt;ps&gt;n.&lt;hm&gt;4&lt;/hm&gt;&lt;/ps&gt;and &lt;xr&gt;&lt;x&gt;bite&lt;/x&gt; &lt;ps&gt;n.&lt;/ps&gt; &lt;/xr&gt;&lt;/etym&gt; &lt;s4&gt;A group of eight consecutive bits operated on as a unit in a computer.&lt;/s4&gt; &lt;qp&gt;&lt;q&gt;&lt;qd&gt;1964&lt;/qd&gt;&lt;a&gt;Blaauw&lt;/a&gt; &amp;amp. &lt;a&gt;Brooks&lt;/a&gt; &lt;bib&gt;in&lt;/bib&gt; &lt;w&gt;IBM Systems Jrnl.&lt;/w&gt; &lt;lc&gt;III. 122&lt;/lc&gt; &lt;qt&gt;An 8-bit unit of information is fundamental to most of the formats &lt;ed&gt;of the System/360&lt;/ed&gt;.&amp;es.A consecutive group of &lt;i&gt;n&lt;/i&gt; such units constitutes a field of length &lt;i&gt;n&lt;/i&gt;.&amp;es.Fixed-length fields of length one, two, four, and eight are termed bytes, halfwords, words, and double words respectively. &lt;/qt&gt;&lt;/q&gt;&lt;q&gt;&lt;qd&gt;1964&lt;/qd&gt; &lt;w&gt;IBM Jrnl. Res. &amp;amp. Developm.&lt;/w&gt; &lt;lc&gt;VIII. 97/1&lt;/lc&gt; &lt;qt&gt;When a byte of data appears from an I/O device, the CPU is seized, dumped, used and restored.&lt;/qt&gt;&lt;/q&gt; &lt;q&gt;&lt;qd&gt;1967&lt;/qd&gt; &lt;a&gt;P. A. Stark&lt;/a&gt; &lt;w&gt;Digital Computer Programming&lt;/w&gt; &lt;lc&gt;xix. 351&lt;/lc&gt; &lt;qt&gt;The normal operations in fixed point are done on four bytes at a time.&lt;/qt&gt;&lt;/q&gt;&lt;q&gt;&lt;qd&gt;1968&lt;/qd&gt; &lt;w&gt;Dataweek&lt;/w&gt; &lt;lc&gt;24 Jan. 1/1&lt;/lc&gt; &lt;qt&gt;Tape reading and writing is at from 34,160 to 192,000 bytes per second.&lt;/qt&gt;&lt;/q&gt;&lt;/qp&gt;&lt;/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214E-9BAB-4A3E-9C83-6738A0ADA6A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nary numbers, like decimal numbers, us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place nota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1101 = 1×1000 + 1×100 + 0×10  + 1×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= 1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  + 1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 + 0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+ 1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cept that the base is 2 not 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1101 = 1×8  + 1×4  + 0×2  + 1×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= 1×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+ 1×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+ 0×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+ 1×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457200" y="5410080"/>
            <a:ext cx="4648320" cy="8254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1101 in binary is 13 in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6"/>
          <p:cNvSpPr/>
          <p:nvPr/>
        </p:nvSpPr>
        <p:spPr>
          <a:xfrm flipH="1" flipV="1">
            <a:off x="6400440" y="35053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"/>
          <p:cNvSpPr/>
          <p:nvPr/>
        </p:nvSpPr>
        <p:spPr>
          <a:xfrm flipH="1" flipV="1">
            <a:off x="6705720" y="51811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8"/>
          <p:cNvSpPr/>
          <p:nvPr/>
        </p:nvSpPr>
        <p:spPr>
          <a:xfrm flipV="1">
            <a:off x="7010280" y="46483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ate Placeholder 9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93EC-047F-4631-92C3-9981CE5F0EF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ooter Placeholder 10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620120" y="3809880"/>
            <a:ext cx="1295280" cy="119124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Base or ra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57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82760" y="1002960"/>
            <a:ext cx="83563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y principle: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nformation is the presence or absence of a phenomenon at given place/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urn signal is an examp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Phenom: Flashing ligh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Present: Flash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Absent: Off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Info: Present == intention t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turn in specific directio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Place (side of ca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ime: n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651-9277-4B84-9E21-0DA89BD470A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turnsignal.jpg"/>
          <p:cNvPicPr/>
          <p:nvPr/>
        </p:nvPicPr>
        <p:blipFill>
          <a:blip r:embed="rId2"/>
          <a:srcRect l="8912" t="0" r="35571" b="0"/>
          <a:stretch/>
        </p:blipFill>
        <p:spPr>
          <a:xfrm>
            <a:off x="5410080" y="2509920"/>
            <a:ext cx="345780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45E-A06A-460F-AB2F-F2B54EC3D9A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pic>
        <p:nvPicPr>
          <p:cNvPr id="477" name="Rectangle 3" descr=""/>
          <p:cNvPicPr/>
          <p:nvPr/>
        </p:nvPicPr>
        <p:blipFill>
          <a:blip r:embed="rId2"/>
          <a:stretch/>
        </p:blipFill>
        <p:spPr>
          <a:xfrm>
            <a:off x="304920" y="1139760"/>
            <a:ext cx="8461080" cy="517536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4"/>
          <p:cNvGrpSpPr/>
          <p:nvPr/>
        </p:nvGrpSpPr>
        <p:grpSpPr>
          <a:xfrm>
            <a:off x="1143000" y="2666880"/>
            <a:ext cx="2255400" cy="2798640"/>
            <a:chOff x="1143000" y="2666880"/>
            <a:chExt cx="2255400" cy="2798640"/>
          </a:xfrm>
        </p:grpSpPr>
        <p:sp>
          <p:nvSpPr>
            <p:cNvPr id="479" name="Line 5"/>
            <p:cNvSpPr/>
            <p:nvPr/>
          </p:nvSpPr>
          <p:spPr>
            <a:xfrm flipV="1">
              <a:off x="2878200" y="5279400"/>
              <a:ext cx="0" cy="1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2878200" y="527940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7"/>
            <p:cNvSpPr/>
            <p:nvPr/>
          </p:nvSpPr>
          <p:spPr>
            <a:xfrm flipV="1">
              <a:off x="2704320" y="4906080"/>
              <a:ext cx="0" cy="55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8"/>
            <p:cNvSpPr/>
            <p:nvPr/>
          </p:nvSpPr>
          <p:spPr>
            <a:xfrm>
              <a:off x="2704320" y="490608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9"/>
            <p:cNvSpPr/>
            <p:nvPr/>
          </p:nvSpPr>
          <p:spPr>
            <a:xfrm flipV="1">
              <a:off x="2444040" y="4533120"/>
              <a:ext cx="0" cy="9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0"/>
            <p:cNvSpPr/>
            <p:nvPr/>
          </p:nvSpPr>
          <p:spPr>
            <a:xfrm flipV="1">
              <a:off x="2183760" y="415980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11"/>
            <p:cNvSpPr/>
            <p:nvPr/>
          </p:nvSpPr>
          <p:spPr>
            <a:xfrm flipV="1">
              <a:off x="1923480" y="3786480"/>
              <a:ext cx="0" cy="167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12"/>
            <p:cNvSpPr/>
            <p:nvPr/>
          </p:nvSpPr>
          <p:spPr>
            <a:xfrm flipV="1">
              <a:off x="1663200" y="3413520"/>
              <a:ext cx="0" cy="20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3"/>
            <p:cNvSpPr/>
            <p:nvPr/>
          </p:nvSpPr>
          <p:spPr>
            <a:xfrm flipV="1">
              <a:off x="1402920" y="3040200"/>
              <a:ext cx="0" cy="24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4"/>
            <p:cNvSpPr/>
            <p:nvPr/>
          </p:nvSpPr>
          <p:spPr>
            <a:xfrm flipV="1">
              <a:off x="1143000" y="2666880"/>
              <a:ext cx="0" cy="27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5"/>
            <p:cNvSpPr/>
            <p:nvPr/>
          </p:nvSpPr>
          <p:spPr>
            <a:xfrm>
              <a:off x="2444040" y="4533120"/>
              <a:ext cx="9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6"/>
            <p:cNvSpPr/>
            <p:nvPr/>
          </p:nvSpPr>
          <p:spPr>
            <a:xfrm>
              <a:off x="2183760" y="4159800"/>
              <a:ext cx="121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7"/>
            <p:cNvSpPr/>
            <p:nvPr/>
          </p:nvSpPr>
          <p:spPr>
            <a:xfrm>
              <a:off x="1923480" y="378648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8"/>
            <p:cNvSpPr/>
            <p:nvPr/>
          </p:nvSpPr>
          <p:spPr>
            <a:xfrm>
              <a:off x="1663200" y="3413520"/>
              <a:ext cx="17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9"/>
            <p:cNvSpPr/>
            <p:nvPr/>
          </p:nvSpPr>
          <p:spPr>
            <a:xfrm>
              <a:off x="1402920" y="3040200"/>
              <a:ext cx="19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0"/>
            <p:cNvSpPr/>
            <p:nvPr/>
          </p:nvSpPr>
          <p:spPr>
            <a:xfrm>
              <a:off x="1143000" y="2666880"/>
              <a:ext cx="225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Date Placeholder 2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0D48-C5F7-4E31-9E92-5B5F2FB50E8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2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724280" y="2666880"/>
            <a:ext cx="2255760" cy="2798640"/>
            <a:chOff x="4724280" y="2666880"/>
            <a:chExt cx="2255760" cy="2798640"/>
          </a:xfrm>
        </p:grpSpPr>
        <p:sp>
          <p:nvSpPr>
            <p:cNvPr id="498" name="Line 5"/>
            <p:cNvSpPr/>
            <p:nvPr/>
          </p:nvSpPr>
          <p:spPr>
            <a:xfrm flipV="1">
              <a:off x="6459480" y="5279400"/>
              <a:ext cx="0" cy="1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"/>
            <p:cNvSpPr/>
            <p:nvPr/>
          </p:nvSpPr>
          <p:spPr>
            <a:xfrm>
              <a:off x="6459480" y="5279400"/>
              <a:ext cx="52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7"/>
            <p:cNvSpPr/>
            <p:nvPr/>
          </p:nvSpPr>
          <p:spPr>
            <a:xfrm flipV="1">
              <a:off x="6285960" y="4906080"/>
              <a:ext cx="0" cy="55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8"/>
            <p:cNvSpPr/>
            <p:nvPr/>
          </p:nvSpPr>
          <p:spPr>
            <a:xfrm>
              <a:off x="6285960" y="490608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9"/>
            <p:cNvSpPr/>
            <p:nvPr/>
          </p:nvSpPr>
          <p:spPr>
            <a:xfrm flipV="1">
              <a:off x="6025680" y="4533120"/>
              <a:ext cx="0" cy="9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0"/>
            <p:cNvSpPr/>
            <p:nvPr/>
          </p:nvSpPr>
          <p:spPr>
            <a:xfrm flipV="1">
              <a:off x="5765400" y="415980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1"/>
            <p:cNvSpPr/>
            <p:nvPr/>
          </p:nvSpPr>
          <p:spPr>
            <a:xfrm flipV="1">
              <a:off x="5505120" y="3786480"/>
              <a:ext cx="0" cy="167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2"/>
            <p:cNvSpPr/>
            <p:nvPr/>
          </p:nvSpPr>
          <p:spPr>
            <a:xfrm flipV="1">
              <a:off x="5244840" y="3413520"/>
              <a:ext cx="0" cy="20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3"/>
            <p:cNvSpPr/>
            <p:nvPr/>
          </p:nvSpPr>
          <p:spPr>
            <a:xfrm flipV="1">
              <a:off x="4984560" y="3040200"/>
              <a:ext cx="0" cy="24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4"/>
            <p:cNvSpPr/>
            <p:nvPr/>
          </p:nvSpPr>
          <p:spPr>
            <a:xfrm flipV="1">
              <a:off x="4724280" y="2666880"/>
              <a:ext cx="0" cy="27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5"/>
            <p:cNvSpPr/>
            <p:nvPr/>
          </p:nvSpPr>
          <p:spPr>
            <a:xfrm>
              <a:off x="6025680" y="4533120"/>
              <a:ext cx="9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6"/>
            <p:cNvSpPr/>
            <p:nvPr/>
          </p:nvSpPr>
          <p:spPr>
            <a:xfrm>
              <a:off x="5765400" y="4159800"/>
              <a:ext cx="121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7"/>
            <p:cNvSpPr/>
            <p:nvPr/>
          </p:nvSpPr>
          <p:spPr>
            <a:xfrm>
              <a:off x="5505120" y="378648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8"/>
            <p:cNvSpPr/>
            <p:nvPr/>
          </p:nvSpPr>
          <p:spPr>
            <a:xfrm>
              <a:off x="5244840" y="3413520"/>
              <a:ext cx="17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9"/>
            <p:cNvSpPr/>
            <p:nvPr/>
          </p:nvSpPr>
          <p:spPr>
            <a:xfrm>
              <a:off x="4984560" y="3040200"/>
              <a:ext cx="19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0"/>
            <p:cNvSpPr/>
            <p:nvPr/>
          </p:nvSpPr>
          <p:spPr>
            <a:xfrm>
              <a:off x="4724280" y="2666880"/>
              <a:ext cx="22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F00B-5E3D-4885-A3D7-4947A9932A3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pic>
        <p:nvPicPr>
          <p:cNvPr id="516" name="Rectangle 3" descr=""/>
          <p:cNvPicPr/>
          <p:nvPr/>
        </p:nvPicPr>
        <p:blipFill>
          <a:blip r:embed="rId2"/>
          <a:stretch/>
        </p:blipFill>
        <p:spPr>
          <a:xfrm>
            <a:off x="457200" y="1292400"/>
            <a:ext cx="8461440" cy="46148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"/>
          <p:cNvGrpSpPr/>
          <p:nvPr/>
        </p:nvGrpSpPr>
        <p:grpSpPr>
          <a:xfrm>
            <a:off x="990720" y="2438280"/>
            <a:ext cx="2255400" cy="2798640"/>
            <a:chOff x="990720" y="2438280"/>
            <a:chExt cx="2255400" cy="2798640"/>
          </a:xfrm>
        </p:grpSpPr>
        <p:sp>
          <p:nvSpPr>
            <p:cNvPr id="518" name="Line 5"/>
            <p:cNvSpPr/>
            <p:nvPr/>
          </p:nvSpPr>
          <p:spPr>
            <a:xfrm flipV="1">
              <a:off x="2725920" y="5050800"/>
              <a:ext cx="0" cy="1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6"/>
            <p:cNvSpPr/>
            <p:nvPr/>
          </p:nvSpPr>
          <p:spPr>
            <a:xfrm>
              <a:off x="2725920" y="505080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7"/>
            <p:cNvSpPr/>
            <p:nvPr/>
          </p:nvSpPr>
          <p:spPr>
            <a:xfrm flipV="1">
              <a:off x="2552040" y="4677480"/>
              <a:ext cx="0" cy="55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8"/>
            <p:cNvSpPr/>
            <p:nvPr/>
          </p:nvSpPr>
          <p:spPr>
            <a:xfrm>
              <a:off x="2552040" y="467748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9"/>
            <p:cNvSpPr/>
            <p:nvPr/>
          </p:nvSpPr>
          <p:spPr>
            <a:xfrm flipV="1">
              <a:off x="2291760" y="4304520"/>
              <a:ext cx="0" cy="9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0"/>
            <p:cNvSpPr/>
            <p:nvPr/>
          </p:nvSpPr>
          <p:spPr>
            <a:xfrm flipV="1">
              <a:off x="2031480" y="393120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 flipV="1">
              <a:off x="1771200" y="3557880"/>
              <a:ext cx="0" cy="167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12"/>
            <p:cNvSpPr/>
            <p:nvPr/>
          </p:nvSpPr>
          <p:spPr>
            <a:xfrm flipV="1">
              <a:off x="1510920" y="3184920"/>
              <a:ext cx="0" cy="20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3"/>
            <p:cNvSpPr/>
            <p:nvPr/>
          </p:nvSpPr>
          <p:spPr>
            <a:xfrm flipV="1">
              <a:off x="1250640" y="2811600"/>
              <a:ext cx="0" cy="24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4"/>
            <p:cNvSpPr/>
            <p:nvPr/>
          </p:nvSpPr>
          <p:spPr>
            <a:xfrm flipV="1">
              <a:off x="990720" y="2438280"/>
              <a:ext cx="0" cy="27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5"/>
            <p:cNvSpPr/>
            <p:nvPr/>
          </p:nvSpPr>
          <p:spPr>
            <a:xfrm>
              <a:off x="2291760" y="4304520"/>
              <a:ext cx="9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6"/>
            <p:cNvSpPr/>
            <p:nvPr/>
          </p:nvSpPr>
          <p:spPr>
            <a:xfrm>
              <a:off x="2031480" y="3931200"/>
              <a:ext cx="121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7"/>
            <p:cNvSpPr/>
            <p:nvPr/>
          </p:nvSpPr>
          <p:spPr>
            <a:xfrm>
              <a:off x="1771200" y="355788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1510920" y="3184920"/>
              <a:ext cx="17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19"/>
            <p:cNvSpPr/>
            <p:nvPr/>
          </p:nvSpPr>
          <p:spPr>
            <a:xfrm>
              <a:off x="1250640" y="2811600"/>
              <a:ext cx="19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0"/>
            <p:cNvSpPr/>
            <p:nvPr/>
          </p:nvSpPr>
          <p:spPr>
            <a:xfrm>
              <a:off x="990720" y="2438280"/>
              <a:ext cx="225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Line 21"/>
          <p:cNvSpPr/>
          <p:nvPr/>
        </p:nvSpPr>
        <p:spPr>
          <a:xfrm flipH="1">
            <a:off x="7162560" y="5257800"/>
            <a:ext cx="74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Date Placeholder 2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7F12-79D2-4011-95D1-B409379A72C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2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7FE3-8E99-481D-804A-CC74A2C4B57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pic>
        <p:nvPicPr>
          <p:cNvPr id="539" name="Rectangle 3" descr=""/>
          <p:cNvPicPr/>
          <p:nvPr/>
        </p:nvPicPr>
        <p:blipFill>
          <a:blip r:embed="rId2"/>
          <a:stretch/>
        </p:blipFill>
        <p:spPr>
          <a:xfrm>
            <a:off x="457200" y="1292400"/>
            <a:ext cx="8461440" cy="461484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4"/>
          <p:cNvGrpSpPr/>
          <p:nvPr/>
        </p:nvGrpSpPr>
        <p:grpSpPr>
          <a:xfrm>
            <a:off x="990720" y="2362680"/>
            <a:ext cx="2255400" cy="2798280"/>
            <a:chOff x="990720" y="2362680"/>
            <a:chExt cx="2255400" cy="2798280"/>
          </a:xfrm>
        </p:grpSpPr>
        <p:sp>
          <p:nvSpPr>
            <p:cNvPr id="541" name="Line 5"/>
            <p:cNvSpPr/>
            <p:nvPr/>
          </p:nvSpPr>
          <p:spPr>
            <a:xfrm flipV="1">
              <a:off x="2725920" y="4974840"/>
              <a:ext cx="0" cy="1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"/>
            <p:cNvSpPr/>
            <p:nvPr/>
          </p:nvSpPr>
          <p:spPr>
            <a:xfrm>
              <a:off x="2725920" y="4974840"/>
              <a:ext cx="52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7"/>
            <p:cNvSpPr/>
            <p:nvPr/>
          </p:nvSpPr>
          <p:spPr>
            <a:xfrm flipV="1">
              <a:off x="2552040" y="4601520"/>
              <a:ext cx="0" cy="55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8"/>
            <p:cNvSpPr/>
            <p:nvPr/>
          </p:nvSpPr>
          <p:spPr>
            <a:xfrm>
              <a:off x="2552040" y="460152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9"/>
            <p:cNvSpPr/>
            <p:nvPr/>
          </p:nvSpPr>
          <p:spPr>
            <a:xfrm flipV="1">
              <a:off x="2291760" y="4228560"/>
              <a:ext cx="0" cy="9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0"/>
            <p:cNvSpPr/>
            <p:nvPr/>
          </p:nvSpPr>
          <p:spPr>
            <a:xfrm flipV="1">
              <a:off x="2031480" y="385524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1"/>
            <p:cNvSpPr/>
            <p:nvPr/>
          </p:nvSpPr>
          <p:spPr>
            <a:xfrm flipV="1">
              <a:off x="1771200" y="3481920"/>
              <a:ext cx="0" cy="167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 flipV="1">
              <a:off x="1510920" y="3109320"/>
              <a:ext cx="0" cy="20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 flipV="1">
              <a:off x="1250640" y="2736000"/>
              <a:ext cx="0" cy="242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 flipV="1">
              <a:off x="990720" y="2362680"/>
              <a:ext cx="0" cy="27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5"/>
            <p:cNvSpPr/>
            <p:nvPr/>
          </p:nvSpPr>
          <p:spPr>
            <a:xfrm>
              <a:off x="2291760" y="4228560"/>
              <a:ext cx="9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6"/>
            <p:cNvSpPr/>
            <p:nvPr/>
          </p:nvSpPr>
          <p:spPr>
            <a:xfrm>
              <a:off x="2031480" y="3855240"/>
              <a:ext cx="121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17"/>
            <p:cNvSpPr/>
            <p:nvPr/>
          </p:nvSpPr>
          <p:spPr>
            <a:xfrm>
              <a:off x="1771200" y="3481920"/>
              <a:ext cx="14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8"/>
            <p:cNvSpPr/>
            <p:nvPr/>
          </p:nvSpPr>
          <p:spPr>
            <a:xfrm>
              <a:off x="1510920" y="3109320"/>
              <a:ext cx="17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9"/>
            <p:cNvSpPr/>
            <p:nvPr/>
          </p:nvSpPr>
          <p:spPr>
            <a:xfrm>
              <a:off x="1250640" y="2736000"/>
              <a:ext cx="19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20"/>
            <p:cNvSpPr/>
            <p:nvPr/>
          </p:nvSpPr>
          <p:spPr>
            <a:xfrm>
              <a:off x="990720" y="2362680"/>
              <a:ext cx="225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Line 21"/>
          <p:cNvSpPr/>
          <p:nvPr/>
        </p:nvSpPr>
        <p:spPr>
          <a:xfrm flipH="1">
            <a:off x="6781680" y="5334120"/>
            <a:ext cx="74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Date Placeholder 2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46B3-E567-4D38-88F3-BE90EA8D755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2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6106-EDD2-4040-B628-006773AF9E2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8748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 </a:t>
            </a:r>
            <a:r>
              <a:rPr b="0" lang="en-US" sz="2800" spc="-1" strike="noStrike">
                <a:solidFill>
                  <a:srgbClr val="a92dea"/>
                </a:solidFill>
                <a:latin typeface="Corbel"/>
              </a:rPr>
              <a:t>Husky </a:t>
            </a:r>
            <a:r>
              <a:rPr b="0" lang="en-US" sz="2800" spc="-1" strike="noStrike">
                <a:solidFill>
                  <a:srgbClr val="a04ce6"/>
                </a:solidFill>
                <a:latin typeface="Corbel"/>
              </a:rPr>
              <a:t>purpl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 (160,76,230) which 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rbel"/>
              </a:rPr>
              <a:t>1010 0000  </a:t>
            </a:r>
            <a:r>
              <a:rPr b="1" lang="en-US" sz="2000" spc="-1" strike="noStrike">
                <a:solidFill>
                  <a:srgbClr val="00ff00"/>
                </a:solidFill>
                <a:latin typeface="Corbel"/>
              </a:rPr>
              <a:t>0100 1100  </a:t>
            </a:r>
            <a:r>
              <a:rPr b="1" lang="en-US" sz="2000" spc="-1" strike="noStrike">
                <a:solidFill>
                  <a:srgbClr val="0000ff"/>
                </a:solidFill>
                <a:latin typeface="Corbel"/>
              </a:rPr>
              <a:t>1110 011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rbel"/>
              </a:rPr>
              <a:t>160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en-US" sz="2000" spc="-1" strike="noStrike">
                <a:solidFill>
                  <a:srgbClr val="00ff00"/>
                </a:solidFill>
                <a:latin typeface="Corbel"/>
              </a:rPr>
              <a:t>76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Corbel"/>
              </a:rPr>
              <a:t>230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ppose you decide it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 not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d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enough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Increase the red by 16 = 1 0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1010 0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+      1 00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1011 0000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5105520" y="4038480"/>
            <a:ext cx="2971800" cy="1557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dding in binary is pretty much like adding in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ate Placeholder 5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FB72-E5A1-4351-832F-DF70A6FD2E2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AE96-8AE5-49BA-8ADC-074F516805CC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ase by 16 mo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2400" spc="-1" strike="noStrike">
                <a:solidFill>
                  <a:srgbClr val="5a6378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rbel"/>
              </a:rPr>
              <a:t>00110 000</a:t>
            </a:r>
            <a:r>
              <a:rPr b="1" lang="en-US" sz="2400" spc="-1" strike="noStrike">
                <a:solidFill>
                  <a:srgbClr val="0000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rbel"/>
              </a:rPr>
              <a:t>Carr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1011 00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+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rbel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      1 010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1100 0110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ule: When the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lace sum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equals the radix or more, subtract radix &amp; car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heck it out online: searching                          hits 19M times, and all of the p.1 hits are good explana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9" name="Line 7"/>
          <p:cNvSpPr/>
          <p:nvPr/>
        </p:nvSpPr>
        <p:spPr>
          <a:xfrm flipH="1">
            <a:off x="2895120" y="2133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22096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20574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Date Placeholder 10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F937-8C2B-460B-AD11-A937A54EB66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7242480" y="1752480"/>
            <a:ext cx="5054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5118840" y="5105520"/>
            <a:ext cx="1811520" cy="368280"/>
          </a:xfrm>
          <a:prstGeom prst="rect">
            <a:avLst/>
          </a:prstGeom>
          <a:gradFill rotWithShape="0">
            <a:gsLst>
              <a:gs pos="0">
                <a:srgbClr val="fff5da"/>
              </a:gs>
              <a:gs pos="100000">
                <a:srgbClr val="ffde7f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Arial"/>
              </a:rPr>
              <a:t>binary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1"/>
          <p:cNvSpPr/>
          <p:nvPr/>
        </p:nvSpPr>
        <p:spPr>
          <a:xfrm flipH="1">
            <a:off x="7314840" y="2362320"/>
            <a:ext cx="43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0108-587E-4C60-BD89-19A16F11AAB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939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is 230? Fill in the Tabl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533520" y="2438280"/>
          <a:ext cx="8192880" cy="259884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160"/>
                <a:gridCol w="797040"/>
                <a:gridCol w="696960"/>
                <a:gridCol w="595080"/>
                <a:gridCol w="552600"/>
                <a:gridCol w="579600"/>
                <a:gridCol w="479160"/>
                <a:gridCol w="38736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AFA9-6554-4EA9-A862-717B18DDBA3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EE19-C18B-4CDD-B68C-88C677BF3CA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1440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420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lace number to be converted into the table; fill place value row with decimal powers of 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533520" y="2743200"/>
          <a:ext cx="8192880" cy="259884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160"/>
                <a:gridCol w="797040"/>
                <a:gridCol w="696960"/>
                <a:gridCol w="595080"/>
                <a:gridCol w="552600"/>
                <a:gridCol w="579600"/>
                <a:gridCol w="479160"/>
                <a:gridCol w="387360"/>
              </a:tblGrid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1134-4D3D-4F54-A5A0-4B08527B6950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6D54-2380-46E6-BBE1-59DCE53D88C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144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5420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: Subtract PV from the number; a positive result gives new number and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 otherwis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533520" y="2666880"/>
          <a:ext cx="8192880" cy="259884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160"/>
                <a:gridCol w="797040"/>
                <a:gridCol w="696960"/>
                <a:gridCol w="595080"/>
                <a:gridCol w="552600"/>
                <a:gridCol w="579600"/>
                <a:gridCol w="479160"/>
                <a:gridCol w="38736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Line 61"/>
          <p:cNvSpPr/>
          <p:nvPr/>
        </p:nvSpPr>
        <p:spPr>
          <a:xfrm flipV="1">
            <a:off x="3686040" y="3314880"/>
            <a:ext cx="241560" cy="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BCA-0457-4F0F-A913-C509A09E521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11A7-595E-4BC1-A6F6-678BFA9B576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144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420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: Subtract PV from the number; a positive result gives new number and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 otherwis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533520" y="2438280"/>
          <a:ext cx="8192880" cy="259884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160"/>
                <a:gridCol w="797040"/>
                <a:gridCol w="696960"/>
                <a:gridCol w="595080"/>
                <a:gridCol w="552600"/>
                <a:gridCol w="579600"/>
                <a:gridCol w="479160"/>
                <a:gridCol w="38736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Line 61"/>
          <p:cNvSpPr/>
          <p:nvPr/>
        </p:nvSpPr>
        <p:spPr>
          <a:xfrm flipV="1">
            <a:off x="3686040" y="3314880"/>
            <a:ext cx="241560" cy="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64"/>
          <p:cNvSpPr/>
          <p:nvPr/>
        </p:nvSpPr>
        <p:spPr>
          <a:xfrm flipV="1">
            <a:off x="4533840" y="353340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Date Placeholder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627C-C0EB-4838-BE30-69A5DFC7593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431-B2C7-47A1-84F8-136F66D4614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14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20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: Subtract PV from the number; a positive result gives new number and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 otherwis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57200" y="2514600"/>
          <a:ext cx="8193240" cy="259884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520"/>
                <a:gridCol w="796680"/>
                <a:gridCol w="696960"/>
                <a:gridCol w="595440"/>
                <a:gridCol w="552240"/>
                <a:gridCol w="579600"/>
                <a:gridCol w="479520"/>
                <a:gridCol w="387360"/>
              </a:tblGrid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Line 61"/>
          <p:cNvSpPr/>
          <p:nvPr/>
        </p:nvSpPr>
        <p:spPr>
          <a:xfrm flipV="1">
            <a:off x="3632040" y="2774520"/>
            <a:ext cx="241560" cy="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64"/>
          <p:cNvSpPr/>
          <p:nvPr/>
        </p:nvSpPr>
        <p:spPr>
          <a:xfrm flipV="1">
            <a:off x="4479840" y="299376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65"/>
          <p:cNvSpPr/>
          <p:nvPr/>
        </p:nvSpPr>
        <p:spPr>
          <a:xfrm flipV="1">
            <a:off x="5289480" y="299376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ate Placeholder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4ED6-B2C0-4BC6-BDC6-F426D3EE443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44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80880" y="990360"/>
            <a:ext cx="85471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ence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sence of a phenomenon at a specific place and time abbreviated: 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Pan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enomena: light, magnetism, charge, mass, color, current,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tecting depends on phenomenon – but the result must be discrete: was it detected or not; there is no option for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rta there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ace and time apply, but usually default to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bvious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values; not so important to 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alternatives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D89F-E084-4989-A138-1187D47138E5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B461-4A7A-4D34-85CF-9C87F94F222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14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420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: Subtract PV from the number; a positive result gives new number and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 otherwis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533520" y="2438280"/>
          <a:ext cx="8192880" cy="259884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160"/>
                <a:gridCol w="797040"/>
                <a:gridCol w="696960"/>
                <a:gridCol w="595080"/>
                <a:gridCol w="552600"/>
                <a:gridCol w="579600"/>
                <a:gridCol w="479160"/>
                <a:gridCol w="38736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Line 61"/>
          <p:cNvSpPr/>
          <p:nvPr/>
        </p:nvSpPr>
        <p:spPr>
          <a:xfrm flipV="1">
            <a:off x="3708360" y="2698920"/>
            <a:ext cx="241200" cy="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64"/>
          <p:cNvSpPr/>
          <p:nvPr/>
        </p:nvSpPr>
        <p:spPr>
          <a:xfrm flipV="1">
            <a:off x="4556160" y="291744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5"/>
          <p:cNvSpPr/>
          <p:nvPr/>
        </p:nvSpPr>
        <p:spPr>
          <a:xfrm flipV="1">
            <a:off x="5365800" y="291744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6"/>
          <p:cNvSpPr/>
          <p:nvPr/>
        </p:nvSpPr>
        <p:spPr>
          <a:xfrm flipV="1">
            <a:off x="6060960" y="291744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ate Placeholder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2AAC-F5BE-41AF-B44B-9D3763FF449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20CD-E12B-47A9-B0AA-9EA4B8C4EF8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144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420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: Subtract PV from the number; a positive result gives new number and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 otherwis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457200" y="2590920"/>
          <a:ext cx="8193240" cy="259848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520"/>
                <a:gridCol w="796680"/>
                <a:gridCol w="696960"/>
                <a:gridCol w="595440"/>
                <a:gridCol w="552240"/>
                <a:gridCol w="579600"/>
                <a:gridCol w="479520"/>
                <a:gridCol w="387360"/>
              </a:tblGrid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Line 61"/>
          <p:cNvSpPr/>
          <p:nvPr/>
        </p:nvSpPr>
        <p:spPr>
          <a:xfrm flipV="1">
            <a:off x="3632040" y="2851200"/>
            <a:ext cx="241560" cy="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2"/>
          <p:cNvSpPr/>
          <p:nvPr/>
        </p:nvSpPr>
        <p:spPr>
          <a:xfrm flipV="1">
            <a:off x="6629400" y="2851200"/>
            <a:ext cx="246240" cy="15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4"/>
          <p:cNvSpPr/>
          <p:nvPr/>
        </p:nvSpPr>
        <p:spPr>
          <a:xfrm flipV="1">
            <a:off x="4479840" y="306972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5"/>
          <p:cNvSpPr/>
          <p:nvPr/>
        </p:nvSpPr>
        <p:spPr>
          <a:xfrm flipV="1">
            <a:off x="5289480" y="306972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6"/>
          <p:cNvSpPr/>
          <p:nvPr/>
        </p:nvSpPr>
        <p:spPr>
          <a:xfrm flipV="1">
            <a:off x="5985000" y="306972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Date Placeholder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31A2-8B7C-45DD-9B6B-1F3089A9E67D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CD40-EB4D-45CE-B6BC-41E5F89117F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144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420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: Subtract PV from the number; a positive result gives new number and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 otherwis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57200" y="2362320"/>
          <a:ext cx="8193240" cy="259848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520"/>
                <a:gridCol w="796680"/>
                <a:gridCol w="696960"/>
                <a:gridCol w="595440"/>
                <a:gridCol w="552240"/>
                <a:gridCol w="579600"/>
                <a:gridCol w="479520"/>
                <a:gridCol w="387360"/>
              </a:tblGrid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Line 61"/>
          <p:cNvSpPr/>
          <p:nvPr/>
        </p:nvSpPr>
        <p:spPr>
          <a:xfrm flipV="1">
            <a:off x="3632040" y="2622600"/>
            <a:ext cx="241560" cy="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62"/>
          <p:cNvSpPr/>
          <p:nvPr/>
        </p:nvSpPr>
        <p:spPr>
          <a:xfrm flipV="1">
            <a:off x="6629400" y="2622600"/>
            <a:ext cx="246240" cy="15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63"/>
          <p:cNvSpPr/>
          <p:nvPr/>
        </p:nvSpPr>
        <p:spPr>
          <a:xfrm>
            <a:off x="7165800" y="2622600"/>
            <a:ext cx="174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64"/>
          <p:cNvSpPr/>
          <p:nvPr/>
        </p:nvSpPr>
        <p:spPr>
          <a:xfrm flipV="1">
            <a:off x="4479840" y="284112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65"/>
          <p:cNvSpPr/>
          <p:nvPr/>
        </p:nvSpPr>
        <p:spPr>
          <a:xfrm flipV="1">
            <a:off x="5289480" y="284112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6"/>
          <p:cNvSpPr/>
          <p:nvPr/>
        </p:nvSpPr>
        <p:spPr>
          <a:xfrm flipV="1">
            <a:off x="5985000" y="284112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Date Placeholder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BAF3-2E43-4F7A-A1A9-EFE7536F07C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C87-035A-4976-B4CA-BD9064A5158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144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5420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: Subtract PV from the number; a positive result gives new number and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 otherwis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2286000"/>
          <a:ext cx="8193240" cy="259884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520"/>
                <a:gridCol w="796680"/>
                <a:gridCol w="696960"/>
                <a:gridCol w="595440"/>
                <a:gridCol w="552240"/>
                <a:gridCol w="579600"/>
                <a:gridCol w="479520"/>
                <a:gridCol w="387360"/>
              </a:tblGrid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Line 61"/>
          <p:cNvSpPr/>
          <p:nvPr/>
        </p:nvSpPr>
        <p:spPr>
          <a:xfrm flipV="1">
            <a:off x="3632040" y="2545920"/>
            <a:ext cx="241560" cy="9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62"/>
          <p:cNvSpPr/>
          <p:nvPr/>
        </p:nvSpPr>
        <p:spPr>
          <a:xfrm flipV="1">
            <a:off x="6629400" y="2546280"/>
            <a:ext cx="246240" cy="15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3"/>
          <p:cNvSpPr/>
          <p:nvPr/>
        </p:nvSpPr>
        <p:spPr>
          <a:xfrm>
            <a:off x="7165800" y="2546280"/>
            <a:ext cx="174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4"/>
          <p:cNvSpPr/>
          <p:nvPr/>
        </p:nvSpPr>
        <p:spPr>
          <a:xfrm flipV="1">
            <a:off x="4479840" y="276516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5"/>
          <p:cNvSpPr/>
          <p:nvPr/>
        </p:nvSpPr>
        <p:spPr>
          <a:xfrm flipV="1">
            <a:off x="5289480" y="276516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6"/>
          <p:cNvSpPr/>
          <p:nvPr/>
        </p:nvSpPr>
        <p:spPr>
          <a:xfrm flipV="1">
            <a:off x="5985000" y="276516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7"/>
          <p:cNvSpPr/>
          <p:nvPr/>
        </p:nvSpPr>
        <p:spPr>
          <a:xfrm flipV="1">
            <a:off x="7709040" y="276516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ate Placeholder 1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E3C0-D9EC-44CF-9C19-9F28D201905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441A-0CCF-49D6-8D35-157E7B4F3C0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9396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420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: Subtract PV from the number; a positive result gives new number and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 otherwis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57200" y="2438280"/>
          <a:ext cx="8193240" cy="259884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520"/>
                <a:gridCol w="796680"/>
                <a:gridCol w="696960"/>
                <a:gridCol w="595440"/>
                <a:gridCol w="552240"/>
                <a:gridCol w="579600"/>
                <a:gridCol w="479520"/>
                <a:gridCol w="38736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Line 61"/>
          <p:cNvSpPr/>
          <p:nvPr/>
        </p:nvSpPr>
        <p:spPr>
          <a:xfrm flipV="1">
            <a:off x="3632040" y="2698920"/>
            <a:ext cx="241560" cy="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62"/>
          <p:cNvSpPr/>
          <p:nvPr/>
        </p:nvSpPr>
        <p:spPr>
          <a:xfrm flipV="1">
            <a:off x="6629400" y="2698920"/>
            <a:ext cx="246240" cy="15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63"/>
          <p:cNvSpPr/>
          <p:nvPr/>
        </p:nvSpPr>
        <p:spPr>
          <a:xfrm>
            <a:off x="7165800" y="2698920"/>
            <a:ext cx="174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64"/>
          <p:cNvSpPr/>
          <p:nvPr/>
        </p:nvSpPr>
        <p:spPr>
          <a:xfrm flipV="1">
            <a:off x="4479840" y="291744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65"/>
          <p:cNvSpPr/>
          <p:nvPr/>
        </p:nvSpPr>
        <p:spPr>
          <a:xfrm flipV="1">
            <a:off x="5289480" y="291744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66"/>
          <p:cNvSpPr/>
          <p:nvPr/>
        </p:nvSpPr>
        <p:spPr>
          <a:xfrm flipV="1">
            <a:off x="5985000" y="291744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67"/>
          <p:cNvSpPr/>
          <p:nvPr/>
        </p:nvSpPr>
        <p:spPr>
          <a:xfrm flipV="1">
            <a:off x="7709040" y="291744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68"/>
          <p:cNvSpPr/>
          <p:nvPr/>
        </p:nvSpPr>
        <p:spPr>
          <a:xfrm flipV="1">
            <a:off x="8185320" y="291744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Date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E684-376B-444B-BC2D-1E988BD9E9D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F928-871D-4C8C-AE9C-A6C6FFD13E8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Rectangle 2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7778880" cy="91440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42080" cy="465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ule: Subtract PV from the number; a positive result gives new number and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; otherwis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Read off the result: 0  1110  0110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457200" y="2438280"/>
          <a:ext cx="8193240" cy="2598840"/>
        </p:xfrm>
        <a:graphic>
          <a:graphicData uri="http://schemas.openxmlformats.org/drawingml/2006/table">
            <a:tbl>
              <a:tblPr/>
              <a:tblGrid>
                <a:gridCol w="2406600"/>
                <a:gridCol w="841320"/>
                <a:gridCol w="857520"/>
                <a:gridCol w="796680"/>
                <a:gridCol w="696960"/>
                <a:gridCol w="595440"/>
                <a:gridCol w="552240"/>
                <a:gridCol w="579600"/>
                <a:gridCol w="479520"/>
                <a:gridCol w="387360"/>
              </a:tblGrid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Num  Being Conver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Place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Subtr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Binary N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7" name="Line 61"/>
          <p:cNvSpPr/>
          <p:nvPr/>
        </p:nvSpPr>
        <p:spPr>
          <a:xfrm flipV="1">
            <a:off x="3632040" y="2698920"/>
            <a:ext cx="241560" cy="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62"/>
          <p:cNvSpPr/>
          <p:nvPr/>
        </p:nvSpPr>
        <p:spPr>
          <a:xfrm flipV="1">
            <a:off x="6629400" y="2698920"/>
            <a:ext cx="246240" cy="15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63"/>
          <p:cNvSpPr/>
          <p:nvPr/>
        </p:nvSpPr>
        <p:spPr>
          <a:xfrm>
            <a:off x="7165800" y="2698920"/>
            <a:ext cx="174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64"/>
          <p:cNvSpPr/>
          <p:nvPr/>
        </p:nvSpPr>
        <p:spPr>
          <a:xfrm flipV="1">
            <a:off x="4479840" y="291744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65"/>
          <p:cNvSpPr/>
          <p:nvPr/>
        </p:nvSpPr>
        <p:spPr>
          <a:xfrm flipV="1">
            <a:off x="5289480" y="2917440"/>
            <a:ext cx="21924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66"/>
          <p:cNvSpPr/>
          <p:nvPr/>
        </p:nvSpPr>
        <p:spPr>
          <a:xfrm flipV="1">
            <a:off x="5985000" y="291744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67"/>
          <p:cNvSpPr/>
          <p:nvPr/>
        </p:nvSpPr>
        <p:spPr>
          <a:xfrm flipV="1">
            <a:off x="7709040" y="291744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68"/>
          <p:cNvSpPr/>
          <p:nvPr/>
        </p:nvSpPr>
        <p:spPr>
          <a:xfrm flipV="1">
            <a:off x="8185320" y="2917440"/>
            <a:ext cx="218880" cy="11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Date Placeholder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06F9-AC7C-41A4-9255-79C70DB3A300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ALL KNOW computers represent data by binary numb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 QUITE TRU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ers represent information by bit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SCII, numbers (yes, in binary), metadata + computer instructions, color, sound, video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damental Fact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ts can represent ALL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ts have no inherent meaning … you don</a:t>
            </a:r>
            <a:r>
              <a:rPr b="0" lang="fr-FR" sz="2800" spc="-1" strike="noStrike">
                <a:solidFill>
                  <a:srgbClr val="000000"/>
                </a:solidFill>
                <a:latin typeface="Corbe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 know what 1100 0100 1010 1110 means … it could be anyth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Date Placeholder 4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E2B4-D309-490C-8D90-B452C7B99B0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esence and absence” is too long,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0,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t the coffee shop … record passersb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multi-state cases, pick one for present, all others are ab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wo states, means this is a binary syste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ACED-17B5-44B7-8A87-09B11A2C605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9"/>
          <p:cNvGrpSpPr/>
          <p:nvPr/>
        </p:nvGrpSpPr>
        <p:grpSpPr>
          <a:xfrm>
            <a:off x="3124080" y="2819520"/>
            <a:ext cx="4913280" cy="501480"/>
            <a:chOff x="3124080" y="2819520"/>
            <a:chExt cx="4913280" cy="501480"/>
          </a:xfrm>
        </p:grpSpPr>
        <p:pic>
          <p:nvPicPr>
            <p:cNvPr id="364" name="Picture 1" descr=""/>
            <p:cNvPicPr/>
            <p:nvPr/>
          </p:nvPicPr>
          <p:blipFill>
            <a:blip r:embed="rId2"/>
            <a:stretch/>
          </p:blipFill>
          <p:spPr>
            <a:xfrm>
              <a:off x="3124080" y="2819520"/>
              <a:ext cx="5698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2" descr=""/>
            <p:cNvPicPr/>
            <p:nvPr/>
          </p:nvPicPr>
          <p:blipFill>
            <a:blip r:embed="rId3"/>
            <a:stretch/>
          </p:blipFill>
          <p:spPr>
            <a:xfrm>
              <a:off x="3695400" y="2819520"/>
              <a:ext cx="5745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3" descr=""/>
            <p:cNvPicPr/>
            <p:nvPr/>
          </p:nvPicPr>
          <p:blipFill>
            <a:blip r:embed="rId4"/>
            <a:stretch/>
          </p:blipFill>
          <p:spPr>
            <a:xfrm>
              <a:off x="4381200" y="2819520"/>
              <a:ext cx="5698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4" descr=""/>
            <p:cNvPicPr/>
            <p:nvPr/>
          </p:nvPicPr>
          <p:blipFill>
            <a:blip r:embed="rId5"/>
            <a:stretch/>
          </p:blipFill>
          <p:spPr>
            <a:xfrm>
              <a:off x="4952880" y="2819520"/>
              <a:ext cx="5745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6" descr=""/>
            <p:cNvPicPr/>
            <p:nvPr/>
          </p:nvPicPr>
          <p:blipFill>
            <a:blip r:embed="rId6"/>
            <a:srcRect l="30837" t="0" r="0" b="0"/>
            <a:stretch/>
          </p:blipFill>
          <p:spPr>
            <a:xfrm>
              <a:off x="5702040" y="2819520"/>
              <a:ext cx="3967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8" descr=""/>
            <p:cNvPicPr/>
            <p:nvPr/>
          </p:nvPicPr>
          <p:blipFill>
            <a:blip r:embed="rId7"/>
            <a:stretch/>
          </p:blipFill>
          <p:spPr>
            <a:xfrm>
              <a:off x="6095880" y="2819520"/>
              <a:ext cx="5745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7" descr=""/>
            <p:cNvPicPr/>
            <p:nvPr/>
          </p:nvPicPr>
          <p:blipFill>
            <a:blip r:embed="rId8"/>
            <a:stretch/>
          </p:blipFill>
          <p:spPr>
            <a:xfrm>
              <a:off x="6781680" y="2819520"/>
              <a:ext cx="5698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5" descr=""/>
            <p:cNvPicPr/>
            <p:nvPr/>
          </p:nvPicPr>
          <p:blipFill>
            <a:blip r:embed="rId9"/>
            <a:stretch/>
          </p:blipFill>
          <p:spPr>
            <a:xfrm>
              <a:off x="7467480" y="2819520"/>
              <a:ext cx="569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Line 9"/>
          <p:cNvSpPr/>
          <p:nvPr/>
        </p:nvSpPr>
        <p:spPr>
          <a:xfrm>
            <a:off x="1728720" y="6800760"/>
            <a:ext cx="50292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1"/>
          <p:cNvGrpSpPr/>
          <p:nvPr/>
        </p:nvGrpSpPr>
        <p:grpSpPr>
          <a:xfrm>
            <a:off x="3581280" y="3657600"/>
            <a:ext cx="5194440" cy="582480"/>
            <a:chOff x="3581280" y="3657600"/>
            <a:chExt cx="5194440" cy="582480"/>
          </a:xfrm>
        </p:grpSpPr>
        <p:pic>
          <p:nvPicPr>
            <p:cNvPr id="374" name="Picture 16" descr=""/>
            <p:cNvPicPr/>
            <p:nvPr/>
          </p:nvPicPr>
          <p:blipFill>
            <a:blip r:embed="rId10"/>
            <a:stretch/>
          </p:blipFill>
          <p:spPr>
            <a:xfrm>
              <a:off x="3581280" y="3700080"/>
              <a:ext cx="5785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7" descr=""/>
            <p:cNvPicPr/>
            <p:nvPr/>
          </p:nvPicPr>
          <p:blipFill>
            <a:blip r:embed="rId11"/>
            <a:stretch/>
          </p:blipFill>
          <p:spPr>
            <a:xfrm>
              <a:off x="4215240" y="3657600"/>
              <a:ext cx="622440" cy="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8" descr=""/>
            <p:cNvPicPr/>
            <p:nvPr/>
          </p:nvPicPr>
          <p:blipFill>
            <a:blip r:embed="rId12"/>
            <a:stretch/>
          </p:blipFill>
          <p:spPr>
            <a:xfrm>
              <a:off x="7517160" y="3700080"/>
              <a:ext cx="5785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19" descr=""/>
            <p:cNvPicPr/>
            <p:nvPr/>
          </p:nvPicPr>
          <p:blipFill>
            <a:blip r:embed="rId13">
              <a:grayscl/>
            </a:blip>
            <a:stretch/>
          </p:blipFill>
          <p:spPr>
            <a:xfrm>
              <a:off x="4896720" y="3657600"/>
              <a:ext cx="622440" cy="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0" descr=""/>
            <p:cNvPicPr/>
            <p:nvPr/>
          </p:nvPicPr>
          <p:blipFill>
            <a:blip r:embed="rId14"/>
            <a:stretch/>
          </p:blipFill>
          <p:spPr>
            <a:xfrm>
              <a:off x="6256080" y="3700080"/>
              <a:ext cx="5785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1" descr=""/>
            <p:cNvPicPr/>
            <p:nvPr/>
          </p:nvPicPr>
          <p:blipFill>
            <a:blip r:embed="rId15"/>
            <a:stretch/>
          </p:blipFill>
          <p:spPr>
            <a:xfrm>
              <a:off x="6889680" y="3700080"/>
              <a:ext cx="5785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2" descr=""/>
            <p:cNvPicPr/>
            <p:nvPr/>
          </p:nvPicPr>
          <p:blipFill>
            <a:blip r:embed="rId16">
              <a:grayscl/>
            </a:blip>
            <a:stretch/>
          </p:blipFill>
          <p:spPr>
            <a:xfrm>
              <a:off x="5578560" y="3657600"/>
              <a:ext cx="622440" cy="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23" descr=""/>
            <p:cNvPicPr/>
            <p:nvPr/>
          </p:nvPicPr>
          <p:blipFill>
            <a:blip r:embed="rId17">
              <a:grayscl/>
            </a:blip>
            <a:stretch/>
          </p:blipFill>
          <p:spPr>
            <a:xfrm>
              <a:off x="8153280" y="3657600"/>
              <a:ext cx="622440" cy="57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1" descr=""/>
          <p:cNvPicPr/>
          <p:nvPr/>
        </p:nvPicPr>
        <p:blipFill>
          <a:blip r:embed="rId18"/>
          <a:stretch/>
        </p:blipFill>
        <p:spPr>
          <a:xfrm>
            <a:off x="685800" y="2819520"/>
            <a:ext cx="569880" cy="5014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10"/>
          <p:cNvSpPr/>
          <p:nvPr/>
        </p:nvSpPr>
        <p:spPr>
          <a:xfrm>
            <a:off x="1305360" y="28954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 going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9" descr=""/>
          <p:cNvPicPr/>
          <p:nvPr/>
        </p:nvPicPr>
        <p:blipFill>
          <a:blip r:embed="rId19">
            <a:grayscl/>
          </a:blip>
          <a:stretch/>
        </p:blipFill>
        <p:spPr>
          <a:xfrm>
            <a:off x="685800" y="3657600"/>
            <a:ext cx="622440" cy="58248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1"/>
          <p:cNvSpPr/>
          <p:nvPr/>
        </p:nvSpPr>
        <p:spPr>
          <a:xfrm>
            <a:off x="1295280" y="3733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 wearing purp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3513-4529-4EE9-95B3-434CEAA902E5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he Diving Bell and the Butterf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Jean-Dominique Bauby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2" descr="bauby"/>
          <p:cNvPicPr/>
          <p:nvPr/>
        </p:nvPicPr>
        <p:blipFill>
          <a:blip r:embed="rId2"/>
          <a:stretch/>
        </p:blipFill>
        <p:spPr>
          <a:xfrm>
            <a:off x="1752480" y="1066680"/>
            <a:ext cx="56674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251E-2DE0-495E-8844-27B656D6872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protocol for Yes/No ques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e blink == 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wo blinks == 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ndA implies that this is not the fewest number of blinks … reall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770B-3183-4538-B4B3-594CC11C35A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English ETAOINSHRDLU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Object 2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BB67-1041-449D-9716-C5E05427511C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many questions to encod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Plus ça change, plus c'est la même chose?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king in Frequency Order: ESARINTULOMDPCFBVHGJQZYXK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Straight Connector 5"/>
          <p:cNvSpPr/>
          <p:nvPr/>
        </p:nvSpPr>
        <p:spPr>
          <a:xfrm flipH="1">
            <a:off x="3960360" y="3735360"/>
            <a:ext cx="3240" cy="533520"/>
          </a:xfrm>
          <a:prstGeom prst="line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3736080" y="4343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7"/>
          <p:cNvSpPr/>
          <p:nvPr/>
        </p:nvSpPr>
        <p:spPr>
          <a:xfrm flipH="1">
            <a:off x="2894040" y="3735360"/>
            <a:ext cx="1440" cy="533520"/>
          </a:xfrm>
          <a:prstGeom prst="line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2743560" y="4344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2EFD-EAD5-4544-BEA7-83E3F2117E6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(c) 2010-12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78000" y="152280"/>
            <a:ext cx="8235720" cy="914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w many questions to encod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Plus ça change, plus c'est la même chose?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king in Frequency Order: ESARINTULOMDPCFBVHGJQZYXK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king in Alphabetical Order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BCDEFGHIJKLMNOPQRSTUVWXYZ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Straight Connector 3"/>
          <p:cNvSpPr/>
          <p:nvPr/>
        </p:nvSpPr>
        <p:spPr>
          <a:xfrm flipH="1">
            <a:off x="4722840" y="4726080"/>
            <a:ext cx="1440" cy="533160"/>
          </a:xfrm>
          <a:prstGeom prst="line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4497840" y="5334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5"/>
          <p:cNvSpPr/>
          <p:nvPr/>
        </p:nvSpPr>
        <p:spPr>
          <a:xfrm flipH="1">
            <a:off x="3579840" y="4726080"/>
            <a:ext cx="1440" cy="533160"/>
          </a:xfrm>
          <a:prstGeom prst="line">
            <a:avLst/>
          </a:prstGeom>
          <a:ln w="47880">
            <a:solidFill>
              <a:srgbClr val="f0ad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3354840" y="5334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4:21:56Z</dcterms:created>
  <dc:creator>Information School</dc:creator>
  <dc:description/>
  <dc:language>en-US</dc:language>
  <cp:lastModifiedBy>Larry Snyder</cp:lastModifiedBy>
  <cp:lastPrinted>2013-01-31T17:45:44Z</cp:lastPrinted>
  <dcterms:modified xsi:type="dcterms:W3CDTF">2014-05-13T22:22:27Z</dcterms:modified>
  <cp:revision>96</cp:revision>
  <dc:subject/>
  <dc:title>Welcome to FIT100</dc:title>
</cp:coreProperties>
</file>