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163C-B581-44E0-B4AD-8DC058199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B468-BC0D-43E3-B41E-0455D0A1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9703-C51D-49D6-BB91-0951EF6DB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29DB-98A0-4391-9966-D3ED232A6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8B5E-8E6A-4991-B61B-804F2847D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698A-518C-4E7C-9463-5A8D9505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9253-D6C6-4B8C-A622-22FA452E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FBBE2-894D-4703-9058-AD05C8E9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A7F0-7BC5-40C4-92ED-7C478CF8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999D-7E7F-4ED8-A797-F3B12F91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50BB-3636-4FD1-B9DB-65552704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D690-54A8-4B96-B1FC-FB09B21E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9B60-DD30-4CA3-A9F7-06E3DBEB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BF8FA-CB5A-4B94-9B25-826E09A3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E257-D6C5-4703-A862-7744B3DC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7A4B-4916-451E-8292-3984B8DCE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7B87-B161-46B8-9B64-12AD33C8F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FC0B2-6FFA-46C8-AAB1-782FFAD41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A07B5-7285-46BE-AF35-04E4B75E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2942D-C57D-48D3-9B13-81C8E99D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42D1C-2E1C-4ECF-A347-88CE1511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3B703-2A67-4D6E-A67C-7AAEF608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4B72-AF7E-44BC-9058-A3851912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F53AE-C131-4738-B34B-06A4AB72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6D363-7E64-4886-AA28-150EC7ED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AF7C6-26F6-4EF5-B3C8-5055C7C1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C43E5-C6E3-49C9-8CCA-66248521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80CB5-7931-4018-83CB-A39CC261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432E9-B2CF-4D51-A696-F92CF8B7B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59456-E65F-4D62-AEF9-F38D57ECE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D4799-8D64-4873-BC99-35B089310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B0E54-ACE7-410D-8B6F-9918A6CD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4F68A-B2B1-4E12-8E90-F06AD8B2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E911-FE74-447B-9D4E-9A901D2E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E16FA-D619-468A-86BF-DC254FA6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F0B2F-8A60-454B-BCE6-DF4BD45D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CDC59-AFAC-4682-93B8-2A902787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FC256-E1D8-40D8-8AEF-2323FAC8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C09F1-DAFC-4E41-B274-7900978A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9B7F1-A399-4E05-BD6C-1705CF4E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69675-C506-46C7-829B-A81F0F13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0D050-7241-47F4-9F30-054FBB822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37296-B134-4611-9497-53F6FD978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23F1F-98B6-496F-88BC-FDF23BF09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C063-F3E4-48F2-9CC9-775F2D2E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8AE4D-C157-4C5A-9CFD-45A5E782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9550F-DC09-4668-ACE6-92ABF5A4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1F3A6-14A5-4CC0-856B-928D03F7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2A4F8-73DA-41B4-A700-3112E3E3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92057-F26A-499A-9C40-EEDDE221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54120-BCA2-4D42-8A81-91FA298B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8F8CA-D7FB-40F0-B561-43766167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E51BD-1D40-48FA-A4C0-D1980DDF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2C081-CA5D-44EA-9CD6-D19B6EBF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08BD5-AB28-4064-9DB0-AF75F6BF1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5362-04E3-49AA-85B3-94873068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BAE6F-9179-441D-BA99-22DD775C8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12D1C-AD8F-43BF-AD45-659686D36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E1909-F907-488E-A833-DA760210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CBD9B-C2F8-4011-8A35-42F024AE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4A9C8-0519-4A77-A28E-6A48E42E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0043C-5F0A-4DCB-A189-B57BC29D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0EED6-7EEF-41D2-BBD8-00C90877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1E954-2FFF-4577-BB3A-2DB78679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B4CCB-5D1C-4A3B-B61C-BF8DD47C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0C4A1-3DD5-43A7-8450-B3DFDF6B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4972-16CF-4A78-96E3-5512C26C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70079-5E19-4B60-8872-0E187D8B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3B792-AA40-4A31-B22A-37E2EA660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B3EDA-3C9C-4C8C-B18B-3FE724533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C7C32-0C23-4986-B134-7454AD24C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A646C-7243-456A-81F6-F774AD2F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43A6E-A474-4CC5-AA17-A5F6EDE1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C3802-58F0-4CDA-AE35-D8FE64F8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BA8A0-3E55-4514-8F7E-F86B7A8A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4B0F5-59B0-43CC-A722-4CC8D1F7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16607-5FA1-48A2-A639-04D145E6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870B-F12E-4B32-B7C1-DAE51905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052D4-FDB3-4A5A-8B6B-3C0B3146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3ECAE-0C80-4C8A-85B3-125E28D6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206AE-2E94-4B22-AF96-C0432830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2CEC9-B524-4B09-8C3A-881D795FB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100B4-CC06-4A35-B239-30A2AAE82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EA32-8B7D-4A9C-8789-2B06626B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066680"/>
            <a:ext cx="9144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F8E6-0060-4125-921F-A121C5F9961C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D758-45EE-473C-B59F-67136296661F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50C0-6435-4072-9136-0B8093AB3A3D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4D70-35EE-4987-B172-5AA2BF3C7BA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BD84-7139-4D27-9BF1-91E34000B609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6DD5-5C1B-4143-B9B9-3D65F137592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BD2D-90AC-4C37-BF55-A0BD891EF13A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E4E8-7A64-4AE3-9C80-3E32CF050989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066680"/>
            <a:ext cx="9144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22CB-C088-49E5-8A3C-BA5A128D231E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6F86-3917-4BC6-A5FA-A9972764470D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066680"/>
            <a:ext cx="9144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E01E-51C9-42FB-AA7A-F0003A9F9A2C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C70E-4A92-4394-90DE-2A8643FA75E8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8227-51BB-41B1-8F69-217FC30ABBBC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1502-4CEF-4F19-8ED5-8B4D06933A3D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Rectangle 2" descr=""/>
          <p:cNvPicPr/>
          <p:nvPr/>
        </p:nvPicPr>
        <p:blipFill>
          <a:blip r:embed="rId1"/>
          <a:stretch/>
        </p:blipFill>
        <p:spPr>
          <a:xfrm>
            <a:off x="609480" y="2359080"/>
            <a:ext cx="8004240" cy="114624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762120" y="4114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rbel"/>
              </a:rPr>
              <a:t>Lawrence Snyder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rbel"/>
              </a:rPr>
              <a:t>University of Washington, Seattl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967560" y="6172200"/>
            <a:ext cx="160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a6378"/>
                </a:solidFill>
                <a:latin typeface="Arial"/>
              </a:rPr>
              <a:t>© Lawrence Snyder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4"/>
          <p:cNvSpPr/>
          <p:nvPr/>
        </p:nvSpPr>
        <p:spPr>
          <a:xfrm>
            <a:off x="548640" y="533520"/>
            <a:ext cx="25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ing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pic>
        <p:nvPicPr>
          <p:cNvPr id="383" name="Content Placeholder 2" descr=""/>
          <p:cNvPicPr/>
          <p:nvPr/>
        </p:nvPicPr>
        <p:blipFill>
          <a:blip r:embed="rId2"/>
          <a:stretch/>
        </p:blipFill>
        <p:spPr>
          <a:xfrm>
            <a:off x="457200" y="987480"/>
            <a:ext cx="8229600" cy="5535720"/>
          </a:xfrm>
          <a:prstGeom prst="rect">
            <a:avLst/>
          </a:prstGeom>
          <a:ln w="0">
            <a:noFill/>
          </a:ln>
        </p:spPr>
      </p:pic>
      <p:sp>
        <p:nvSpPr>
          <p:cNvPr id="384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4DB9-155D-42C5-AE0C-133B99B68FDE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15A9-1767-48F1-8EC0-023437D96079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-statement has a standard for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f ( bmi &gt;18.5 &amp;&amp; bmi&lt;=24.9 ) {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ll(0, 255, 0)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8069-5FFB-49FD-AA9F-7FD6FFA2E9EF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9874-CE16-4742-9762-5FD28B1059D6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6"/>
          <p:cNvSpPr/>
          <p:nvPr/>
        </p:nvSpPr>
        <p:spPr>
          <a:xfrm>
            <a:off x="693360" y="190512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7"/>
          <p:cNvSpPr/>
          <p:nvPr/>
        </p:nvSpPr>
        <p:spPr>
          <a:xfrm>
            <a:off x="1079280" y="228600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, open p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8"/>
          <p:cNvSpPr/>
          <p:nvPr/>
        </p:nvSpPr>
        <p:spPr>
          <a:xfrm>
            <a:off x="3514680" y="213372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9"/>
          <p:cNvSpPr/>
          <p:nvPr/>
        </p:nvSpPr>
        <p:spPr>
          <a:xfrm>
            <a:off x="4965480" y="23623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, close p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10"/>
          <p:cNvSpPr/>
          <p:nvPr/>
        </p:nvSpPr>
        <p:spPr>
          <a:xfrm>
            <a:off x="6108480" y="274320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, open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1"/>
          <p:cNvSpPr/>
          <p:nvPr/>
        </p:nvSpPr>
        <p:spPr>
          <a:xfrm>
            <a:off x="1154520" y="56386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, clos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8" name="Straight Arrow Connector 12"/>
          <p:cNvCxnSpPr/>
          <p:nvPr/>
        </p:nvCxnSpPr>
        <p:spPr>
          <a:xfrm flipH="1">
            <a:off x="1065960" y="2211480"/>
            <a:ext cx="2520" cy="1599120"/>
          </a:xfrm>
          <a:prstGeom prst="straightConnector1">
            <a:avLst/>
          </a:prstGeom>
          <a:ln w="47880">
            <a:solidFill>
              <a:srgbClr val="f0ad00"/>
            </a:solidFill>
            <a:miter/>
            <a:tailEnd len="med" type="arrow" w="med"/>
          </a:ln>
        </p:spPr>
      </p:cxnSp>
      <p:cxnSp>
        <p:nvCxnSpPr>
          <p:cNvPr id="399" name="Straight Arrow Connector 13"/>
          <p:cNvCxnSpPr/>
          <p:nvPr/>
        </p:nvCxnSpPr>
        <p:spPr>
          <a:xfrm flipH="1">
            <a:off x="1369800" y="2668320"/>
            <a:ext cx="3600" cy="1143720"/>
          </a:xfrm>
          <a:prstGeom prst="straightConnector1">
            <a:avLst/>
          </a:prstGeom>
          <a:ln w="47880">
            <a:solidFill>
              <a:srgbClr val="f0ad00"/>
            </a:solidFill>
            <a:miter/>
            <a:tailEnd len="med" type="arrow" w="med"/>
          </a:ln>
        </p:spPr>
      </p:cxnSp>
      <p:cxnSp>
        <p:nvCxnSpPr>
          <p:cNvPr id="400" name="Straight Arrow Connector 14"/>
          <p:cNvCxnSpPr/>
          <p:nvPr/>
        </p:nvCxnSpPr>
        <p:spPr>
          <a:xfrm flipH="1">
            <a:off x="3276000" y="2361960"/>
            <a:ext cx="229320" cy="1067400"/>
          </a:xfrm>
          <a:prstGeom prst="straightConnector1">
            <a:avLst/>
          </a:prstGeom>
          <a:ln w="47880">
            <a:solidFill>
              <a:srgbClr val="f0ad00"/>
            </a:solidFill>
            <a:miter/>
            <a:tailEnd len="med" type="arrow" w="med"/>
          </a:ln>
        </p:spPr>
      </p:cxnSp>
      <p:cxnSp>
        <p:nvCxnSpPr>
          <p:cNvPr id="401" name="Straight Arrow Connector 17"/>
          <p:cNvCxnSpPr/>
          <p:nvPr/>
        </p:nvCxnSpPr>
        <p:spPr>
          <a:xfrm flipH="1">
            <a:off x="5103000" y="2744280"/>
            <a:ext cx="3960" cy="1143720"/>
          </a:xfrm>
          <a:prstGeom prst="straightConnector1">
            <a:avLst/>
          </a:prstGeom>
          <a:ln w="47880">
            <a:solidFill>
              <a:srgbClr val="f0ad00"/>
            </a:solidFill>
            <a:miter/>
            <a:tailEnd len="med" type="arrow" w="med"/>
          </a:ln>
        </p:spPr>
      </p:cxnSp>
      <p:cxnSp>
        <p:nvCxnSpPr>
          <p:cNvPr id="402" name="Straight Arrow Connector 18"/>
          <p:cNvCxnSpPr/>
          <p:nvPr/>
        </p:nvCxnSpPr>
        <p:spPr>
          <a:xfrm flipH="1">
            <a:off x="5409360" y="3124080"/>
            <a:ext cx="1143720" cy="991440"/>
          </a:xfrm>
          <a:prstGeom prst="straightConnector1">
            <a:avLst/>
          </a:prstGeom>
          <a:ln w="47880">
            <a:solidFill>
              <a:srgbClr val="f0ad00"/>
            </a:solidFill>
            <a:miter/>
            <a:tailEnd len="med" type="arrow" w="med"/>
          </a:ln>
        </p:spPr>
      </p:cxnSp>
      <p:cxnSp>
        <p:nvCxnSpPr>
          <p:cNvPr id="403" name="Straight Arrow Connector 19"/>
          <p:cNvCxnSpPr/>
          <p:nvPr/>
        </p:nvCxnSpPr>
        <p:spPr>
          <a:xfrm flipH="1" flipV="1">
            <a:off x="1142280" y="5104800"/>
            <a:ext cx="610200" cy="533880"/>
          </a:xfrm>
          <a:prstGeom prst="straightConnector1">
            <a:avLst/>
          </a:prstGeom>
          <a:ln w="47880">
            <a:solidFill>
              <a:srgbClr val="f0ad00"/>
            </a:solidFill>
            <a:miter/>
            <a:tailEnd len="med" type="arrow" w="med"/>
          </a:ln>
        </p:spPr>
      </p:cxnSp>
      <p:sp>
        <p:nvSpPr>
          <p:cNvPr id="404" name="TextBox 20"/>
          <p:cNvSpPr/>
          <p:nvPr/>
        </p:nvSpPr>
        <p:spPr>
          <a:xfrm>
            <a:off x="3581280" y="4876920"/>
            <a:ext cx="4648320" cy="1191240"/>
          </a:xfrm>
          <a:prstGeom prst="rect">
            <a:avLst/>
          </a:prstGeom>
          <a:gradFill rotWithShape="0">
            <a:gsLst>
              <a:gs pos="0">
                <a:srgbClr val="fff5da"/>
              </a:gs>
              <a:gs pos="100000">
                <a:srgbClr val="ffde7f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484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Arial"/>
              </a:rPr>
              <a:t>The result is that if bmi is in range the fill color is green (indicating 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at happens if we want to do something else if the condition is false?  What else?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else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atement must follow an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f (year%4 == 0) {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&lt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ff to do if condition true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&gt;; //Then Claus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} else {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&lt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ff to do if condition false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&gt;; //Else Claus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3517-764C-488A-9421-CEEAE037B284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42C8-C18E-49B8-8538-303A6D962E4A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standard form may now be obviou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f (year%4 == 0) {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eb_days = 29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} else {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eb_days = 28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278F-4F97-4388-9503-F9BE0A4DABC4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386D-4B1F-404A-9B78-88A30532CFC5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11"/>
          <p:cNvSpPr/>
          <p:nvPr/>
        </p:nvSpPr>
        <p:spPr>
          <a:xfrm>
            <a:off x="1071720" y="464832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ly, clos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6" name="Straight Arrow Connector 17"/>
          <p:cNvCxnSpPr/>
          <p:nvPr/>
        </p:nvCxnSpPr>
        <p:spPr>
          <a:xfrm flipH="1" flipV="1">
            <a:off x="1066320" y="4114440"/>
            <a:ext cx="610560" cy="534240"/>
          </a:xfrm>
          <a:prstGeom prst="straightConnector1">
            <a:avLst/>
          </a:prstGeom>
          <a:ln w="47880">
            <a:solidFill>
              <a:srgbClr val="f0ad00"/>
            </a:solidFill>
            <a:miter/>
            <a:tailEnd len="med" type="arrow" w="med"/>
          </a:ln>
        </p:spPr>
      </p:cxnSp>
      <p:sp>
        <p:nvSpPr>
          <p:cNvPr id="417" name="TextBox 18"/>
          <p:cNvSpPr/>
          <p:nvPr/>
        </p:nvSpPr>
        <p:spPr>
          <a:xfrm>
            <a:off x="3505320" y="4648320"/>
            <a:ext cx="4647960" cy="1191240"/>
          </a:xfrm>
          <a:prstGeom prst="rect">
            <a:avLst/>
          </a:prstGeom>
          <a:gradFill rotWithShape="0">
            <a:gsLst>
              <a:gs pos="0">
                <a:srgbClr val="fff5da"/>
              </a:gs>
              <a:gs pos="100000">
                <a:srgbClr val="ffde7f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484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Arial"/>
              </a:rPr>
              <a:t>The result is sets the number of days in February based on leap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9"/>
          <p:cNvSpPr/>
          <p:nvPr/>
        </p:nvSpPr>
        <p:spPr>
          <a:xfrm>
            <a:off x="159840" y="358128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9" name="Straight Arrow Connector 20"/>
          <p:cNvCxnSpPr/>
          <p:nvPr/>
        </p:nvCxnSpPr>
        <p:spPr>
          <a:xfrm flipV="1">
            <a:off x="837720" y="3351960"/>
            <a:ext cx="381960" cy="305640"/>
          </a:xfrm>
          <a:prstGeom prst="straightConnector1">
            <a:avLst/>
          </a:prstGeom>
          <a:ln w="47880">
            <a:solidFill>
              <a:srgbClr val="f0ad00"/>
            </a:solidFill>
            <a:miter/>
            <a:tailEnd len="med" type="arrow" w="med"/>
          </a:ln>
        </p:spPr>
      </p:cxnSp>
      <p:sp>
        <p:nvSpPr>
          <p:cNvPr id="420" name="TextBox 22"/>
          <p:cNvSpPr/>
          <p:nvPr/>
        </p:nvSpPr>
        <p:spPr>
          <a:xfrm>
            <a:off x="3988080" y="2971800"/>
            <a:ext cx="38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brace, immediately after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1" name="Straight Arrow Connector 23"/>
          <p:cNvCxnSpPr/>
          <p:nvPr/>
        </p:nvCxnSpPr>
        <p:spPr>
          <a:xfrm flipH="1" flipV="1">
            <a:off x="2056680" y="3200040"/>
            <a:ext cx="1981800" cy="2160"/>
          </a:xfrm>
          <a:prstGeom prst="straightConnector1">
            <a:avLst/>
          </a:prstGeom>
          <a:ln w="47880">
            <a:solidFill>
              <a:srgbClr val="f0ad00"/>
            </a:solidFill>
            <a:miter/>
            <a:tailEnd len="med" type="arrow" w="med"/>
          </a:ln>
        </p:spPr>
      </p:cxnSp>
      <p:sp>
        <p:nvSpPr>
          <p:cNvPr id="422" name="TextBox 13"/>
          <p:cNvSpPr/>
          <p:nvPr/>
        </p:nvSpPr>
        <p:spPr>
          <a:xfrm>
            <a:off x="4495680" y="1905120"/>
            <a:ext cx="3276720" cy="1191240"/>
          </a:xfrm>
          <a:prstGeom prst="rect">
            <a:avLst/>
          </a:prstGeom>
          <a:gradFill rotWithShape="0">
            <a:gsLst>
              <a:gs pos="0">
                <a:srgbClr val="fff5da"/>
              </a:gs>
              <a:gs pos="100000">
                <a:srgbClr val="ffde7f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484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Arial"/>
              </a:rPr>
              <a:t>Else must follow if because it does the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et’s go to processing for an exampl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D083-4BCB-406C-B567-CF041A2C944B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BF14-9A63-41D6-80F2-94C023F5AA9C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2" descr="dots.png"/>
          <p:cNvPicPr/>
          <p:nvPr/>
        </p:nvPicPr>
        <p:blipFill>
          <a:blip r:embed="rId2"/>
          <a:stretch/>
        </p:blipFill>
        <p:spPr>
          <a:xfrm>
            <a:off x="304920" y="1905120"/>
            <a:ext cx="4279680" cy="4483080"/>
          </a:xfrm>
          <a:prstGeom prst="rect">
            <a:avLst/>
          </a:prstGeom>
          <a:ln w="0">
            <a:noFill/>
          </a:ln>
        </p:spPr>
      </p:pic>
      <p:sp>
        <p:nvSpPr>
          <p:cNvPr id="429" name="TextBox 7"/>
          <p:cNvSpPr/>
          <p:nvPr/>
        </p:nvSpPr>
        <p:spPr>
          <a:xfrm>
            <a:off x="2748960" y="5943600"/>
            <a:ext cx="1704600" cy="52056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Arial"/>
              </a:rPr>
              <a:t>Just Do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3" descr="finaldemo.png"/>
          <p:cNvPicPr/>
          <p:nvPr/>
        </p:nvPicPr>
        <p:blipFill>
          <a:blip r:embed="rId3"/>
          <a:srcRect l="0" t="7661" r="22428" b="14682"/>
          <a:stretch/>
        </p:blipFill>
        <p:spPr>
          <a:xfrm>
            <a:off x="4419720" y="1828800"/>
            <a:ext cx="4556160" cy="433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456840" y="10666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0"/>
          </a:bodyPr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aturally, programs are given sequentially, the declarations at the top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races { } are statement groupers … they make a sequence of statements into one thing, like the 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rue clause of an If-statement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l statements must end with a semicolon EXCEPT the grouping braces … they don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 end with a semicolon (OK, it’s a rare inconsistency about computer languages!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enerally white space doesn’t matter; be neat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4CEE-424D-4F59-BFDB-5ECEC1E71BAD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ED93-9D62-47A0-A4DB-1AB3EAD65F88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30492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e saw how to change the color of the ball and its direction with a mouse &amp; key click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cal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ＭＳ Ｐゴシック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7B81-285A-4D1F-A389-793041B5B5B8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A7D5-DAA0-4347-A594-7D64EA4854FE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" descr="ball1.png"/>
          <p:cNvPicPr/>
          <p:nvPr/>
        </p:nvPicPr>
        <p:blipFill>
          <a:blip r:embed="rId2"/>
          <a:stretch/>
        </p:blipFill>
        <p:spPr>
          <a:xfrm>
            <a:off x="533520" y="2819520"/>
            <a:ext cx="6350040" cy="19047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3" descr="ball2.png"/>
          <p:cNvPicPr/>
          <p:nvPr/>
        </p:nvPicPr>
        <p:blipFill>
          <a:blip r:embed="rId3"/>
          <a:stretch/>
        </p:blipFill>
        <p:spPr>
          <a:xfrm>
            <a:off x="4952880" y="2590920"/>
            <a:ext cx="3479760" cy="345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ule: Assignment always moves information from right to left, as i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cDec = - incDec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Arial"/>
              </a:rPr>
              <a:t>Rule: Always evaluate (compute) the right side, then assign the result to the name on the left side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8457-D6D7-4A69-B83A-692A3B89382F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DA4B-F1A5-474E-9B15-5A3C88F56851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7" descr="ball2.png"/>
          <p:cNvPicPr/>
          <p:nvPr/>
        </p:nvPicPr>
        <p:blipFill>
          <a:blip r:embed="rId2"/>
          <a:srcRect l="0" t="0" r="0" b="68022"/>
          <a:stretch/>
        </p:blipFill>
        <p:spPr>
          <a:xfrm>
            <a:off x="1828800" y="2514600"/>
            <a:ext cx="4319640" cy="137160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2"/>
          <p:cNvSpPr/>
          <p:nvPr/>
        </p:nvSpPr>
        <p:spPr>
          <a:xfrm>
            <a:off x="2590920" y="4114800"/>
            <a:ext cx="1600200" cy="60948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Curved Down Arrow 13"/>
          <p:cNvSpPr/>
          <p:nvPr/>
        </p:nvSpPr>
        <p:spPr>
          <a:xfrm flipH="1">
            <a:off x="1905120" y="3733920"/>
            <a:ext cx="838080" cy="380880"/>
          </a:xfrm>
          <a:custGeom>
            <a:avLst/>
            <a:gdLst>
              <a:gd name="textAreaLeft" fmla="*/ 173880 w 838080"/>
              <a:gd name="textAreaRight" fmla="*/ 617040 w 8380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59" hR="21600" stAng="10800000" swAng="5400000"/>
                <a:lnTo>
                  <a:pt x="11414" y="0"/>
                </a:lnTo>
                <a:arcTo wR="8959" hR="21600" stAng="-5400000" swAng="3485831"/>
                <a:lnTo>
                  <a:pt x="21316" y="16200"/>
                </a:lnTo>
                <a:lnTo>
                  <a:pt x="19146" y="21600"/>
                </a:lnTo>
                <a:lnTo>
                  <a:pt x="16407" y="16200"/>
                </a:lnTo>
                <a:lnTo>
                  <a:pt x="17634" y="16200"/>
                </a:lnTo>
                <a:arcTo wR="8959" hR="21600" stAng="-1914169" swAng="-3288825"/>
                <a:lnTo>
                  <a:pt x="10187" y="204"/>
                </a:lnTo>
                <a:arcTo wR="8959" hR="21600" stAng="-5597007" swAng="-5202993"/>
                <a:close/>
              </a:path>
              <a:path fill="darkenLess" w="21600" h="21600">
                <a:moveTo>
                  <a:pt x="0" y="21600"/>
                </a:moveTo>
                <a:arcTo wR="8959" hR="21600" stAng="10800000" swAng="5400000"/>
                <a:lnTo>
                  <a:pt x="8959" y="0"/>
                </a:lnTo>
                <a:arcTo wR="8959" hR="21600" stAng="-5400000" swAng="197007"/>
                <a:lnTo>
                  <a:pt x="10187" y="204"/>
                </a:lnTo>
                <a:arcTo wR="8959" hR="21600" stAng="-5597007" swAng="-5202993"/>
                <a:close/>
              </a:path>
            </a:pathLst>
          </a:custGeom>
          <a:solidFill>
            <a:srgbClr val="dddfe5"/>
          </a:solidFill>
          <a:ln cap="rnd" w="6480">
            <a:solidFill>
              <a:srgbClr val="0000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acts about express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xpressions are formulas using: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+ - * / % || ! &amp;&amp; == &lt; &lt;= &gt;= &gt; !=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Operators can only be used with certain data types and their result is a certain data typ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utting in parentheses is OK, and it’s smar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ules about express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xpressions can usually go where variables can go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9292-DD5C-4395-96BB-A5699BEF5067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5D0C-E473-4A09-BBDF-EDD520166EA3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act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xpressions are formulas:    a+b         points*wg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(year%4 == 0)       7 != 4       (age&gt;12) &amp;&amp; (age&lt;20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spcAft>
                <a:spcPts val="1199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Need &amp; give data types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25560" indent="-212400">
              <a:spcBef>
                <a:spcPts val="601"/>
              </a:spcBef>
              <a:spcAft>
                <a:spcPts val="1199"/>
              </a:spcAft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+ - * / % &lt; &lt;= =&gt; &gt; want numbers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25560" indent="-212400">
              <a:spcBef>
                <a:spcPts val="601"/>
              </a:spcBef>
              <a:spcAft>
                <a:spcPts val="1199"/>
              </a:spcAft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&amp;&amp; !  || want logical (Boolean) values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25560" indent="-212400">
              <a:spcBef>
                <a:spcPts val="601"/>
              </a:spcBef>
              <a:spcAft>
                <a:spcPts val="1199"/>
              </a:spcAft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== and != want arguments to be the same typ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spcAft>
                <a:spcPts val="1199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arentheses are good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: (a * b) + c is the same as a*b+c, but easier to rea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DCA8-9E28-4822-9E93-5564F0F6BF5D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C23F-ED0E-4EC4-81B5-5B9EFF82A908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%b (read, “a mod b”) is the amount left after “b divides into a evenly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10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0 % 3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ＭＳ Ｐゴシック"/>
              </a:rPr>
              <a:t>is 0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10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 % 3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ＭＳ Ｐゴシック"/>
              </a:rPr>
              <a:t>is 1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10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2 % 3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ＭＳ Ｐゴシック"/>
              </a:rPr>
              <a:t>is 2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10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3 % 3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ＭＳ Ｐゴシック"/>
              </a:rPr>
              <a:t>is 0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10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4 % 3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ＭＳ Ｐゴシック"/>
              </a:rPr>
              <a:t>is 1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10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5 % 3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ＭＳ Ｐゴシック"/>
              </a:rPr>
              <a:t>is 2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10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6 % 3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ＭＳ Ｐゴシック"/>
              </a:rPr>
              <a:t>is 0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E3DA-FB9A-4411-9FBF-B9D6CD21CDAB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8196-E7D4-402A-9E26-BF785E37325D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2"/>
          <p:cNvSpPr/>
          <p:nvPr/>
        </p:nvSpPr>
        <p:spPr>
          <a:xfrm>
            <a:off x="3962520" y="3505320"/>
            <a:ext cx="449568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p Year: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ye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leap year 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year%4 =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7"/>
          <p:cNvSpPr/>
          <p:nvPr/>
        </p:nvSpPr>
        <p:spPr>
          <a:xfrm>
            <a:off x="3962520" y="2362320"/>
            <a:ext cx="449568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: a numb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even 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n%2 =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8"/>
          <p:cNvSpPr/>
          <p:nvPr/>
        </p:nvSpPr>
        <p:spPr>
          <a:xfrm>
            <a:off x="3962520" y="4648320"/>
            <a:ext cx="4495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an Zodiac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year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year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the same sign 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year1%12 == year2%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s numbers get larger, mod will cause them to “drop to 0” … this is a Ninja mov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F39E-F54A-4DAC-B544-A7897B60A529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E313-8A46-4417-9F11-5279BC505F1E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7"/>
          <p:cNvSpPr/>
          <p:nvPr/>
        </p:nvSpPr>
        <p:spPr>
          <a:xfrm>
            <a:off x="1375560" y="5943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8" descr="rff2.png"/>
          <p:cNvPicPr/>
          <p:nvPr/>
        </p:nvPicPr>
        <p:blipFill>
          <a:blip r:embed="rId2"/>
          <a:stretch/>
        </p:blipFill>
        <p:spPr>
          <a:xfrm>
            <a:off x="4800600" y="2430360"/>
            <a:ext cx="4191120" cy="4224600"/>
          </a:xfrm>
          <a:prstGeom prst="rect">
            <a:avLst/>
          </a:prstGeom>
          <a:ln w="0">
            <a:noFill/>
          </a:ln>
        </p:spPr>
      </p:pic>
      <p:sp>
        <p:nvSpPr>
          <p:cNvPr id="347" name="Left Arrow 10"/>
          <p:cNvSpPr/>
          <p:nvPr/>
        </p:nvSpPr>
        <p:spPr>
          <a:xfrm>
            <a:off x="7238880" y="3581280"/>
            <a:ext cx="1371600" cy="533520"/>
          </a:xfrm>
          <a:prstGeom prst="leftArrow">
            <a:avLst>
              <a:gd name="adj1" fmla="val 50000"/>
              <a:gd name="adj2" fmla="val 49989"/>
            </a:avLst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12"/>
          <p:cNvSpPr/>
          <p:nvPr/>
        </p:nvSpPr>
        <p:spPr>
          <a:xfrm>
            <a:off x="7396200" y="36576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 =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eft Arrow 13"/>
          <p:cNvSpPr/>
          <p:nvPr/>
        </p:nvSpPr>
        <p:spPr>
          <a:xfrm>
            <a:off x="7238880" y="5257800"/>
            <a:ext cx="1371600" cy="533520"/>
          </a:xfrm>
          <a:prstGeom prst="leftArrow">
            <a:avLst>
              <a:gd name="adj1" fmla="val 50000"/>
              <a:gd name="adj2" fmla="val 49989"/>
            </a:avLst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14"/>
          <p:cNvSpPr/>
          <p:nvPr/>
        </p:nvSpPr>
        <p:spPr>
          <a:xfrm>
            <a:off x="7398360" y="533412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 == 1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15"/>
          <p:cNvSpPr/>
          <p:nvPr/>
        </p:nvSpPr>
        <p:spPr>
          <a:xfrm>
            <a:off x="7320960" y="1600200"/>
            <a:ext cx="1704600" cy="52056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Arial"/>
              </a:rPr>
              <a:t>Just Do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2" descr="Screen Shot 2014-01-21 at 2.18.46 PM.png"/>
          <p:cNvPicPr/>
          <p:nvPr/>
        </p:nvPicPr>
        <p:blipFill>
          <a:blip r:embed="rId3"/>
          <a:srcRect l="9453" t="15462" r="20994" b="26834"/>
          <a:stretch/>
        </p:blipFill>
        <p:spPr>
          <a:xfrm>
            <a:off x="304920" y="2286000"/>
            <a:ext cx="4038480" cy="3957480"/>
          </a:xfrm>
          <a:prstGeom prst="rect">
            <a:avLst/>
          </a:prstGeom>
          <a:ln w="0">
            <a:noFill/>
          </a:ln>
        </p:spPr>
      </p:pic>
      <p:sp>
        <p:nvSpPr>
          <p:cNvPr id="353" name="Left Arrow 9"/>
          <p:cNvSpPr/>
          <p:nvPr/>
        </p:nvSpPr>
        <p:spPr>
          <a:xfrm>
            <a:off x="2514600" y="4495680"/>
            <a:ext cx="762120" cy="45720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16"/>
          <p:cNvSpPr/>
          <p:nvPr/>
        </p:nvSpPr>
        <p:spPr>
          <a:xfrm>
            <a:off x="3968280" y="6019920"/>
            <a:ext cx="1704600" cy="52056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Arial"/>
              </a:rPr>
              <a:t>Just Do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56840" y="12189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9000"/>
          </a:bodyPr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peating commands is a powerful way to use a computer … we could repeat them, but all programming systems have a way to loop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ightbot 2.0 used recursion, a function calling itself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ymbolic Lightbot prefixed a number, 2:Step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ocessing (and other modern languages) use a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oop: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r (i = 0; i &lt; 5; i = i + 1) {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ect(10+20*i,10,10, 10)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7C52-B5EE-445A-9491-EE110DEE214F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71BA-5773-44AB-AA8F-018A88FFFA16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6" descr="squares.gif"/>
          <p:cNvPicPr/>
          <p:nvPr/>
        </p:nvPicPr>
        <p:blipFill>
          <a:blip r:embed="rId2"/>
          <a:srcRect l="0" t="15999" r="0" b="0"/>
          <a:stretch/>
        </p:blipFill>
        <p:spPr>
          <a:xfrm>
            <a:off x="5867280" y="4419720"/>
            <a:ext cx="2210040" cy="217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for loop has several parts, all required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r (int j = 0; j &lt; 10; j = j + 1) {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2240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ff to be repeated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6804-6148-4BE0-8A7A-B4475E159F22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9652-81C0-4487-B3D5-CA7D2DA82AD5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6"/>
          <p:cNvSpPr/>
          <p:nvPr/>
        </p:nvSpPr>
        <p:spPr>
          <a:xfrm>
            <a:off x="693360" y="190512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7"/>
          <p:cNvSpPr/>
          <p:nvPr/>
        </p:nvSpPr>
        <p:spPr>
          <a:xfrm>
            <a:off x="1079280" y="228600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, open p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8"/>
          <p:cNvSpPr/>
          <p:nvPr/>
        </p:nvSpPr>
        <p:spPr>
          <a:xfrm>
            <a:off x="3516840" y="2133720"/>
            <a:ext cx="184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ing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ation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9"/>
          <p:cNvSpPr/>
          <p:nvPr/>
        </p:nvSpPr>
        <p:spPr>
          <a:xfrm>
            <a:off x="5499000" y="2286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, close p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10"/>
          <p:cNvSpPr/>
          <p:nvPr/>
        </p:nvSpPr>
        <p:spPr>
          <a:xfrm>
            <a:off x="6565680" y="25909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, open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1"/>
          <p:cNvSpPr/>
          <p:nvPr/>
        </p:nvSpPr>
        <p:spPr>
          <a:xfrm>
            <a:off x="1078200" y="51055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, clos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2" name="Straight Arrow Connector 13"/>
          <p:cNvCxnSpPr/>
          <p:nvPr/>
        </p:nvCxnSpPr>
        <p:spPr>
          <a:xfrm flipH="1">
            <a:off x="1064520" y="2211480"/>
            <a:ext cx="3960" cy="1219680"/>
          </a:xfrm>
          <a:prstGeom prst="straightConnector1">
            <a:avLst/>
          </a:prstGeom>
          <a:ln w="47880">
            <a:solidFill>
              <a:srgbClr val="f0ad00"/>
            </a:solidFill>
            <a:miter/>
            <a:tailEnd len="med" type="arrow" w="med"/>
          </a:ln>
        </p:spPr>
      </p:cxnSp>
      <p:cxnSp>
        <p:nvCxnSpPr>
          <p:cNvPr id="373" name="Straight Arrow Connector 15"/>
          <p:cNvCxnSpPr/>
          <p:nvPr/>
        </p:nvCxnSpPr>
        <p:spPr>
          <a:xfrm flipH="1">
            <a:off x="1521720" y="2592360"/>
            <a:ext cx="3960" cy="838800"/>
          </a:xfrm>
          <a:prstGeom prst="straightConnector1">
            <a:avLst/>
          </a:prstGeom>
          <a:ln w="47880">
            <a:solidFill>
              <a:srgbClr val="f0ad00"/>
            </a:solidFill>
            <a:miter/>
            <a:tailEnd len="med" type="arrow" w="med"/>
          </a:ln>
        </p:spPr>
      </p:cxnSp>
      <p:cxnSp>
        <p:nvCxnSpPr>
          <p:cNvPr id="374" name="Straight Arrow Connector 17"/>
          <p:cNvCxnSpPr/>
          <p:nvPr/>
        </p:nvCxnSpPr>
        <p:spPr>
          <a:xfrm flipH="1">
            <a:off x="2285280" y="2361960"/>
            <a:ext cx="1220040" cy="1067400"/>
          </a:xfrm>
          <a:prstGeom prst="straightConnector1">
            <a:avLst/>
          </a:prstGeom>
          <a:ln w="47880">
            <a:solidFill>
              <a:srgbClr val="f0ad00"/>
            </a:solidFill>
            <a:miter/>
            <a:tailEnd len="med" type="arrow" w="med"/>
          </a:ln>
        </p:spPr>
      </p:cxnSp>
      <p:cxnSp>
        <p:nvCxnSpPr>
          <p:cNvPr id="375" name="Straight Arrow Connector 18"/>
          <p:cNvCxnSpPr/>
          <p:nvPr/>
        </p:nvCxnSpPr>
        <p:spPr>
          <a:xfrm flipH="1">
            <a:off x="3199680" y="2666520"/>
            <a:ext cx="229320" cy="762840"/>
          </a:xfrm>
          <a:prstGeom prst="straightConnector1">
            <a:avLst/>
          </a:prstGeom>
          <a:ln w="47880">
            <a:solidFill>
              <a:srgbClr val="f0ad00"/>
            </a:solidFill>
            <a:miter/>
            <a:tailEnd len="med" type="arrow" w="med"/>
          </a:ln>
        </p:spPr>
      </p:cxnSp>
      <p:cxnSp>
        <p:nvCxnSpPr>
          <p:cNvPr id="376" name="Straight Arrow Connector 23"/>
          <p:cNvCxnSpPr/>
          <p:nvPr/>
        </p:nvCxnSpPr>
        <p:spPr>
          <a:xfrm flipH="1">
            <a:off x="3962160" y="2971800"/>
            <a:ext cx="2160" cy="457920"/>
          </a:xfrm>
          <a:prstGeom prst="straightConnector1">
            <a:avLst/>
          </a:prstGeom>
          <a:ln w="47880">
            <a:solidFill>
              <a:srgbClr val="f0ad00"/>
            </a:solidFill>
            <a:miter/>
            <a:tailEnd len="med" type="arrow" w="med"/>
          </a:ln>
        </p:spPr>
      </p:cxnSp>
      <p:cxnSp>
        <p:nvCxnSpPr>
          <p:cNvPr id="377" name="Straight Arrow Connector 27"/>
          <p:cNvCxnSpPr/>
          <p:nvPr/>
        </p:nvCxnSpPr>
        <p:spPr>
          <a:xfrm flipH="1">
            <a:off x="4494960" y="2590920"/>
            <a:ext cx="1677240" cy="838800"/>
          </a:xfrm>
          <a:prstGeom prst="straightConnector1">
            <a:avLst/>
          </a:prstGeom>
          <a:ln w="47880">
            <a:solidFill>
              <a:srgbClr val="f0ad00"/>
            </a:solidFill>
            <a:miter/>
            <a:tailEnd len="med" type="arrow" w="med"/>
          </a:ln>
        </p:spPr>
      </p:cxnSp>
      <p:cxnSp>
        <p:nvCxnSpPr>
          <p:cNvPr id="378" name="Straight Arrow Connector 28"/>
          <p:cNvCxnSpPr/>
          <p:nvPr/>
        </p:nvCxnSpPr>
        <p:spPr>
          <a:xfrm flipH="1">
            <a:off x="5028480" y="2971440"/>
            <a:ext cx="1981800" cy="610200"/>
          </a:xfrm>
          <a:prstGeom prst="straightConnector1">
            <a:avLst/>
          </a:prstGeom>
          <a:ln w="47880">
            <a:solidFill>
              <a:srgbClr val="f0ad00"/>
            </a:solidFill>
            <a:miter/>
            <a:tailEnd len="med" type="arrow" w="med"/>
          </a:ln>
        </p:spPr>
      </p:cxnSp>
      <p:cxnSp>
        <p:nvCxnSpPr>
          <p:cNvPr id="379" name="Straight Arrow Connector 31"/>
          <p:cNvCxnSpPr/>
          <p:nvPr/>
        </p:nvCxnSpPr>
        <p:spPr>
          <a:xfrm flipH="1" flipV="1">
            <a:off x="1066320" y="4571640"/>
            <a:ext cx="610560" cy="534240"/>
          </a:xfrm>
          <a:prstGeom prst="straightConnector1">
            <a:avLst/>
          </a:prstGeom>
          <a:ln w="47880">
            <a:solidFill>
              <a:srgbClr val="f0ad00"/>
            </a:solidFill>
            <a:miter/>
            <a:tailEnd len="med" type="arrow" w="med"/>
          </a:ln>
        </p:spPr>
      </p:cxnSp>
      <p:sp>
        <p:nvSpPr>
          <p:cNvPr id="380" name="TextBox 32"/>
          <p:cNvSpPr/>
          <p:nvPr/>
        </p:nvSpPr>
        <p:spPr>
          <a:xfrm>
            <a:off x="3581280" y="4495680"/>
            <a:ext cx="4419720" cy="1191240"/>
          </a:xfrm>
          <a:prstGeom prst="rect">
            <a:avLst/>
          </a:prstGeom>
          <a:gradFill rotWithShape="0">
            <a:gsLst>
              <a:gs pos="0">
                <a:srgbClr val="fff5da"/>
              </a:gs>
              <a:gs pos="100000">
                <a:srgbClr val="ffde7f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484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Arial"/>
              </a:rPr>
              <a:t>The result of this statement is 10 copies of the stuff to be rep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21"/>
          <p:cNvSpPr/>
          <p:nvPr/>
        </p:nvSpPr>
        <p:spPr>
          <a:xfrm>
            <a:off x="3511080" y="5791320"/>
            <a:ext cx="1704600" cy="52056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Arial"/>
              </a:rPr>
              <a:t>Just Do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2T16:15:23Z</dcterms:created>
  <dc:creator>Information School</dc:creator>
  <dc:description/>
  <dc:language>en-US</dc:language>
  <cp:lastModifiedBy>Larry Snyder</cp:lastModifiedBy>
  <dcterms:modified xsi:type="dcterms:W3CDTF">2014-05-13T21:15:16Z</dcterms:modified>
  <cp:revision>112</cp:revision>
  <dc:subject/>
  <dc:title>Welcome to FIT100</dc:title>
</cp:coreProperties>
</file>