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719-A872-4F44-ABF0-DC544B80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ADA9-0B7B-4E05-8310-51EA7549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04CB-C33A-4DC6-A884-E4744805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ED23-46D1-4067-9B2F-EC4803CD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B118-4D77-4368-ABD8-18164F5F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3CDF-A832-43E2-88B1-0454987B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D3BD-7DE0-49E3-AAE5-88CD36FC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B832-EB3E-4FD2-B34A-9F55E9FE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0FFA-5BF0-45C3-B45E-0F75FEEC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16BE-EAA6-41FC-986C-A83A062E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0F25-2DC3-4B61-87F6-BCE53048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C522-35F2-4547-A364-26285602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6015-3BC5-40A1-B562-48008A8F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61D0-0C28-41B8-B7AC-BE3BA48F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1264-87CA-438D-AD52-455E51E9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36BD-DBF4-47E2-BF7E-07F90210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D779-0637-450E-A6B9-30B053B3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279AE-4064-4C90-B48C-58D37E59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7677E-56AA-4E4C-ABF5-2294A25C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03675-0FFC-42F2-96FC-5728AE1B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A87B0-EC62-48DF-A14A-3264BCD4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8D2E5-ECC9-44C1-898F-82ACD169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DA6E-A156-4CDB-A1C4-42F4AA17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0D356-CB28-4A0D-AF14-6684D817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C7BBB-D693-40B0-8915-47ADF6FA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89CF0-01A9-49A1-BE23-9C58201A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94315-DEC0-425D-9F95-96CE38E5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EA827-1017-4736-83CE-C7BCAC73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2A749-F578-4213-A910-4C1D107E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E4C07-53B6-4D9B-A686-E4190E00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0F512-F1DF-4D1C-841A-6ABB985C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81E86-3AEF-42B3-8FB0-FA35FBE0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C1B3D-41A2-4F1D-8E1B-ED7480DF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D6A7-8059-4B65-9289-F4A37E98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E4B73-AA71-4DBF-9C74-2B14EF62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7EE98-6873-496F-8F87-3014E96A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AFE37-A198-4FD2-A28F-EF457D99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88D8D-B20C-44EC-BB87-E50E6AB1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6D42F-621C-42E3-9A20-7808701E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AAD7A-5672-47CF-BA1D-751C2D41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5E9E0-01CB-4287-9BA8-5CA4A03F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F2C35-E029-44EF-B583-875C255E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B3ABB-C9DE-49B4-924B-393BE88B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49B53-0605-49A7-BA5F-F8E8E42F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2D7-3759-4184-AE78-A02CA71A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2DFA9-BA8D-496A-84E1-079D01B1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B8B38-2502-4304-839D-22FA60A2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8115C-3B05-4457-B518-B40B25D8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D2A40-8A7D-45CE-B318-3128B8B2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D1498-1A0D-45E8-A90F-707338C5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55C00-86BF-4729-9AB6-494F6A18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980B9-2CB9-4204-842C-C45AAF61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8FA6E-24D4-41CD-8A6E-9737BC26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96D80-86C9-40A1-8C1C-89F8DDDB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2568A-66D6-4E67-8422-73424FE3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12D-415A-473A-B3B9-FD30711D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94BF6-8EAA-41B6-87B0-8F54523A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F74FD-9A55-4145-BE13-F674AD9C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E90CD-73E7-4154-BCB9-32E71DF0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FE239-EA0D-4484-A6D2-B4057164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E881D-4D76-47A0-AF0E-94E4E6CA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1345A-46BF-4EDC-8F09-3C8FE8C4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4E8E2-61DC-4FEB-AAD5-3DD2DB01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FB517-384B-472E-AF7B-FC511DAF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13A0E-75A3-4B80-AE13-FFCCFF9A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26D85-2EA3-4740-8549-014598C3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D447-2FF5-48FD-9830-5DA2DD65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33F41-FE0C-4607-BF36-45966608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CD03E-37B9-42A5-9CC4-5E2C66E0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52FBC-9D35-4196-AEAC-63535FB3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AABA4-6CA0-4615-866A-956B9E04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05C91-A0BD-429B-AFDF-30A5EAF5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A2EF2-4BCC-49E8-9B49-72741575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C6D21-C37A-477A-977E-8AF70BA9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89C35-C142-47A9-B301-D3FF9BAA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728EB-747B-453C-933E-DC6824CA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C988A-5752-4063-83D0-9AB220CA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CFAB-5698-426B-A49E-713605FC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D103E-5AD1-4254-927F-68C3A59C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EFCF6-02E9-4653-A19B-30497F47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CFE62-48C9-48CA-B5CD-9612F31A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25B02-E5C6-41BD-9F4D-1659EAE2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875D6-3E74-44D9-9805-D8928011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B38-74CD-48EE-8B01-EE84AC19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AD28-DC0F-4481-AAD9-F756880D5BC0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BE14-65DE-4982-A56B-E2F38B7203BF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AD59-5568-4A53-9F3A-A5EB7DF46AFD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5121-CEB3-460F-9B7C-F310597EC47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6F14-6368-4307-AED8-489C78062BBA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7B0A-0B67-4372-A240-FDBEF514263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2C15-EEDB-4821-9DE8-56B1FAA70B84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1816-E3F7-4EDA-AB19-E11CE77C8271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A764-B5F5-4F7A-B5E5-EEB49AAF53D5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20BC-53C5-4706-8A52-173EE536FDFC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BC1B-42E1-4620-8F10-60112962C7DF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bcbcbc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bcbcbc"/>
                </a:solidFill>
                <a:latin typeface="Times New Roman"/>
                <a:ea typeface="Arial"/>
              </a:rPr>
              <a:t>© 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4C94-B233-4A2D-B23F-115FF1490D89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C40F-B93F-4492-9D0F-65C7098E189D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C51B-935E-4CD0-8843-CCD4A97DAA3C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609480" y="2359080"/>
            <a:ext cx="8004240" cy="11462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Lawrence Snyd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University of Washington, Seatt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967560" y="6172200"/>
            <a:ext cx="160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Arial"/>
              </a:rPr>
              <a:t>© Lawrence Snyd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eck i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ut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04B7-5D5C-4361-8DCE-30207129B316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4ED9-435B-473C-9BE1-0598D415AE68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6" descr="mouse2.png"/>
          <p:cNvPicPr/>
          <p:nvPr/>
        </p:nvPicPr>
        <p:blipFill>
          <a:blip r:embed="rId2"/>
          <a:stretch/>
        </p:blipFill>
        <p:spPr>
          <a:xfrm>
            <a:off x="2590920" y="1219320"/>
            <a:ext cx="6350040" cy="5308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mouse0.png"/>
          <p:cNvPicPr/>
          <p:nvPr/>
        </p:nvPicPr>
        <p:blipFill>
          <a:blip r:embed="rId3"/>
          <a:stretch/>
        </p:blipFill>
        <p:spPr>
          <a:xfrm>
            <a:off x="380880" y="3962520"/>
            <a:ext cx="2076480" cy="18288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8"/>
          <p:cNvSpPr/>
          <p:nvPr/>
        </p:nvSpPr>
        <p:spPr>
          <a:xfrm>
            <a:off x="317880" y="350532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se(0,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(0,200,20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asks statements usually give the goal, plus a series of additional properties or conditions that the solution should ha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ke a function to draw a row of eight mice so that their ears overlap and all but one are the same given color; the odd one is to be red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to do: Break the task down into subtasks that are easy to d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236A-DA3D-4D19-9B94-4E2BE94810D4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0FEF-D5EE-4A8A-A1C8-15A45A853D33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53316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ke a function” means we have to outline the structu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raw 8 mice so thei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ars overlap” mean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42240" indent="-240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e need x, y parameters for the position of the firs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2240" indent="-240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e draw a second one and try to adjust the x-coordinate to align their ea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2240" indent="-240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n we draw the rest using the same align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 but one are the same given color” means we need a parameter for the given col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ne is red” means to pick one; color it r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A76D-FFCC-4D60-A0A6-C596244B968C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4EC1-067C-44C8-AF8B-203CEC1AA93A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5269680" y="1676520"/>
            <a:ext cx="223812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row(  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684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 of those steps produce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7A2E-8A56-4D59-80AD-18278596ABA7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1F46-10AB-40E8-BF58-D4ADAB17B53E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838080" y="1676520"/>
            <a:ext cx="6553440" cy="3751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row (int xpos int ypos, color c 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(xpos+0,    ypos,  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(xpos+50,   ypos, 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(xpos+100, ypos, color(255,0,0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(xpos+150, ypos, 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(xpos+200, ypos, 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(xpos+250, ypos, 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(xpos+300, ypos, 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(xpos+350, ypos, 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7" descr="mouserow2.tiff"/>
          <p:cNvPicPr/>
          <p:nvPr/>
        </p:nvPicPr>
        <p:blipFill>
          <a:blip r:embed="rId2"/>
          <a:srcRect l="0" t="0" r="41792" b="86435"/>
          <a:stretch/>
        </p:blipFill>
        <p:spPr>
          <a:xfrm>
            <a:off x="2590920" y="5029200"/>
            <a:ext cx="6400800" cy="1533600"/>
          </a:xfrm>
          <a:prstGeom prst="rect">
            <a:avLst/>
          </a:prstGeom>
          <a:ln w="0">
            <a:noFill/>
          </a:ln>
        </p:spPr>
      </p:pic>
      <p:sp>
        <p:nvSpPr>
          <p:cNvPr id="401" name="TextBox 8"/>
          <p:cNvSpPr/>
          <p:nvPr/>
        </p:nvSpPr>
        <p:spPr>
          <a:xfrm>
            <a:off x="4440960" y="3049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ow(0, 0, color(100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ke a swarm of mice by drawing six rows each of a different color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task leaves many things unspecified, and in that case we will make a sensible decision about what to d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1D23-DC45-4CCF-BA8D-2AFB66A2183A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5373-74E3-4E1C-A7F7-A67A5806277F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ke a swarm of mice” means we need another function, because the concept of swarm is different form the row we have.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Remember – functions are abstractions, each represents a different concept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rting position of rows is not stated, so like always, we add parameters for xpos, yp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ow separation not stated, so we just pick i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ors not stated, so we just pick so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E39A-19FF-4702-80C4-487DF436B1BB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D2A2-6F43-4A67-AE3F-C4CA2B36CD99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6"/>
          <p:cNvSpPr/>
          <p:nvPr/>
        </p:nvSpPr>
        <p:spPr>
          <a:xfrm>
            <a:off x="6033600" y="3276720"/>
            <a:ext cx="251244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warm(  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E37B-9962-48A7-9634-31B9930FFD23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E911-D2CE-4383-BEB9-D114A9D11975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"/>
          <p:cNvSpPr/>
          <p:nvPr/>
        </p:nvSpPr>
        <p:spPr>
          <a:xfrm>
            <a:off x="723960" y="1600200"/>
            <a:ext cx="8033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f5b1b"/>
                </a:solidFill>
                <a:latin typeface="Arial"/>
              </a:rPr>
              <a:t>void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warm (</a:t>
            </a:r>
            <a:r>
              <a:rPr b="0" lang="pl-PL" sz="2800" spc="-1" strike="noStrike">
                <a:solidFill>
                  <a:srgbClr val="cf5b1b"/>
                </a:solidFill>
                <a:latin typeface="Arial"/>
              </a:rPr>
              <a:t>int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xpos, </a:t>
            </a:r>
            <a:r>
              <a:rPr b="0" lang="pl-PL" sz="2800" spc="-1" strike="noStrike">
                <a:solidFill>
                  <a:srgbClr val="cf5b1b"/>
                </a:solidFill>
                <a:latin typeface="Arial"/>
              </a:rPr>
              <a:t>int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ypos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ow(xpos, ypos+0,     </a:t>
            </a:r>
            <a:r>
              <a:rPr b="0" lang="pl-PL" sz="2800" spc="-1" strike="noStrike">
                <a:solidFill>
                  <a:srgbClr val="cf5b1b"/>
                </a:solidFill>
                <a:latin typeface="Arial"/>
              </a:rPr>
              <a:t>col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100,100,100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ow(xpos, ypos+100, </a:t>
            </a:r>
            <a:r>
              <a:rPr b="0" lang="pl-PL" sz="2800" spc="-1" strike="noStrike">
                <a:solidFill>
                  <a:srgbClr val="cf5b1b"/>
                </a:solidFill>
                <a:latin typeface="Arial"/>
              </a:rPr>
              <a:t>col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255,0,255));     // p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ow(xpos, ypos+200, </a:t>
            </a:r>
            <a:r>
              <a:rPr b="0" lang="pl-PL" sz="2800" spc="-1" strike="noStrike">
                <a:solidFill>
                  <a:srgbClr val="cf5b1b"/>
                </a:solidFill>
                <a:latin typeface="Arial"/>
              </a:rPr>
              <a:t>col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125,125,125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ow(xpos, ypos+300, </a:t>
            </a:r>
            <a:r>
              <a:rPr b="0" lang="pl-PL" sz="2800" spc="-1" strike="noStrike">
                <a:solidFill>
                  <a:srgbClr val="cf5b1b"/>
                </a:solidFill>
                <a:latin typeface="Arial"/>
              </a:rPr>
              <a:t>col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150,150,150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ow(xpos, ypos+400, </a:t>
            </a:r>
            <a:r>
              <a:rPr b="0" lang="pl-PL" sz="2800" spc="-1" strike="noStrike">
                <a:solidFill>
                  <a:srgbClr val="cf5b1b"/>
                </a:solidFill>
                <a:latin typeface="Arial"/>
              </a:rPr>
              <a:t>col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175,175,175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ow(xpos, ypos+500, </a:t>
            </a:r>
            <a:r>
              <a:rPr b="0" lang="pl-PL" sz="2800" spc="-1" strike="noStrike">
                <a:solidFill>
                  <a:srgbClr val="cf5b1b"/>
                </a:solidFill>
                <a:latin typeface="Arial"/>
              </a:rPr>
              <a:t>col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200,200,200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2B2C-6F00-4E0D-9F87-C49C21126200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28BC-7CAF-4249-B2B2-D044960D77D9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6" descr="miceswarm.tiff"/>
          <p:cNvPicPr/>
          <p:nvPr/>
        </p:nvPicPr>
        <p:blipFill>
          <a:blip r:embed="rId2"/>
          <a:srcRect l="0" t="0" r="42133" b="25709"/>
          <a:stretch/>
        </p:blipFill>
        <p:spPr>
          <a:xfrm>
            <a:off x="2209680" y="1143000"/>
            <a:ext cx="3862440" cy="50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worked through an exercise similar to Assignment 6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s we worked through it, we studied how to solve these kinds of proble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e read carefully what was requir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we had a “largish” task, we broke it down to several “smallish” tasks we could easily solv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the problem didn’t specify what to do, we just make a sensible decision, which often meant adding a parameter so we change it if need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2662-561D-43AD-B107-430643F0DFAD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BECD-3952-4F2D-82A2-3E090227C4DB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saw functions in Lightbot and in Moonwalk … how do they look in Processing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call these components of the function declar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373C-CDC2-4CA5-A605-D09B2C951F1E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D3C8-545B-46CB-B1EA-DE02DC4C57D8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6"/>
          <p:cNvSpPr/>
          <p:nvPr/>
        </p:nvSpPr>
        <p:spPr>
          <a:xfrm>
            <a:off x="3124080" y="464832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( 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body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7"/>
          <p:cNvSpPr/>
          <p:nvPr/>
        </p:nvSpPr>
        <p:spPr>
          <a:xfrm>
            <a:off x="281880" y="3809880"/>
            <a:ext cx="29116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’s return type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‘void’ if n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8"/>
          <p:cNvSpPr/>
          <p:nvPr/>
        </p:nvSpPr>
        <p:spPr>
          <a:xfrm>
            <a:off x="3276720" y="3200400"/>
            <a:ext cx="281916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starts will letter, uses letters, numbers underscore; doesn’t col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Straight Arrow Connector 10"/>
          <p:cNvCxnSpPr/>
          <p:nvPr/>
        </p:nvCxnSpPr>
        <p:spPr>
          <a:xfrm flipH="1">
            <a:off x="6019200" y="3962520"/>
            <a:ext cx="686520" cy="838800"/>
          </a:xfrm>
          <a:prstGeom prst="straightConnector1">
            <a:avLst/>
          </a:prstGeom>
          <a:ln w="47880">
            <a:solidFill>
              <a:srgbClr val="c64847"/>
            </a:solidFill>
            <a:miter/>
            <a:tailEnd len="med" type="arrow" w="med"/>
          </a:ln>
        </p:spPr>
      </p:cxnSp>
      <p:cxnSp>
        <p:nvCxnSpPr>
          <p:cNvPr id="315" name="Straight Arrow Connector 12"/>
          <p:cNvCxnSpPr/>
          <p:nvPr/>
        </p:nvCxnSpPr>
        <p:spPr>
          <a:xfrm flipH="1">
            <a:off x="6323760" y="3962520"/>
            <a:ext cx="686520" cy="838800"/>
          </a:xfrm>
          <a:prstGeom prst="straightConnector1">
            <a:avLst/>
          </a:prstGeom>
          <a:ln w="47880">
            <a:solidFill>
              <a:srgbClr val="c64847"/>
            </a:solidFill>
            <a:miter/>
            <a:tailEnd len="med" type="arrow" w="med"/>
          </a:ln>
        </p:spPr>
      </p:cxnSp>
      <p:sp>
        <p:nvSpPr>
          <p:cNvPr id="316" name="TextBox 13"/>
          <p:cNvSpPr/>
          <p:nvPr/>
        </p:nvSpPr>
        <p:spPr>
          <a:xfrm>
            <a:off x="304920" y="4800600"/>
            <a:ext cx="28191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implements the function … normal Processing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15"/>
          <p:cNvCxnSpPr/>
          <p:nvPr/>
        </p:nvCxnSpPr>
        <p:spPr>
          <a:xfrm flipH="1">
            <a:off x="6933960" y="4952520"/>
            <a:ext cx="1296000" cy="1080"/>
          </a:xfrm>
          <a:prstGeom prst="straightConnector1">
            <a:avLst/>
          </a:prstGeom>
          <a:ln w="47880">
            <a:solidFill>
              <a:srgbClr val="60b5cc"/>
            </a:solidFill>
            <a:miter/>
            <a:tailEnd len="med" type="arrow" w="med"/>
          </a:ln>
        </p:spPr>
      </p:cxnSp>
      <p:cxnSp>
        <p:nvCxnSpPr>
          <p:cNvPr id="318" name="Straight Arrow Connector 17"/>
          <p:cNvCxnSpPr/>
          <p:nvPr/>
        </p:nvCxnSpPr>
        <p:spPr>
          <a:xfrm flipH="1">
            <a:off x="3504600" y="5866920"/>
            <a:ext cx="4725000" cy="1080"/>
          </a:xfrm>
          <a:prstGeom prst="straightConnector1">
            <a:avLst/>
          </a:prstGeom>
          <a:ln w="47880">
            <a:solidFill>
              <a:srgbClr val="60b5cc"/>
            </a:solidFill>
            <a:miter/>
            <a:tailEnd len="med" type="arrow" w="med"/>
          </a:ln>
        </p:spPr>
      </p:cxnSp>
      <p:sp>
        <p:nvSpPr>
          <p:cNvPr id="319" name="TextBox 22"/>
          <p:cNvSpPr/>
          <p:nvPr/>
        </p:nvSpPr>
        <p:spPr>
          <a:xfrm>
            <a:off x="6324480" y="3352680"/>
            <a:ext cx="2057400" cy="1313640"/>
          </a:xfrm>
          <a:prstGeom prst="rect">
            <a:avLst/>
          </a:prstGeom>
          <a:solidFill>
            <a:srgbClr val="e66c7d"/>
          </a:solidFill>
          <a:ln w="47880">
            <a:solidFill>
              <a:srgbClr val="a94d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quired; contain parameters if 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4"/>
          <p:cNvSpPr/>
          <p:nvPr/>
        </p:nvSpPr>
        <p:spPr>
          <a:xfrm>
            <a:off x="6858000" y="5105520"/>
            <a:ext cx="2133720" cy="1008720"/>
          </a:xfrm>
          <a:prstGeom prst="rect">
            <a:avLst/>
          </a:prstGeom>
          <a:solidFill>
            <a:srgbClr val="60b5cc"/>
          </a:solidFill>
          <a:ln w="48600">
            <a:solidFill>
              <a:srgbClr val="ffffff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quired; contain function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Straight Arrow Connector 28"/>
          <p:cNvCxnSpPr/>
          <p:nvPr/>
        </p:nvCxnSpPr>
        <p:spPr>
          <a:xfrm>
            <a:off x="2895480" y="4419720"/>
            <a:ext cx="457920" cy="38160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22" name="Straight Arrow Connector 29"/>
          <p:cNvCxnSpPr/>
          <p:nvPr/>
        </p:nvCxnSpPr>
        <p:spPr>
          <a:xfrm>
            <a:off x="2971440" y="5333760"/>
            <a:ext cx="686520" cy="108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23" name="Straight Arrow Connector 33"/>
          <p:cNvCxnSpPr/>
          <p:nvPr/>
        </p:nvCxnSpPr>
        <p:spPr>
          <a:xfrm>
            <a:off x="4952520" y="4343400"/>
            <a:ext cx="1080" cy="45792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nd the &lt;type&gt;, &lt;name&gt;, parameter parens, the braces enclosing the body, and the bod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7E95-CB3E-45B6-AEC0-3F426CA98918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85CA-E02B-42FC-B4CE-8D4EA4DA740E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1852920" y="2590920"/>
            <a:ext cx="456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8651"/>
                </a:solidFill>
                <a:latin typeface="Courier New"/>
                <a:ea typeface="Courier New"/>
              </a:rPr>
              <a:t>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teCornerBox( 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(255,255,25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t(0, 0, 5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ameters are the information that go inside of the parenthe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r examp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tic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datatype of the parameter must be give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rameters are separated by comma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rameter names like other names – no conflic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0277-DD64-4D8E-B964-43103D37C4AF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DA58-8E5F-4E4B-A823-A3DD32EEA9D4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6"/>
          <p:cNvSpPr/>
          <p:nvPr/>
        </p:nvSpPr>
        <p:spPr>
          <a:xfrm>
            <a:off x="952560" y="2743200"/>
            <a:ext cx="749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8651"/>
                </a:solidFill>
                <a:latin typeface="Courier New"/>
                <a:ea typeface="Courier New"/>
              </a:rPr>
              <a:t>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te5by5Box( </a:t>
            </a:r>
            <a:r>
              <a:rPr b="1" lang="en-US" sz="2400" spc="-1" strike="noStrike">
                <a:solidFill>
                  <a:srgbClr val="e88651"/>
                </a:solidFill>
                <a:latin typeface="Courier New"/>
                <a:ea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Pos, </a:t>
            </a:r>
            <a:r>
              <a:rPr b="1" lang="en-US" sz="2400" spc="-1" strike="noStrike">
                <a:solidFill>
                  <a:srgbClr val="e88651"/>
                </a:solidFill>
                <a:latin typeface="Courier New"/>
                <a:ea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Pos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(255,255,25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t(xPos, yPos, 5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304920" y="9903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ameters give the data for the function to operate on … then to do the same operation on different data just change the values they ge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5b1b"/>
                </a:solidFill>
                <a:latin typeface="Courier New"/>
                <a:ea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le(</a:t>
            </a:r>
            <a:r>
              <a:rPr b="1" lang="en-US" sz="2400" spc="-1" strike="noStrike">
                <a:solidFill>
                  <a:srgbClr val="cf5b1b"/>
                </a:solidFill>
                <a:latin typeface="Courier New"/>
                <a:ea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Pos, </a:t>
            </a:r>
            <a:r>
              <a:rPr b="1" lang="en-US" sz="2400" spc="-1" strike="noStrike">
                <a:solidFill>
                  <a:srgbClr val="cf5b1b"/>
                </a:solidFill>
                <a:latin typeface="Courier New"/>
                <a:ea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Pos, </a:t>
            </a:r>
            <a:r>
              <a:rPr b="1" lang="en-US" sz="2400" spc="-1" strike="noStrike">
                <a:solidFill>
                  <a:srgbClr val="cf5b1b"/>
                </a:solidFill>
                <a:latin typeface="Courier New"/>
                <a:ea typeface="Courier New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nto) {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cf5b1b"/>
                </a:solidFill>
                <a:latin typeface="Courier New"/>
                <a:ea typeface="Courier New"/>
              </a:rPr>
              <a:t>fil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tinto )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set box colo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cf5b1b"/>
                </a:solidFill>
                <a:latin typeface="Courier New"/>
                <a:ea typeface="Courier New"/>
              </a:rPr>
              <a:t>r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Pos, yPos, 5, 5)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draw small box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Courier New"/>
              </a:rPr>
              <a:t>Notice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Courier New"/>
              </a:rPr>
              <a:t>(a)  We always give a name to the data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P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Courier New"/>
              </a:rPr>
              <a:t>(b)  We always say what type the data is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Courier New"/>
              </a:rPr>
              <a:t>(c)  The order, which we choose, will always have to be followe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3D20-F9E4-45FD-AD90-3CCA37CF2088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B49C-DB49-4CCB-B5A7-739B1DBA1CC4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6"/>
          <p:cNvSpPr/>
          <p:nvPr/>
        </p:nvSpPr>
        <p:spPr>
          <a:xfrm>
            <a:off x="422280" y="2743200"/>
            <a:ext cx="80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to the function: x position, y position and color of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Straight Arrow Connector 8"/>
          <p:cNvCxnSpPr/>
          <p:nvPr/>
        </p:nvCxnSpPr>
        <p:spPr>
          <a:xfrm flipH="1">
            <a:off x="5257440" y="3200400"/>
            <a:ext cx="381600" cy="45792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43" name="Straight Arrow Connector 12"/>
          <p:cNvCxnSpPr/>
          <p:nvPr/>
        </p:nvCxnSpPr>
        <p:spPr>
          <a:xfrm flipH="1">
            <a:off x="3428640" y="3200400"/>
            <a:ext cx="381600" cy="45792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44" name="Straight Arrow Connector 13"/>
          <p:cNvCxnSpPr/>
          <p:nvPr/>
        </p:nvCxnSpPr>
        <p:spPr>
          <a:xfrm>
            <a:off x="7162920" y="3200400"/>
            <a:ext cx="381600" cy="45792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380520" y="1066680"/>
            <a:ext cx="861084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riting out how the function works is called its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rite it just on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use the function, we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call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it by giving the data to be used when it runs … use it repeatedl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ile(10, 20, </a:t>
            </a:r>
            <a:r>
              <a:rPr b="1" lang="en-US" sz="2400" spc="-1" strike="noStrike">
                <a:solidFill>
                  <a:srgbClr val="cf5b1b"/>
                </a:solidFill>
                <a:latin typeface="Courier New"/>
                <a:ea typeface="Courier New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255,0,0)); //red tile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ile(30, 30, </a:t>
            </a:r>
            <a:r>
              <a:rPr b="1" lang="en-US" sz="2400" spc="-1" strike="noStrike">
                <a:solidFill>
                  <a:srgbClr val="cf5b1b"/>
                </a:solidFill>
                <a:latin typeface="Courier New"/>
                <a:ea typeface="Courier New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0,0,255)); //blue til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Courier New"/>
              </a:rPr>
              <a:t>Notic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Courier New"/>
              </a:rPr>
              <a:t>(a) The data we give are called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Courier New"/>
              </a:rPr>
              <a:t>argum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Courier New"/>
              </a:rPr>
              <a:t>(b) Only use values of the right typ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Courier New"/>
              </a:rPr>
              <a:t>(c) Order of arguments must mat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Courier New"/>
              </a:rPr>
              <a:t>order of the parameters they go wit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01FE-71B8-49D5-A85F-00AF1CECAE13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010C-55A0-4A0E-B7D5-80FFC1C6E5B2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6" descr="Screen Shot 2014-05-13 at 11.48.01 AM.png"/>
          <p:cNvPicPr/>
          <p:nvPr/>
        </p:nvPicPr>
        <p:blipFill>
          <a:blip r:embed="rId2"/>
          <a:srcRect l="23228" t="13476" r="23006" b="29411"/>
          <a:stretch/>
        </p:blipFill>
        <p:spPr>
          <a:xfrm>
            <a:off x="6705720" y="3962520"/>
            <a:ext cx="2251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fine functions just on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e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for all values that will chan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ll function when needed &amp; give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argume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call is as if values used directl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362D-A11F-4100-B18C-3605AECF1664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8FA5-EFAD-40A1-B772-FE396C3E6125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6"/>
          <p:cNvSpPr/>
          <p:nvPr/>
        </p:nvSpPr>
        <p:spPr>
          <a:xfrm>
            <a:off x="602280" y="1523880"/>
            <a:ext cx="706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5b1b"/>
                </a:solidFill>
                <a:latin typeface="Courier New"/>
                <a:ea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ile(</a:t>
            </a:r>
            <a:r>
              <a:rPr b="1" lang="en-US" sz="1800" spc="-1" strike="noStrike">
                <a:solidFill>
                  <a:srgbClr val="cf5b1b"/>
                </a:solidFill>
                <a:latin typeface="Courier New"/>
                <a:ea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Pos, </a:t>
            </a:r>
            <a:r>
              <a:rPr b="1" lang="en-US" sz="1800" spc="-1" strike="noStrike">
                <a:solidFill>
                  <a:srgbClr val="cf5b1b"/>
                </a:solidFill>
                <a:latin typeface="Courier New"/>
                <a:ea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Pos, </a:t>
            </a:r>
            <a:r>
              <a:rPr b="1" lang="en-US" sz="1800" spc="-1" strike="noStrike">
                <a:solidFill>
                  <a:srgbClr val="cf5b1b"/>
                </a:solidFill>
                <a:latin typeface="Courier New"/>
                <a:ea typeface="Courier New"/>
              </a:rPr>
              <a:t>col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int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cf5b1b"/>
                </a:solidFill>
                <a:latin typeface="Courier New"/>
                <a:ea typeface="Courier New"/>
              </a:rPr>
              <a:t>fi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 tinto 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set box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cf5b1b"/>
                </a:solidFill>
                <a:latin typeface="Courier New"/>
                <a:ea typeface="Courier New"/>
              </a:rPr>
              <a:t>r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xPos, yPos, 5, 5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draw small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7"/>
          <p:cNvSpPr/>
          <p:nvPr/>
        </p:nvSpPr>
        <p:spPr>
          <a:xfrm>
            <a:off x="733320" y="3505320"/>
            <a:ext cx="592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le(10, 20, </a:t>
            </a:r>
            <a:r>
              <a:rPr b="1" lang="en-US" sz="1800" spc="-1" strike="noStrike">
                <a:solidFill>
                  <a:srgbClr val="cf5b1b"/>
                </a:solidFill>
                <a:latin typeface="Courier New"/>
                <a:ea typeface="Courier New"/>
              </a:rPr>
              <a:t>col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255,0,0)); //red t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le(30, 30, </a:t>
            </a:r>
            <a:r>
              <a:rPr b="1" lang="en-US" sz="1800" spc="-1" strike="noStrike">
                <a:solidFill>
                  <a:srgbClr val="cf5b1b"/>
                </a:solidFill>
                <a:latin typeface="Courier New"/>
                <a:ea typeface="Courier New"/>
              </a:rPr>
              <a:t>col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0,0,255)); //blue 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8" descr="Screen Shot 2014-05-13 at 11.48.01 AM.png"/>
          <p:cNvPicPr/>
          <p:nvPr/>
        </p:nvPicPr>
        <p:blipFill>
          <a:blip r:embed="rId2"/>
          <a:srcRect l="23228" t="13476" r="23006" b="29411"/>
          <a:stretch/>
        </p:blipFill>
        <p:spPr>
          <a:xfrm>
            <a:off x="7315200" y="3505320"/>
            <a:ext cx="1461960" cy="1693800"/>
          </a:xfrm>
          <a:prstGeom prst="rect">
            <a:avLst/>
          </a:prstGeom>
          <a:ln w="0">
            <a:noFill/>
          </a:ln>
        </p:spPr>
      </p:pic>
      <p:sp>
        <p:nvSpPr>
          <p:cNvPr id="359" name="TextBox 9"/>
          <p:cNvSpPr/>
          <p:nvPr/>
        </p:nvSpPr>
        <p:spPr>
          <a:xfrm>
            <a:off x="373680" y="4648320"/>
            <a:ext cx="706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5b1b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cf5b1b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10</a:t>
            </a:r>
            <a:r>
              <a:rPr b="1" lang="en-US" sz="1800" spc="-1" strike="noStrike">
                <a:solidFill>
                  <a:srgbClr val="cf5b1b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cf5b1b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20</a:t>
            </a:r>
            <a:r>
              <a:rPr b="1" lang="en-US" sz="1800" spc="-1" strike="noStrike">
                <a:solidFill>
                  <a:srgbClr val="cf5b1b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cf5b1b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color(255,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5b1b"/>
                </a:solidFill>
                <a:latin typeface="Courier New"/>
                <a:ea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ile(</a:t>
            </a:r>
            <a:r>
              <a:rPr b="1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int xPos, int yPos, color tint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cf5b1b"/>
                </a:solidFill>
                <a:latin typeface="Courier New"/>
                <a:ea typeface="Courier New"/>
              </a:rPr>
              <a:t>fi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color(255,0,0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set box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cf5b1b"/>
                </a:solidFill>
                <a:latin typeface="Courier New"/>
                <a:ea typeface="Courier New"/>
              </a:rPr>
              <a:t>r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5, 5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draw small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Straight Arrow Connector 11"/>
          <p:cNvCxnSpPr/>
          <p:nvPr/>
        </p:nvCxnSpPr>
        <p:spPr>
          <a:xfrm>
            <a:off x="2514240" y="4876920"/>
            <a:ext cx="305640" cy="45792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61" name="Straight Arrow Connector 13"/>
          <p:cNvCxnSpPr/>
          <p:nvPr/>
        </p:nvCxnSpPr>
        <p:spPr>
          <a:xfrm>
            <a:off x="3809520" y="4876920"/>
            <a:ext cx="305640" cy="45792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62" name="Straight Arrow Connector 14"/>
          <p:cNvCxnSpPr/>
          <p:nvPr/>
        </p:nvCxnSpPr>
        <p:spPr>
          <a:xfrm>
            <a:off x="5409720" y="4876920"/>
            <a:ext cx="305640" cy="45792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day, we solve a problem that is much like Assignment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demo gives a chance to discuss how to translate the instructions of the exercise into a solution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e this exercise as a guide for Assignment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C7EB-E188-4399-8FF1-8E6E5582594B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4400-CB90-470E-8742-DEC562FD3577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6"/>
          <p:cNvSpPr/>
          <p:nvPr/>
        </p:nvSpPr>
        <p:spPr>
          <a:xfrm>
            <a:off x="7092000" y="5715000"/>
            <a:ext cx="1800720" cy="5205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Arial"/>
              </a:rPr>
              <a:t>Just Do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mouse0.png"/>
          <p:cNvPicPr/>
          <p:nvPr/>
        </p:nvPicPr>
        <p:blipFill>
          <a:blip r:embed="rId1"/>
          <a:stretch/>
        </p:blipFill>
        <p:spPr>
          <a:xfrm>
            <a:off x="6629400" y="2590920"/>
            <a:ext cx="2076480" cy="1828800"/>
          </a:xfrm>
          <a:prstGeom prst="rect">
            <a:avLst/>
          </a:prstGeom>
          <a:ln w="0">
            <a:noFill/>
          </a:ln>
        </p:spPr>
      </p:pic>
      <p:pic>
        <p:nvPicPr>
          <p:cNvPr id="370" name="Title 1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blems of all sorts often begin as a rehash of what is known or giv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re we are given a Processing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unction to draw a mouse of a given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or at a given place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to do: Understand what is given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this case look at the code and notice how it controls the color and the posi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EE66-9BF0-41BE-A0CF-EFEA35CA8AB1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3B35-736E-4C04-B829-4FE262C3F6E8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6:15:23Z</dcterms:created>
  <dc:creator>Information School</dc:creator>
  <dc:description/>
  <dc:language>en-US</dc:language>
  <cp:lastModifiedBy>Larry Snyder</cp:lastModifiedBy>
  <dcterms:modified xsi:type="dcterms:W3CDTF">2014-05-13T19:36:16Z</dcterms:modified>
  <cp:revision>122</cp:revision>
  <dc:subject/>
  <dc:title>Welcome to FIT100</dc:title>
</cp:coreProperties>
</file>