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FA4-4CEC-4717-858C-9A975F4B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901-F7C7-401F-A46A-833649C7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1DF-703D-4E0A-BFA4-89E10C12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09A-D14F-475D-8464-8EBF2D64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D335-AC1A-48B2-84CD-BC663FA4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673-0EC1-46A9-A0F7-C2737BF9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3E68-E4FD-4D39-B03C-07A378D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8D6-2D55-4A12-8847-840E5CA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7765-A229-4DAB-9EFE-C95C8A2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DB80-57AF-4C2D-8826-D2F6C7A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76A-4F9E-4563-B76E-0455D3C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BD1-023F-473F-9519-308213E2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991-0EAB-407D-9C83-B62A3158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842A-6BE0-45D8-AC64-9C7731E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71F-E0FC-4410-B080-8B133F4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79D-ABDA-4822-B262-3FC12794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D828-6595-4AD6-B653-D73956B2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D9A9-35CC-46EB-939D-8AD1AC11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3C97-47FC-49F7-9C62-1D14D1A9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BBD4-BFAD-4741-9258-F018BB6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44E9-7EA4-47AA-B73F-7DD732F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FF46-2174-48CF-B20C-0C6FD3D8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FE3-EDC3-4022-B091-5550D25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A28E-D14B-4F84-8987-963C0659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04E7-C34B-48CC-A641-632CAC8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3D11-C022-411C-8199-652C387C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6F9E-A5B5-4781-AC4C-DC94B9F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EA28-96EA-40FA-B98D-91E9D7D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52B6-E2F7-4AB9-999A-A6EBED6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4AFD-5F4E-4353-9639-0B8508EF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A679-AFA3-4988-84D2-02995D05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6EBD-4A71-46ED-8D5D-B7FE7C0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585B-932C-4296-8BD2-B4D6C008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CF6-813F-4ED5-9A61-6D7C995E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5754-F895-42D6-B68B-5B07409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CF77-ACD1-4417-8446-CD105FE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A02A-9FD4-4BB5-8AFD-B7076FD8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E9687-A11F-40C8-85F4-A38D5B5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BB5D-C533-4F8D-A989-AE55D91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93FF-07B3-4D3F-B47F-5803897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D840-53E8-4651-B772-4126258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D5D0-8AF2-4B1E-81C7-73F30E5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6A4F-AD03-40D8-A7F1-7C5C4B26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5ED5-F7FB-492E-A569-885F97C3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F27-9572-4B6E-811C-65A32E3D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C281-D668-4E3B-B098-A0A37906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F1E9-F827-45D4-9898-297A6E8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B964-7A0B-4AEA-9F0B-92A83F0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7051-3B4F-41C0-AE9F-22F63D3F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8C0E-DB99-4D24-A5B9-6B94064C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41E60-0DF4-4B40-B9A4-A49D49B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B821-05A4-4511-B978-FB942BD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DC19-8E83-44DA-98A9-176AEE1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8DF9-822F-45B0-A5FB-236514C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0272-A509-429B-82C0-2EDC150A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825-A4D2-4282-8AD6-FFB1335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95F5-10DF-49EB-9757-B2AB5EB2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E47C-458D-4AA3-8C53-FC18B02F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5B37-ED43-48A4-BA64-AA75C64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C7DF-23A2-4EF4-B462-1B3FB0F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ADF5-61B0-4D43-A0AD-3420190B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154C-571B-4E08-9E46-AF3109D3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9B55E-DD56-4309-B20B-37D4B0A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6FA6-DDF9-46A3-99AF-1B82309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DBEF-164A-4FFB-896E-5B3089F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6DE0-B001-4D59-8F39-C146A6E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A96-4C16-4871-8F15-9161262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4812-493A-403F-8626-DA3CD3D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D5B88-9E06-43FA-AD1D-FCBD6762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849B-5DAD-4910-A244-DFFFABC8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8382B-CAF8-4006-9C6C-2CECB730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FE19-25F3-4257-8D9C-94E015B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655F-DB40-49C2-83AE-DE8F1DB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603E3-0613-465A-9C7E-69AFBACF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C6A9-52DE-4693-A224-72DD47A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489F8-1D08-47AE-A2C9-B9316ED7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ECA6-08E3-4B0B-A1EB-3BC379E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BC9-24CE-44C9-980C-687CAB8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89090-F2A2-4B50-BF01-08149ED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512AA-4DD0-4636-9DB2-E63548B4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25A1-2135-4E5E-A013-C4CA6C8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0907-2EE5-4969-9425-481AB061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D056-6AC2-4CB4-B659-A91C2171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2D2-FDEC-4C79-9347-72ACF49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720F-F1E0-4075-99FB-AE407E94A875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587-CA91-4828-B204-895189568608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49C-8146-404E-8D60-24087985673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1E2-6387-42BF-AEF2-7FA70D9842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A75-E271-4636-84AE-78B379358E94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76A-1008-415B-80C4-6235C340359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A4E-0A18-4F86-9579-30DC16EF051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A5E1-721E-4F2E-AD76-40512D2C3D5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BA4-96D0-42E5-AC7B-552AA6EDABB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EEA-E87F-4635-8841-3A02B18C85B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803-ACAA-4A86-B0A7-089E1C4DBCD2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94A-BC7C-424D-842A-E88DB321FAF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DD62-A5B6-43E3-981D-FF0AEC37ABE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A5E-7D55-4DD7-8656-D99250B1EC32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turn to Raff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add five ne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riables of ty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e78410"/>
                </a:solidFill>
                <a:latin typeface="Corbe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and ad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vertical di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8561-3E92-4155-88DB-DD5C29BB53D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18A-7F12-40B0-B0BE-BA996D77103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raff2.png"/>
          <p:cNvPicPr/>
          <p:nvPr/>
        </p:nvPicPr>
        <p:blipFill>
          <a:blip r:embed="rId2"/>
          <a:stretch/>
        </p:blipFill>
        <p:spPr>
          <a:xfrm>
            <a:off x="4343400" y="990720"/>
            <a:ext cx="335268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want Raff to drop down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anslate his position by -15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1 to each new vari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t, he doesn’t sto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C032-2831-4FDA-8988-BF7CC98CD5B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6D3-F588-4625-877C-4616AAA9A09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685800" y="3733920"/>
            <a:ext cx="152388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raff3.png"/>
          <p:cNvPicPr/>
          <p:nvPr/>
        </p:nvPicPr>
        <p:blipFill>
          <a:blip r:embed="rId2"/>
          <a:srcRect l="0" t="15002" r="51338" b="22037"/>
          <a:stretch/>
        </p:blipFill>
        <p:spPr>
          <a:xfrm>
            <a:off x="6019920" y="1219320"/>
            <a:ext cx="2781360" cy="4317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raff4.png"/>
          <p:cNvPicPr/>
          <p:nvPr/>
        </p:nvPicPr>
        <p:blipFill>
          <a:blip r:embed="rId3"/>
          <a:stretch/>
        </p:blipFill>
        <p:spPr>
          <a:xfrm>
            <a:off x="2666880" y="3352680"/>
            <a:ext cx="2992680" cy="3124440"/>
          </a:xfrm>
          <a:prstGeom prst="rect">
            <a:avLst/>
          </a:prstGeom>
          <a:ln w="0">
            <a:noFill/>
          </a:ln>
        </p:spPr>
      </p:pic>
      <p:sp>
        <p:nvSpPr>
          <p:cNvPr id="385" name="Down Arrow 9"/>
          <p:cNvSpPr/>
          <p:nvPr/>
        </p:nvSpPr>
        <p:spPr>
          <a:xfrm>
            <a:off x="4114800" y="502920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6557040" y="525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the value of ra, say, changes, Raff’s position change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sider changes [position </a:t>
            </a:r>
            <a:r>
              <a:rPr b="0" lang="en-US" sz="3200" spc="-1" strike="noStrike">
                <a:solidFill>
                  <a:srgbClr val="60b5cc"/>
                </a:solidFill>
                <a:latin typeface="Corbe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; ra </a:t>
            </a:r>
            <a:r>
              <a:rPr b="0" lang="en-US" sz="3200" spc="-1" strike="noStrike">
                <a:solidFill>
                  <a:srgbClr val="e66c7d"/>
                </a:solidFill>
                <a:latin typeface="Corbe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0 = 260+(-15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9 = -150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1 = 260+(-14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8 = -149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2 = 260+(-148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7 = -148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4CE-FCEA-4B67-8FA3-EF61B01A97D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95C-CB34-4075-BE2A-8B7F256A819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raff2.png"/>
          <p:cNvPicPr/>
          <p:nvPr/>
        </p:nvPicPr>
        <p:blipFill>
          <a:blip r:embed="rId2"/>
          <a:srcRect l="0" t="57663" r="0" b="34268"/>
          <a:stretch/>
        </p:blipFill>
        <p:spPr>
          <a:xfrm>
            <a:off x="2971800" y="1828800"/>
            <a:ext cx="4389480" cy="6094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1756440" y="6019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4042440" y="2133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raff11.png"/>
          <p:cNvPicPr/>
          <p:nvPr/>
        </p:nvPicPr>
        <p:blipFill>
          <a:blip r:embed="rId3"/>
          <a:srcRect l="0" t="40147" r="0" b="55263"/>
          <a:stretch/>
        </p:blipFill>
        <p:spPr>
          <a:xfrm>
            <a:off x="2819520" y="2666880"/>
            <a:ext cx="46576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off-set ra gets less and less negative, eventually getting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59 = 260+-(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-1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60 = 260+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 = 0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want to stop when ra gets to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don’t d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 = ra+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wri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 = min(0,ra+1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happens??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646D-E1CD-4502-9E9C-FA84846F4D3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32C-59E5-4FD8-9E24-A54BAE9D767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680120" y="403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809880" y="5715000"/>
            <a:ext cx="43434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n(a,b) gives the smaller of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0 = 260+(-15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9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50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1 = 260+(-14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8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49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2 = 260+(-148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7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48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59 = 260+-(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 difference, 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60 = 260+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0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ys at 0 … forever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0555-6557-49B7-BC83-F842FC25AED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30E-D2C1-42E5-8949-605E9D1EDA0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1908720" y="3809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>
            <a:off x="7467480" y="563868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4419720" y="1066680"/>
            <a:ext cx="43434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n(a,b) gives the smaller of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de simpl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plies the </a:t>
            </a:r>
            <a:r>
              <a:rPr b="0" lang="en-US" sz="3200" spc="-1" strike="noStrike">
                <a:solidFill>
                  <a:srgbClr val="e88651"/>
                </a:solidFill>
                <a:latin typeface="Courier New"/>
                <a:ea typeface="Courier New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 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5FBE-F96E-4D5C-B58C-63D9DE71E27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3E7-B440-4338-AD78-40C53E57818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6" descr="raff5.png"/>
          <p:cNvPicPr/>
          <p:nvPr/>
        </p:nvPicPr>
        <p:blipFill>
          <a:blip r:embed="rId2"/>
          <a:srcRect l="0" t="14262" r="50344" b="20559"/>
          <a:stretch/>
        </p:blipFill>
        <p:spPr>
          <a:xfrm>
            <a:off x="4572000" y="1066680"/>
            <a:ext cx="35053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 the amount Raff’s parts fall so he appears to reassembl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FFD3-EDD0-4172-83DE-F8F0E0BDC29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C4D-7AC2-4085-9F7F-48E26843945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raff7.png"/>
          <p:cNvPicPr/>
          <p:nvPr/>
        </p:nvPicPr>
        <p:blipFill>
          <a:blip r:embed="rId2"/>
          <a:stretch/>
        </p:blipFill>
        <p:spPr>
          <a:xfrm>
            <a:off x="457200" y="2362320"/>
            <a:ext cx="3936960" cy="4109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raff6.png"/>
          <p:cNvPicPr/>
          <p:nvPr/>
        </p:nvPicPr>
        <p:blipFill>
          <a:blip r:embed="rId3"/>
          <a:stretch/>
        </p:blipFill>
        <p:spPr>
          <a:xfrm>
            <a:off x="4495680" y="2666880"/>
            <a:ext cx="4525920" cy="32767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8"/>
          <p:cNvSpPr/>
          <p:nvPr/>
        </p:nvSpPr>
        <p:spPr>
          <a:xfrm>
            <a:off x="7467480" y="563868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9"/>
          <p:cNvSpPr/>
          <p:nvPr/>
        </p:nvSpPr>
        <p:spPr>
          <a:xfrm>
            <a:off x="6324480" y="1905120"/>
            <a:ext cx="24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400" spc="-1" strike="noStrike">
                <a:solidFill>
                  <a:srgbClr val="e88651"/>
                </a:solidFill>
                <a:latin typeface="Arial"/>
              </a:rPr>
              <a:t>flo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1"/>
          <p:cNvCxnSpPr/>
          <p:nvPr/>
        </p:nvCxnSpPr>
        <p:spPr>
          <a:xfrm flipH="1">
            <a:off x="7771680" y="2361960"/>
            <a:ext cx="305640" cy="24390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day, we applied our knowledge o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 … names for quantities that vary in the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 … forms of data like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ger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g point numbers (decimal numbers)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boolea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 … statements that define what datatype variables are, as in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 = 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we learned the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 ) fun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A69-696B-491E-B793-21C209634B0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1758-5B22-4A50-B26C-7818DB3B3F4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st time we learn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ing the program we wrote last time, review what we cove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467-88C6-469B-A348-2A146044736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4F1C-C90F-4C71-9DB9-4D545A8A99C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78A-9E76-4049-8FA1-7D40D178ECF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842C-5684-4AC1-BC83-3AED01AF354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raff11.png"/>
          <p:cNvPicPr/>
          <p:nvPr/>
        </p:nvPicPr>
        <p:blipFill>
          <a:blip r:embed="rId2"/>
          <a:stretch/>
        </p:blipFill>
        <p:spPr>
          <a:xfrm>
            <a:off x="685800" y="990720"/>
            <a:ext cx="4038480" cy="5746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raff8.png"/>
          <p:cNvPicPr/>
          <p:nvPr/>
        </p:nvPicPr>
        <p:blipFill>
          <a:blip r:embed="rId3"/>
          <a:stretch/>
        </p:blipFill>
        <p:spPr>
          <a:xfrm>
            <a:off x="4724280" y="1371600"/>
            <a:ext cx="4270320" cy="4457880"/>
          </a:xfrm>
          <a:prstGeom prst="rect">
            <a:avLst/>
          </a:prstGeom>
          <a:ln w="0">
            <a:noFill/>
          </a:ln>
        </p:spPr>
      </p:pic>
      <p:sp>
        <p:nvSpPr>
          <p:cNvPr id="318" name="Right Arrow 9"/>
          <p:cNvSpPr/>
          <p:nvPr/>
        </p:nvSpPr>
        <p:spPr>
          <a:xfrm>
            <a:off x="6172200" y="3429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EAD-CB9A-4959-B153-9BA4D5C2052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4A2-E694-4350-A1BF-954FCF43F87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raff11.png"/>
          <p:cNvPicPr/>
          <p:nvPr/>
        </p:nvPicPr>
        <p:blipFill>
          <a:blip r:embed="rId2"/>
          <a:stretch/>
        </p:blipFill>
        <p:spPr>
          <a:xfrm>
            <a:off x="380880" y="990720"/>
            <a:ext cx="4038840" cy="57466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4472640" y="1066680"/>
            <a:ext cx="43959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llustrates use of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ata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eclar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llustrates properties of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ing A Variable’s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26"/>
          <p:cNvGrpSpPr/>
          <p:nvPr/>
        </p:nvGrpSpPr>
        <p:grpSpPr>
          <a:xfrm>
            <a:off x="5645160" y="4952880"/>
            <a:ext cx="1670040" cy="1676520"/>
            <a:chOff x="5645160" y="4952880"/>
            <a:chExt cx="1670040" cy="1676520"/>
          </a:xfrm>
        </p:grpSpPr>
        <p:sp>
          <p:nvSpPr>
            <p:cNvPr id="327" name="TextBox 6"/>
            <p:cNvSpPr/>
            <p:nvPr/>
          </p:nvSpPr>
          <p:spPr>
            <a:xfrm>
              <a:off x="5645160" y="4952880"/>
              <a:ext cx="13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etup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7"/>
            <p:cNvSpPr/>
            <p:nvPr/>
          </p:nvSpPr>
          <p:spPr>
            <a:xfrm>
              <a:off x="5645160" y="579132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raw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13"/>
            <p:cNvCxnSpPr/>
            <p:nvPr/>
          </p:nvCxnSpPr>
          <p:spPr>
            <a:xfrm>
              <a:off x="6247800" y="5410080"/>
              <a:ext cx="1080" cy="53424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  <p:sp>
          <p:nvSpPr>
            <p:cNvPr id="330" name="Straight Connector 14"/>
            <p:cNvSpPr/>
            <p:nvPr/>
          </p:nvSpPr>
          <p:spPr>
            <a:xfrm>
              <a:off x="6248160" y="6324840"/>
              <a:ext cx="0" cy="30456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15"/>
            <p:cNvSpPr/>
            <p:nvPr/>
          </p:nvSpPr>
          <p:spPr>
            <a:xfrm>
              <a:off x="6248160" y="6629400"/>
              <a:ext cx="1067040" cy="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16"/>
            <p:cNvSpPr/>
            <p:nvPr/>
          </p:nvSpPr>
          <p:spPr>
            <a:xfrm flipV="1">
              <a:off x="7315200" y="5562360"/>
              <a:ext cx="0" cy="106704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" name="Straight Arrow Connector 17"/>
            <p:cNvCxnSpPr/>
            <p:nvPr/>
          </p:nvCxnSpPr>
          <p:spPr>
            <a:xfrm flipH="1">
              <a:off x="6247800" y="5562000"/>
              <a:ext cx="1067760" cy="108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t Raff off-screen to right, by initializing him to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make him move left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speed his movement up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B6B-F68C-48AB-A3F7-FFADC22E8AA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5ACE-407D-4AF5-A905-043A39929FB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3352680" y="388620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e 400 is enoug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hide him off scre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btracting mov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m lef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y 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eds him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FBC-6B97-4D92-92DA-A9B44F6F2E0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D6B-D345-435E-B4EB-1C97444E433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raff12.png"/>
          <p:cNvPicPr/>
          <p:nvPr/>
        </p:nvPicPr>
        <p:blipFill>
          <a:blip r:embed="rId2"/>
          <a:stretch/>
        </p:blipFill>
        <p:spPr>
          <a:xfrm>
            <a:off x="4648320" y="990720"/>
            <a:ext cx="388620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ing Copy And Paste, create functions for the other three Ninj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function has a Ninja name: mike, leo, d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ninja has a off-set variable: mi, le, d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function is revised to off-set by its new vari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ninja has its off-set variable declared and initializ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418A-91D0-4468-A760-F6A891E3CB5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9E06-E59A-4630-8C77-893EE1117FE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"/>
          <p:cNvSpPr/>
          <p:nvPr/>
        </p:nvSpPr>
        <p:spPr>
          <a:xfrm>
            <a:off x="3352680" y="556272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1195-4192-487E-B8C5-205894B2A8B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4715-2231-464B-BECF-EFDB07F42D3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ninja6.png"/>
          <p:cNvPicPr/>
          <p:nvPr/>
        </p:nvPicPr>
        <p:blipFill>
          <a:blip r:embed="rId2"/>
          <a:stretch/>
        </p:blipFill>
        <p:spPr>
          <a:xfrm>
            <a:off x="225360" y="1219320"/>
            <a:ext cx="3279960" cy="3962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ninja2.png"/>
          <p:cNvPicPr/>
          <p:nvPr/>
        </p:nvPicPr>
        <p:blipFill>
          <a:blip r:embed="rId3"/>
          <a:stretch/>
        </p:blipFill>
        <p:spPr>
          <a:xfrm>
            <a:off x="3581280" y="36576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ninja3.png"/>
          <p:cNvPicPr/>
          <p:nvPr/>
        </p:nvPicPr>
        <p:blipFill>
          <a:blip r:embed="rId4"/>
          <a:stretch/>
        </p:blipFill>
        <p:spPr>
          <a:xfrm>
            <a:off x="6095880" y="106668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ninja4.png"/>
          <p:cNvPicPr/>
          <p:nvPr/>
        </p:nvPicPr>
        <p:blipFill>
          <a:blip r:embed="rId5"/>
          <a:stretch/>
        </p:blipFill>
        <p:spPr>
          <a:xfrm>
            <a:off x="6099120" y="3733920"/>
            <a:ext cx="2548080" cy="2590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ninja5.png"/>
          <p:cNvPicPr/>
          <p:nvPr/>
        </p:nvPicPr>
        <p:blipFill>
          <a:blip r:embed="rId6"/>
          <a:stretch/>
        </p:blipFill>
        <p:spPr>
          <a:xfrm>
            <a:off x="1371600" y="4343400"/>
            <a:ext cx="2262240" cy="2362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ninja7.png"/>
          <p:cNvPicPr/>
          <p:nvPr/>
        </p:nvPicPr>
        <p:blipFill>
          <a:blip r:embed="rId7"/>
          <a:stretch/>
        </p:blipFill>
        <p:spPr>
          <a:xfrm>
            <a:off x="3581280" y="1066680"/>
            <a:ext cx="259092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t Ninja’s to the right, and move them left, but at different rate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ff moves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ke moves 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o moves 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n moves 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8317-BDED-40D1-AA2B-25F07F0C37A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143-ACFB-4F31-B661-A16CE84D513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ninja13.png"/>
          <p:cNvPicPr/>
          <p:nvPr/>
        </p:nvPicPr>
        <p:blipFill>
          <a:blip r:embed="rId2"/>
          <a:stretch/>
        </p:blipFill>
        <p:spPr>
          <a:xfrm>
            <a:off x="3581280" y="3276720"/>
            <a:ext cx="5356440" cy="3106440"/>
          </a:xfrm>
          <a:prstGeom prst="rect">
            <a:avLst/>
          </a:prstGeom>
          <a:ln w="0">
            <a:noFill/>
          </a:ln>
        </p:spPr>
      </p:pic>
      <p:sp>
        <p:nvSpPr>
          <p:cNvPr id="369" name="Left Arrow 7"/>
          <p:cNvSpPr/>
          <p:nvPr/>
        </p:nvSpPr>
        <p:spPr>
          <a:xfrm>
            <a:off x="5638680" y="4648320"/>
            <a:ext cx="457200" cy="304560"/>
          </a:xfrm>
          <a:prstGeom prst="left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1981080" y="579132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40:34Z</dcterms:created>
  <dc:creator>Information School</dc:creator>
  <dc:description/>
  <dc:language>en-US</dc:language>
  <cp:lastModifiedBy>Larry Snyder</cp:lastModifiedBy>
  <cp:lastPrinted>2013-01-16T19:23:59Z</cp:lastPrinted>
  <dcterms:modified xsi:type="dcterms:W3CDTF">2013-04-28T19:29:11Z</dcterms:modified>
  <cp:revision>128</cp:revision>
  <dc:subject/>
  <dc:title>Welcome to FIT100</dc:title>
</cp:coreProperties>
</file>