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85A-874F-47C2-9C6B-FDE74830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49D-02D0-4D33-9369-3E5AD8DF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B5E-AE1C-426A-BC32-D7AB19F7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2CB-51BC-4588-ADF3-312F87AE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391C-31BD-4EE8-96C6-012A4905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7A74-0AC0-4C01-AA5E-C2AA3FF4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4424-6DF4-4CB2-82EA-82F9E05C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2B4B-78E6-4C0F-A11A-603B98F2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BCF2-B5E2-46EE-87F9-DBE6A642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42B2-CF74-4BC1-B45E-F215D650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8CE0-9EDF-428B-AFD1-B0AB1A9A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40E-15C2-4BD6-AF09-5995EF6C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259A-2156-4ECD-8AD1-A6C2CFA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8A02-073E-451D-8C40-3FC21190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2B2F-DAC7-4695-8AC7-FA8D57F1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36EA-BC37-4A64-9FC2-3B4DB018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CA3E-4DF1-4F19-AEE0-EF5C3708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5BCF-A0A9-43CF-BC5D-216A1400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D4E8A-E1FA-4A56-A73B-669E4A75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0616-76DE-482E-A5BB-CE803865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073C-3B67-4BA3-A1B4-20B05C14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F392-9CE0-4EB1-953E-300DEEE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BFA-E716-45EC-B527-B46AC93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7664-0568-4612-AAC5-2185FB9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44A69-2642-43EE-8B11-4134438F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ED58-5A1B-4009-8D5D-6EBB791A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D97F-458F-4796-9534-16FC0292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9E00-BC2C-45F9-9FF7-4E225DC8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B21D-E0F2-4B15-8026-CEFF1D5F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7936-5CE8-4445-BCBF-6849A72C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74A0-43C5-4B39-999F-E7D41738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67A4-6A75-4CB4-86CD-6AB4CF45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F2FB-FE3B-49E2-8454-097FE8E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547-3FC7-4411-A897-2E03557F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6339-564E-46FF-8A47-5CC8A0E9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AFAE-E65A-463D-9CA5-850D0758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B9C9-8CAA-40DA-B193-30738A76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0B65-7AFA-4567-8E0C-8E4D0DE6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3E19-47DB-4527-AA66-E4088C8B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955D-6557-454D-832D-328493E1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9615-D1E2-4653-A8C0-51BCBACF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1041-D339-4A84-8A63-D82F3399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20D4-E790-4C9B-A458-7A62AF96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47111-2CC3-4470-B88E-1BC715F0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BBE-DCFF-4B91-95F2-09913563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1D29F-A807-4065-9C03-352F4AC7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CEE6-56EB-4E88-AD2E-6C13EDB2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A95B9-B374-4027-9995-EFC61B95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F14E8-1E8B-497D-9D2C-AFFCD61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6CF8-4222-4EEA-92B5-F7383343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9F62D-CBFF-4605-A932-D474C76F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15A3-D7B0-4E92-B921-A279A53A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CEBF4-4F0A-41EA-B545-2B07A5EF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509D-6B44-4E70-968A-5DAA741B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1E697-4F53-4A5F-A0CF-17E2C626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A08-EB86-41D8-9602-C91FB453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018BE-5EE8-4116-BC74-3D6F80D0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141C-9F53-4C1F-8F0F-EF2A7B16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9EADE-F9C7-47D6-A9ED-22782A34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C8C00-404C-44AC-82F8-2BE54738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A76F-E343-4E46-B2B0-4D427C5A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9B541-467C-4B08-ADD8-9054811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ABE69-8ACC-4E3D-81B2-CA70A6C7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B553B-353A-45DA-8665-EC1C774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4EB0-3060-4B1C-A71E-8D519DF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33E11-F977-43C9-80CB-5356B5A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BD4-21B3-4E9F-97E4-5A23888F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A7F49-FE19-4E39-9902-AD551CCF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0F336-563D-4C80-9909-CD36BD5F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9FDCD-769F-49F7-A7AC-AB2EE0D6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2E8D2-5570-4806-A7FE-375C78AA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F5A6-63E8-4712-8CC4-B0A1EC43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9420B-B9E2-480F-9134-8980530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C22D-8935-4E38-9EC7-32CE8B3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74361-D8EC-4445-A098-829FAF67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91DA9-EC51-4EE4-9283-2614D888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DEAFE-A78F-4686-8D9D-E3A66A8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79B-F263-46FD-8DF4-B09513F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1E49B-442B-4F1E-B0A7-7F82201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AFD6C-3BEF-4C28-8D9B-547E779E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D720F-46E4-4963-AFAD-0DB62D90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A0644-4B79-4473-BFB8-C9DD83ED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2CF11-B5B6-409C-BE2F-29F0329C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E88-782A-4551-8C8B-9DBED1BF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2EF9-9856-4528-9131-D53BDCD4C3D9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0408-D806-40D2-B10A-4223A15B9F49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54FC-2BFC-440D-9B45-8F61628BBE20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9BFE-57BA-4D57-BFD9-77BEF9B7413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B77E-8665-4528-9448-B2C68D92902A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149B-7718-4DE0-B0A0-38B0EA6734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7119-28E3-449B-BDD7-E997155572AC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EA0-4859-46F3-9BC8-0BE619A4EB6E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DDAC-91DA-4F5C-857C-9E867A1A115E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5399-EC0B-46FD-BCB6-13C1210FEC64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564D-3F66-46EB-8E21-614828E85236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F35C-5A75-44F0-87A3-1AAD2CF37818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8780-F685-4B54-9EA3-67E59D54CCD2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4778-CCB1-4433-BA22-3CBDFBC2B94B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ra has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lue of 200, Raff’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sition is chang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A12B-13E9-458B-9545-A502C2B0975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153280" y="640080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20CB-C949-4B80-B452-2345D07E048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raff6.png"/>
          <p:cNvPicPr/>
          <p:nvPr/>
        </p:nvPicPr>
        <p:blipFill>
          <a:blip r:embed="rId2"/>
          <a:stretch/>
        </p:blipFill>
        <p:spPr>
          <a:xfrm>
            <a:off x="563400" y="2895480"/>
            <a:ext cx="3430800" cy="35816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8"/>
          <p:cNvSpPr/>
          <p:nvPr/>
        </p:nvSpPr>
        <p:spPr>
          <a:xfrm>
            <a:off x="152280" y="594360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0" descr="cod3.png"/>
          <p:cNvPicPr/>
          <p:nvPr/>
        </p:nvPicPr>
        <p:blipFill>
          <a:blip r:embed="rId3"/>
          <a:stretch/>
        </p:blipFill>
        <p:spPr>
          <a:xfrm>
            <a:off x="4648320" y="762120"/>
            <a:ext cx="4114800" cy="58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unctions setup( ) and draw( ) allow the Processing computations to be dynam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call that they work as follow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e Raphael run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F201-CE37-43BD-9792-CDA8BB06E8D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DBB7-44EC-40A5-89D3-79C765A5298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6"/>
          <p:cNvGrpSpPr/>
          <p:nvPr/>
        </p:nvGrpSpPr>
        <p:grpSpPr>
          <a:xfrm>
            <a:off x="3282840" y="3048120"/>
            <a:ext cx="1670040" cy="1676160"/>
            <a:chOff x="3282840" y="3048120"/>
            <a:chExt cx="1670040" cy="1676160"/>
          </a:xfrm>
        </p:grpSpPr>
        <p:sp>
          <p:nvSpPr>
            <p:cNvPr id="366" name="TextBox 6"/>
            <p:cNvSpPr/>
            <p:nvPr/>
          </p:nvSpPr>
          <p:spPr>
            <a:xfrm>
              <a:off x="3282840" y="3048120"/>
              <a:ext cx="13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etup(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7"/>
            <p:cNvSpPr/>
            <p:nvPr/>
          </p:nvSpPr>
          <p:spPr>
            <a:xfrm>
              <a:off x="3283200" y="3886200"/>
              <a:ext cx="12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raw(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8" name="Straight Arrow Connector 9"/>
            <p:cNvCxnSpPr/>
            <p:nvPr/>
          </p:nvCxnSpPr>
          <p:spPr>
            <a:xfrm>
              <a:off x="3885840" y="3504960"/>
              <a:ext cx="1080" cy="533880"/>
            </a:xfrm>
            <a:prstGeom prst="straightConnector1">
              <a:avLst/>
            </a:prstGeom>
            <a:ln w="47880">
              <a:solidFill>
                <a:srgbClr val="f0ad00"/>
              </a:solidFill>
              <a:miter/>
              <a:tailEnd len="med" type="arrow" w="med"/>
            </a:ln>
          </p:spPr>
        </p:cxnSp>
        <p:sp>
          <p:nvSpPr>
            <p:cNvPr id="369" name="Straight Connector 11"/>
            <p:cNvSpPr/>
            <p:nvPr/>
          </p:nvSpPr>
          <p:spPr>
            <a:xfrm>
              <a:off x="3886200" y="4419720"/>
              <a:ext cx="0" cy="30456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13"/>
            <p:cNvSpPr/>
            <p:nvPr/>
          </p:nvSpPr>
          <p:spPr>
            <a:xfrm>
              <a:off x="3886200" y="4724280"/>
              <a:ext cx="1066680" cy="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14"/>
            <p:cNvSpPr/>
            <p:nvPr/>
          </p:nvSpPr>
          <p:spPr>
            <a:xfrm flipV="1">
              <a:off x="4952880" y="3657240"/>
              <a:ext cx="0" cy="106668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Straight Arrow Connector 19"/>
            <p:cNvCxnSpPr/>
            <p:nvPr/>
          </p:nvCxnSpPr>
          <p:spPr>
            <a:xfrm flipH="1">
              <a:off x="3885480" y="3657240"/>
              <a:ext cx="1067400" cy="1080"/>
            </a:xfrm>
            <a:prstGeom prst="straightConnector1">
              <a:avLst/>
            </a:prstGeom>
            <a:ln w="47880">
              <a:solidFill>
                <a:srgbClr val="f0ad00"/>
              </a:solidFill>
              <a:miter/>
              <a:tailEnd len="med" type="arrow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1C26-77E1-4005-8C1F-3AE0F4F9D05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B078-D0A1-4C7B-8FB1-7664BB7FF20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raff11.png"/>
          <p:cNvPicPr/>
          <p:nvPr/>
        </p:nvPicPr>
        <p:blipFill>
          <a:blip r:embed="rId2"/>
          <a:stretch/>
        </p:blipFill>
        <p:spPr>
          <a:xfrm>
            <a:off x="685800" y="990720"/>
            <a:ext cx="4038480" cy="5746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raff8.png"/>
          <p:cNvPicPr/>
          <p:nvPr/>
        </p:nvPicPr>
        <p:blipFill>
          <a:blip r:embed="rId3"/>
          <a:stretch/>
        </p:blipFill>
        <p:spPr>
          <a:xfrm>
            <a:off x="4724280" y="1371600"/>
            <a:ext cx="4270320" cy="4457880"/>
          </a:xfrm>
          <a:prstGeom prst="rect">
            <a:avLst/>
          </a:prstGeom>
          <a:ln w="0">
            <a:noFill/>
          </a:ln>
        </p:spPr>
      </p:pic>
      <p:sp>
        <p:nvSpPr>
          <p:cNvPr id="380" name="Right Arrow 9"/>
          <p:cNvSpPr/>
          <p:nvPr/>
        </p:nvSpPr>
        <p:spPr>
          <a:xfrm>
            <a:off x="6172200" y="34290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6019920" y="5715000"/>
            <a:ext cx="152388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rt Raff off-screen to right, by initializing him to …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n make him move left by …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speed his movement up by …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3099-36A3-4AE0-85BC-F7DE641548E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2FD6-F054-49FF-8573-546F3581D06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3352680" y="388620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e 400 is enoug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hide him off scre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btracting mov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m lef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y 2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eds him 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2946-E432-4BC4-AD7C-89B866513D70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DEC5-9793-496D-9A58-452BFC1F335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raff12.png"/>
          <p:cNvPicPr/>
          <p:nvPr/>
        </p:nvPicPr>
        <p:blipFill>
          <a:blip r:embed="rId2"/>
          <a:stretch/>
        </p:blipFill>
        <p:spPr>
          <a:xfrm>
            <a:off x="4648320" y="990720"/>
            <a:ext cx="3886200" cy="56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day, we learned abou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riables … names for quantities that vary in the progr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types … forms of data like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gers,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g point numbers (decimal numbers),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,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boolea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larations … statements that define what datatype variables are, as in </a:t>
            </a:r>
            <a:r>
              <a:rPr b="0" lang="en-US" sz="2800" spc="-1" strike="noStrike">
                <a:solidFill>
                  <a:srgbClr val="e88651"/>
                </a:solidFill>
                <a:latin typeface="Corbel"/>
              </a:rPr>
              <a:t>in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 = 0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we learned the </a:t>
            </a:r>
            <a:r>
              <a:rPr b="0" lang="en-US" sz="2800" spc="-1" strike="noStrike">
                <a:solidFill>
                  <a:srgbClr val="e88651"/>
                </a:solidFill>
                <a:latin typeface="Corbe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( ) fun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CA3B-6299-43CF-9305-FFE6B3CEE22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52BD-923D-420C-ADDE-4CC3CD80E39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three basic ideas  to cover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all interact … we’ll just start on these ideas tod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882-0B54-4E64-A8F3-65D9CE21538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B53-C96B-4A15-9672-D1A1F51CB6B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9F23-09FF-4858-AB7D-D3FAA85D730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C8A1-F668-49E8-B23F-433E453412E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raffFigure.png"/>
          <p:cNvPicPr/>
          <p:nvPr/>
        </p:nvPicPr>
        <p:blipFill>
          <a:blip r:embed="rId2"/>
          <a:stretch/>
        </p:blipFill>
        <p:spPr>
          <a:xfrm>
            <a:off x="3657600" y="990720"/>
            <a:ext cx="5334120" cy="5568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raff2.png"/>
          <p:cNvPicPr/>
          <p:nvPr/>
        </p:nvPicPr>
        <p:blipFill>
          <a:blip r:embed="rId3"/>
          <a:srcRect l="0" t="9630" r="53561" b="22595"/>
          <a:stretch/>
        </p:blipFill>
        <p:spPr>
          <a:xfrm>
            <a:off x="380880" y="1066680"/>
            <a:ext cx="312444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re names used in a program for quantities that vary … get it? Variables vary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, one thing we can do is give them valu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x = 12;   //Give x the value 1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x is the variable, and it’s being assigned the value 1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w, whenever I use the variable x, as 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y = x + 1;  //Increase the value of 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as if I had used its value (12) directly: y=12+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’s pretty obvious … but there’s more to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18E6-B565-4FB1-A1BD-479ACF17DDF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D00C-2A11-47A1-8975-6CD100198BA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2133720" y="5943600"/>
            <a:ext cx="502920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aution: variables are NOT unkn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28240" y="1066680"/>
            <a:ext cx="624852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data that variables name has certain properties … we group information with similar properties into “types” 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gers, or whole numb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g point, usually called decimal numbers, have decimal poi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, a triple of numbers for R, G and 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17DA-7D8B-4461-ABA0-74FC2ACB1A0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2960-7B1D-4A7E-9495-5D1F053C0E3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datatypes.tiff"/>
          <p:cNvPicPr/>
          <p:nvPr/>
        </p:nvPicPr>
        <p:blipFill>
          <a:blip r:embed="rId2"/>
          <a:stretch/>
        </p:blipFill>
        <p:spPr>
          <a:xfrm>
            <a:off x="6553080" y="1523880"/>
            <a:ext cx="2446560" cy="4765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ing has a series of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atatyp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ost important datatypes for us 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e78410"/>
                </a:solidFill>
                <a:latin typeface="Arial"/>
                <a:ea typeface="Arial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e78410"/>
                </a:solidFill>
                <a:latin typeface="Arial"/>
                <a:ea typeface="Arial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e78410"/>
                </a:solidFill>
                <a:latin typeface="Arial"/>
                <a:ea typeface="Arial"/>
              </a:rPr>
              <a:t>boolea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3200" spc="-1" strike="noStrike">
                <a:solidFill>
                  <a:srgbClr val="e78410"/>
                </a:solidFill>
                <a:latin typeface="Arial"/>
                <a:ea typeface="Arial"/>
              </a:rPr>
              <a:t>col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dd more la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Find details in the referen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C6A5-D300-40F5-86D3-39BCF0999DB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5847-3E22-4BAD-8740-D25A8F63F8B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Processing (and all languages) need to know the types of data you are working wi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We tell them the type by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declaring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 a variable’s datatyp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When declaring variables we list them after the type, as 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5b1b"/>
                </a:solidFill>
                <a:latin typeface="Corbel"/>
                <a:ea typeface="Arial"/>
              </a:rPr>
              <a:t>in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x, y, z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5b1b"/>
                </a:solidFill>
                <a:latin typeface="Corbel"/>
                <a:ea typeface="Aria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 half_step = 0.5, whole = 1.0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5b1b"/>
                </a:solidFill>
                <a:latin typeface="Corbel"/>
                <a:ea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 yellow = </a:t>
            </a:r>
            <a:r>
              <a:rPr b="0" lang="en-US" sz="2800" spc="-1" strike="noStrike">
                <a:solidFill>
                  <a:srgbClr val="cf5b1b"/>
                </a:solidFill>
                <a:latin typeface="Corbel"/>
                <a:ea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(200,200,0)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0476-BD13-4A9B-AF6C-1B025F280FE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8800-276F-4AD7-8613-56391AC82A38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80520" y="12189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riables are case sensi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841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Side, left_side, leftside; // declare 3 va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Variables can be initializ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8410"/>
                </a:solidFill>
                <a:latin typeface="Courier New"/>
                <a:ea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erature = 98.6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eclare &amp; initializ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Variables names are meaningless to computers, but meaningful to people … don’t l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8410"/>
                </a:solidFill>
                <a:latin typeface="Courier New"/>
                <a:ea typeface="Courier New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yWhite = </a:t>
            </a:r>
            <a:r>
              <a:rPr b="1" lang="en-US" sz="2000" spc="-1" strike="noStrike">
                <a:solidFill>
                  <a:srgbClr val="e78410"/>
                </a:solidFill>
                <a:latin typeface="Courier New"/>
                <a:ea typeface="Courier New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0,0,0); //White … ha, ha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Variables are declared at top of a progr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5846-83A2-4DA4-B562-09D459463F2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CF1F-1EF4-4366-AF90-0B5DC47DB18C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aphael gets a v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dding a variabl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lue of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o ea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rizontal pos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ults in no change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me 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184-F23D-4ECF-AD36-0FCBF491A8B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A998-A2EB-4F04-99F5-5CFDAA56031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8" descr="raffFigure.png"/>
          <p:cNvPicPr/>
          <p:nvPr/>
        </p:nvPicPr>
        <p:blipFill>
          <a:blip r:embed="rId2"/>
          <a:stretch/>
        </p:blipFill>
        <p:spPr>
          <a:xfrm>
            <a:off x="2438280" y="4267080"/>
            <a:ext cx="2225880" cy="2324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code1.png"/>
          <p:cNvPicPr/>
          <p:nvPr/>
        </p:nvPicPr>
        <p:blipFill>
          <a:blip r:embed="rId3"/>
          <a:stretch/>
        </p:blipFill>
        <p:spPr>
          <a:xfrm>
            <a:off x="4419720" y="533520"/>
            <a:ext cx="42228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6:40:34Z</dcterms:created>
  <dc:creator>Information School</dc:creator>
  <dc:description/>
  <dc:language>en-US</dc:language>
  <cp:lastModifiedBy>Larry Snyder</cp:lastModifiedBy>
  <cp:lastPrinted>2013-01-16T19:23:59Z</cp:lastPrinted>
  <dcterms:modified xsi:type="dcterms:W3CDTF">2013-04-28T19:10:59Z</dcterms:modified>
  <cp:revision>127</cp:revision>
  <dc:subject/>
  <dc:title>Welcome to FIT100</dc:title>
</cp:coreProperties>
</file>