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CCF-6963-4B55-9F97-5CBB28B4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0B9-9C34-4881-A622-AD5BAD11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CC8-3D47-4C8C-A145-53BBA33E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37D-FEAD-457C-99EA-C05BAAB6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739F-086F-4426-9FE0-A70DC387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E251-37B4-4028-8A84-41901A74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C35F-5377-4853-A582-E1859FAD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7D31-CFB5-4915-B56F-2CE90C73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29C6-7423-4B31-A900-03554A44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AC74-C8BF-402C-B91B-EB7B59B7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D669-619D-4E57-A616-FDD5E49C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5E5-D02A-442D-867E-7DDB536E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60A8-2ED0-4C83-9E78-AA4A30F2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A1BB-3DCA-4B8A-A7F6-74E89614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5FD2-86D7-431F-88CF-7328159B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1452-84A2-42E4-91EB-1BEA1A83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A02C-C6E7-4EB2-BE18-08A5A462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B2C1-D714-40E5-A76F-EDB3E846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5CDC-97EE-47F9-B140-82303DC0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5072-CAD4-4378-9938-C3CAAAC5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1253-F98D-4E32-B778-92C64901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2E0D-84D0-4B3A-AEF7-6043E1ED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406-9D69-443F-B7FE-E0FAA39C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27F9-CA74-4AE5-93EE-734F02F8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250C2-A625-4290-8323-392D40CB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9B23-C799-4488-801D-31326C9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1B5B-29C1-45CE-8FBB-2FCA3C8C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66F8-B411-4318-8108-0A536087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D9B8-558E-4898-9EAA-22931838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8BCFA-2AAB-4B2F-B384-CD470D73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5B196-904C-44FA-B147-FFA766B2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BF7C0-5F80-4845-9892-162567F3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9F18C-09E9-415D-9B3E-F582F5FF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CD6-D00B-4622-AF66-D929533F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CB0E-7915-4A2C-B6F5-2E767D55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EA973-86AB-48DE-AB90-94EA0879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6C825-6A2D-484F-BD40-DA86EC77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A004-8B21-4A4F-ACB6-47E042F4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8C682-AF72-4FAD-AA68-271E332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FAACE-2BEE-4B7B-A349-87F7F970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9B829-DBB7-4A80-8BE9-63AD7B4B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42713-066B-4633-B988-35FB9AC7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12735-667D-4636-AE9B-D0E04DF8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9EE3F-0B4F-43C4-8AF3-5FD03AF4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247-7936-40C4-A82A-BEC4EEE8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7720C-6B51-498A-8E18-F861AD7F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0C69-72DD-42C9-9079-F5B944D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721C8-A5B3-421B-B278-FDA3911B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456B1-BA48-431F-B566-92CB9870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8984C-2097-4D21-8FD8-2FF3D5C0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AF227-83C8-4E6D-8F03-22F21CF8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E1DF1-DA79-4B86-A85F-CAE42931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1D732-0FD5-4D9C-B15E-3CFDED3F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AF635-AFD0-496B-A2F0-D3033D6B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BEDC9-4900-4A71-B52E-D202EE77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F16-54D8-4A73-BB07-FAC02714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AA762-4200-43BD-ACD3-91311B02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63F0A-F58D-4753-B852-E68ADBD7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F6C58-6EF1-427F-8219-57C83F9D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4AACA-13CC-4257-83B2-2BAFB057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04DA9-32E8-49E5-8B13-A3F6A880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8D6B8-B6D3-4A65-A7E2-97A6A370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F2B8-84EC-46A4-BC8C-71E0EE71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15853-A8AC-4439-BB3F-177C4DC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55A51-B54A-47C5-B1EA-75A6ABF8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30E61-2831-4655-8199-B835A52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862-6F55-47D6-8456-F76D0096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9E14B-1992-4405-82C6-00B108E1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B0189-0084-4187-8599-35EECA70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2A15B-257C-490D-845F-D3A9818E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72645-9454-48A3-8891-D4B891AF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9487F-1BE0-465B-84B4-8EC4B957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E1E7C-9C70-49C6-9465-CC269B87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113F3-00CB-4E49-8545-77242C61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7C500-B728-43A9-B1F9-5BCAC74A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576CA-7071-4B08-B46C-1041D473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7CD21-9FD8-40C9-A564-0B9C7AC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1AE-FEB0-430C-A572-2A80594A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B793-C656-4D50-ADAE-06200812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A352D-0373-41BB-B4C2-E6200400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00D91-3D35-47D2-A2CA-A44C4DDD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1A68D-DE76-4FAA-A0AC-DAE08CE1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2CFBE-0266-47F8-9F1E-AF31D072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39C-15EF-4B1F-BA6A-F3A29A55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7E86-6C1E-4BA8-A185-64E0B6A4B854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39B8-B1EC-49A7-8AD5-3BD2C5631D82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666E-6418-48CB-9A12-77523AF8F300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1D48-6044-4632-940E-A599E59B409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ED23-91B9-49A8-88A2-79EB73236FCD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348B-C542-4231-B556-FED8C1CEB0D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CA0B-A2F6-4E2A-AB9A-9138FC39B2CA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1C67-0A52-460B-9016-463C40FFD240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2F94-0052-45AB-BCAB-FCFE1B0B4E96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3452-C081-4207-A246-F125C4A40D41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7CE6-9274-475F-8BF5-310D495517D8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9843-4CB7-41A0-9D0A-91F58ADF9F82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0A8C-9691-42D0-8DAE-E420FAF16B64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6F9-B363-469B-A3AF-7CAA3BD596F7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ra has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alue of 200, Raff’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sition is chang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741D-37EA-4ECD-A74B-B8345667865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8153280" y="640080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2E0-4E72-47FB-9934-4A6DC4CAADEE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raff6.png"/>
          <p:cNvPicPr/>
          <p:nvPr/>
        </p:nvPicPr>
        <p:blipFill>
          <a:blip r:embed="rId2"/>
          <a:stretch/>
        </p:blipFill>
        <p:spPr>
          <a:xfrm>
            <a:off x="563400" y="2895480"/>
            <a:ext cx="3430800" cy="358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8"/>
          <p:cNvSpPr/>
          <p:nvPr/>
        </p:nvSpPr>
        <p:spPr>
          <a:xfrm>
            <a:off x="152280" y="5943600"/>
            <a:ext cx="15242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0" descr="cod3.png"/>
          <p:cNvPicPr/>
          <p:nvPr/>
        </p:nvPicPr>
        <p:blipFill>
          <a:blip r:embed="rId3"/>
          <a:stretch/>
        </p:blipFill>
        <p:spPr>
          <a:xfrm>
            <a:off x="4648320" y="762120"/>
            <a:ext cx="4114800" cy="58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functions setup( ) and draw( ) allow the Processing computations to be dynam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call that they work as follow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e Raphael run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A62B-C655-4489-B66A-8A1A72E59476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2E6A-2C17-45D5-BE13-0046CB42A7B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26"/>
          <p:cNvGrpSpPr/>
          <p:nvPr/>
        </p:nvGrpSpPr>
        <p:grpSpPr>
          <a:xfrm>
            <a:off x="3282840" y="3048120"/>
            <a:ext cx="1670040" cy="1676160"/>
            <a:chOff x="3282840" y="3048120"/>
            <a:chExt cx="1670040" cy="1676160"/>
          </a:xfrm>
        </p:grpSpPr>
        <p:sp>
          <p:nvSpPr>
            <p:cNvPr id="371" name="TextBox 6"/>
            <p:cNvSpPr/>
            <p:nvPr/>
          </p:nvSpPr>
          <p:spPr>
            <a:xfrm>
              <a:off x="3282840" y="3048120"/>
              <a:ext cx="138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etup(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7"/>
            <p:cNvSpPr/>
            <p:nvPr/>
          </p:nvSpPr>
          <p:spPr>
            <a:xfrm>
              <a:off x="3283200" y="3886200"/>
              <a:ext cx="128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raw(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3" name="Straight Arrow Connector 9"/>
            <p:cNvCxnSpPr/>
            <p:nvPr/>
          </p:nvCxnSpPr>
          <p:spPr>
            <a:xfrm>
              <a:off x="3885840" y="3504960"/>
              <a:ext cx="1080" cy="533880"/>
            </a:xfrm>
            <a:prstGeom prst="straightConnector1">
              <a:avLst/>
            </a:prstGeom>
            <a:ln w="47880">
              <a:solidFill>
                <a:srgbClr val="f0ad00"/>
              </a:solidFill>
              <a:miter/>
              <a:tailEnd len="med" type="arrow" w="med"/>
            </a:ln>
          </p:spPr>
        </p:cxnSp>
        <p:sp>
          <p:nvSpPr>
            <p:cNvPr id="374" name="Straight Connector 11"/>
            <p:cNvSpPr/>
            <p:nvPr/>
          </p:nvSpPr>
          <p:spPr>
            <a:xfrm>
              <a:off x="3886200" y="4419720"/>
              <a:ext cx="0" cy="30456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traight Connector 13"/>
            <p:cNvSpPr/>
            <p:nvPr/>
          </p:nvSpPr>
          <p:spPr>
            <a:xfrm>
              <a:off x="3886200" y="4724280"/>
              <a:ext cx="1066680" cy="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14"/>
            <p:cNvSpPr/>
            <p:nvPr/>
          </p:nvSpPr>
          <p:spPr>
            <a:xfrm flipV="1">
              <a:off x="4952880" y="3657240"/>
              <a:ext cx="0" cy="1066680"/>
            </a:xfrm>
            <a:prstGeom prst="line">
              <a:avLst/>
            </a:prstGeom>
            <a:ln w="4788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Straight Arrow Connector 19"/>
            <p:cNvCxnSpPr/>
            <p:nvPr/>
          </p:nvCxnSpPr>
          <p:spPr>
            <a:xfrm flipH="1">
              <a:off x="3885480" y="3657240"/>
              <a:ext cx="1067400" cy="1080"/>
            </a:xfrm>
            <a:prstGeom prst="straightConnector1">
              <a:avLst/>
            </a:prstGeom>
            <a:ln w="47880">
              <a:solidFill>
                <a:srgbClr val="f0ad00"/>
              </a:solidFill>
              <a:miter/>
              <a:tailEnd len="med" type="arrow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D4FE-7A3D-4F9A-8537-B183C6B9F2FC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95B6-A1F1-4299-9871-D6E83509200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raff11.png"/>
          <p:cNvPicPr/>
          <p:nvPr/>
        </p:nvPicPr>
        <p:blipFill>
          <a:blip r:embed="rId2"/>
          <a:stretch/>
        </p:blipFill>
        <p:spPr>
          <a:xfrm>
            <a:off x="685800" y="990720"/>
            <a:ext cx="4038480" cy="5746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raff8.png"/>
          <p:cNvPicPr/>
          <p:nvPr/>
        </p:nvPicPr>
        <p:blipFill>
          <a:blip r:embed="rId3"/>
          <a:stretch/>
        </p:blipFill>
        <p:spPr>
          <a:xfrm>
            <a:off x="4724280" y="1371600"/>
            <a:ext cx="4270320" cy="4457880"/>
          </a:xfrm>
          <a:prstGeom prst="rect">
            <a:avLst/>
          </a:prstGeom>
          <a:ln w="0">
            <a:noFill/>
          </a:ln>
        </p:spPr>
      </p:pic>
      <p:sp>
        <p:nvSpPr>
          <p:cNvPr id="385" name="Right Arrow 9"/>
          <p:cNvSpPr/>
          <p:nvPr/>
        </p:nvSpPr>
        <p:spPr>
          <a:xfrm>
            <a:off x="6172200" y="34290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6019920" y="5715000"/>
            <a:ext cx="152388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rt Raff off-screen to right, by initializing him to …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n make him move left by …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speed his movement up by …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F30B-B973-42F9-8B34-277F798FC56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2735-18F9-467C-934E-DCD4A29F0A23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3352680" y="3886200"/>
            <a:ext cx="15242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e 400 is enoug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hide him off scre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btracting mov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m lef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ng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r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y 2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eds him 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12AD-48BF-4953-A44C-5A69AC2AECAC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235D-C16C-4060-8141-D900B06B6BD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raff12.png"/>
          <p:cNvPicPr/>
          <p:nvPr/>
        </p:nvPicPr>
        <p:blipFill>
          <a:blip r:embed="rId2"/>
          <a:stretch/>
        </p:blipFill>
        <p:spPr>
          <a:xfrm>
            <a:off x="4648320" y="990720"/>
            <a:ext cx="3886200" cy="56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turn to Raff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add five ne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ariables of typ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e78410"/>
                </a:solidFill>
                <a:latin typeface="Corbel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… and ad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vertical di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DC5E-3BF8-49E6-B2D2-772BE1F4893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383D-F153-4C83-A68E-7ABD5C56436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raff2.png"/>
          <p:cNvPicPr/>
          <p:nvPr/>
        </p:nvPicPr>
        <p:blipFill>
          <a:blip r:embed="rId2"/>
          <a:stretch/>
        </p:blipFill>
        <p:spPr>
          <a:xfrm>
            <a:off x="4343400" y="990720"/>
            <a:ext cx="3352680" cy="57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want Raff to drop down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anslate his position by -15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d 1 to each new vari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ut, he doesn’t sto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212C-5203-40F8-B757-1DD53A74768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0F35-53CF-4038-91CE-7B1B9F533B6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685800" y="3733920"/>
            <a:ext cx="152388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raff3.png"/>
          <p:cNvPicPr/>
          <p:nvPr/>
        </p:nvPicPr>
        <p:blipFill>
          <a:blip r:embed="rId2"/>
          <a:srcRect l="0" t="15002" r="51338" b="22037"/>
          <a:stretch/>
        </p:blipFill>
        <p:spPr>
          <a:xfrm>
            <a:off x="6019920" y="1219320"/>
            <a:ext cx="2781360" cy="4317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raff4.png"/>
          <p:cNvPicPr/>
          <p:nvPr/>
        </p:nvPicPr>
        <p:blipFill>
          <a:blip r:embed="rId3"/>
          <a:stretch/>
        </p:blipFill>
        <p:spPr>
          <a:xfrm>
            <a:off x="2666880" y="3352680"/>
            <a:ext cx="2992680" cy="3124440"/>
          </a:xfrm>
          <a:prstGeom prst="rect">
            <a:avLst/>
          </a:prstGeom>
          <a:ln w="0">
            <a:noFill/>
          </a:ln>
        </p:spPr>
      </p:pic>
      <p:sp>
        <p:nvSpPr>
          <p:cNvPr id="413" name="Down Arrow 9"/>
          <p:cNvSpPr/>
          <p:nvPr/>
        </p:nvSpPr>
        <p:spPr>
          <a:xfrm>
            <a:off x="4114800" y="502920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6557040" y="5257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 the value of ra, say, changes, Raff’s position changes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sider changes [position </a:t>
            </a:r>
            <a:r>
              <a:rPr b="0" lang="en-US" sz="3200" spc="-1" strike="noStrike">
                <a:solidFill>
                  <a:srgbClr val="60b5cc"/>
                </a:solidFill>
                <a:latin typeface="Corbel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; ra </a:t>
            </a:r>
            <a:r>
              <a:rPr b="0" lang="en-US" sz="3200" spc="-1" strike="noStrike">
                <a:solidFill>
                  <a:srgbClr val="e66c7d"/>
                </a:solidFill>
                <a:latin typeface="Corbe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0 = 260+(-150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9 = -150 +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1 = 260+(-149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8 = -149 +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2 = 260+(-148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7 = -148 +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290D-F292-4D3F-986E-4C73E76B3FD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29FD-5052-4DEA-B059-C5D4E9275D9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raff2.png"/>
          <p:cNvPicPr/>
          <p:nvPr/>
        </p:nvPicPr>
        <p:blipFill>
          <a:blip r:embed="rId2"/>
          <a:srcRect l="0" t="57663" r="0" b="34268"/>
          <a:stretch/>
        </p:blipFill>
        <p:spPr>
          <a:xfrm>
            <a:off x="2971800" y="1828800"/>
            <a:ext cx="4389480" cy="609480"/>
          </a:xfrm>
          <a:prstGeom prst="rect">
            <a:avLst/>
          </a:prstGeom>
          <a:ln w="0">
            <a:noFill/>
          </a:ln>
        </p:spPr>
      </p:pic>
      <p:sp>
        <p:nvSpPr>
          <p:cNvPr id="421" name="TextBox 7"/>
          <p:cNvSpPr/>
          <p:nvPr/>
        </p:nvSpPr>
        <p:spPr>
          <a:xfrm>
            <a:off x="1756440" y="6019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4042440" y="2133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raff11.png"/>
          <p:cNvPicPr/>
          <p:nvPr/>
        </p:nvPicPr>
        <p:blipFill>
          <a:blip r:embed="rId3"/>
          <a:srcRect l="0" t="40147" r="0" b="55263"/>
          <a:stretch/>
        </p:blipFill>
        <p:spPr>
          <a:xfrm>
            <a:off x="2819520" y="2666880"/>
            <a:ext cx="465768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8052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off-set ra gets less and less negative, eventually getting t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59 = 260+-(1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0 = -1 +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60 = 260+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 = 0 +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want to stop when ra gets to 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, don’t d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 = ra+1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wri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 = min(0,ra+1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happens??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23F1-D48E-411C-9B2A-0FEDC111599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D783-031B-4306-9C47-12677F8F33D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1680120" y="4038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3809880" y="5715000"/>
            <a:ext cx="434340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n(a,b) gives the smaller of a,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0 = 260+(-150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9 =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min(0,-150 + 1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same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1 = 260+(-149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8 =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min(0,-149 + 1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same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12 = 260+(-148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47 =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min(0,-148 + 1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same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59 = 260+-(1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0 =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min(0,-1 + 1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o difference, the same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60 = 260+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0 =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min(0,0 + 1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tays at 0 … forever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5640-B846-4418-BC37-FC42F9C570E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E9CA-1CD0-4DF3-9B7D-DB2553F53532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1908720" y="3809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7"/>
          <p:cNvSpPr/>
          <p:nvPr/>
        </p:nvSpPr>
        <p:spPr>
          <a:xfrm>
            <a:off x="7467480" y="5638680"/>
            <a:ext cx="15242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4419720" y="1066680"/>
            <a:ext cx="434340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n(a,b) gives the smaller of a,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three basic ideas  to cover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y all interact … we’ll just start on these ideas toda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E9F9-7C61-4C79-959C-03F494CC421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DB3B-3A9F-48F4-856C-CD04ED7648B6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ode simpl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pplies the </a:t>
            </a:r>
            <a:r>
              <a:rPr b="0" lang="en-US" sz="3200" spc="-1" strike="noStrike">
                <a:solidFill>
                  <a:srgbClr val="e88651"/>
                </a:solidFill>
                <a:latin typeface="Courier New"/>
                <a:ea typeface="Courier New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 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F4C7-6B1F-41FE-AF2A-7F97591DA4C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37B0-9558-4199-A912-D461AC6615F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6" descr="raff5.png"/>
          <p:cNvPicPr/>
          <p:nvPr/>
        </p:nvPicPr>
        <p:blipFill>
          <a:blip r:embed="rId2"/>
          <a:srcRect l="0" t="14262" r="50344" b="20559"/>
          <a:stretch/>
        </p:blipFill>
        <p:spPr>
          <a:xfrm>
            <a:off x="4572000" y="1066680"/>
            <a:ext cx="350532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nge the amount Raff’s parts fall so he appears to reassembl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91EF-A3E9-47EA-BE54-1917AC8B747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9A9A-D8D8-47BB-92BD-CDF60E66736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raff7.png"/>
          <p:cNvPicPr/>
          <p:nvPr/>
        </p:nvPicPr>
        <p:blipFill>
          <a:blip r:embed="rId2"/>
          <a:stretch/>
        </p:blipFill>
        <p:spPr>
          <a:xfrm>
            <a:off x="457200" y="2362320"/>
            <a:ext cx="3936960" cy="41097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7" descr="raff6.png"/>
          <p:cNvPicPr/>
          <p:nvPr/>
        </p:nvPicPr>
        <p:blipFill>
          <a:blip r:embed="rId3"/>
          <a:stretch/>
        </p:blipFill>
        <p:spPr>
          <a:xfrm>
            <a:off x="4495680" y="2666880"/>
            <a:ext cx="4525920" cy="3276720"/>
          </a:xfrm>
          <a:prstGeom prst="rect">
            <a:avLst/>
          </a:prstGeom>
          <a:ln w="0">
            <a:noFill/>
          </a:ln>
        </p:spPr>
      </p:pic>
      <p:sp>
        <p:nvSpPr>
          <p:cNvPr id="452" name="TextBox 8"/>
          <p:cNvSpPr/>
          <p:nvPr/>
        </p:nvSpPr>
        <p:spPr>
          <a:xfrm>
            <a:off x="7467480" y="5638680"/>
            <a:ext cx="15242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324480" y="1905120"/>
            <a:ext cx="24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2400" spc="-1" strike="noStrike">
                <a:solidFill>
                  <a:srgbClr val="e88651"/>
                </a:solidFill>
                <a:latin typeface="Arial"/>
              </a:rPr>
              <a:t>flo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Straight Arrow Connector 11"/>
          <p:cNvCxnSpPr/>
          <p:nvPr/>
        </p:nvCxnSpPr>
        <p:spPr>
          <a:xfrm flipH="1">
            <a:off x="7771680" y="2361960"/>
            <a:ext cx="305640" cy="24390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day, we learned abou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riables … names for quantities that vary in the progr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types … forms of data like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gers,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g point numbers (decimal numbers),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, </a:t>
            </a:r>
            <a:r>
              <a:rPr b="0" lang="en-US" sz="2800" spc="-1" strike="noStrike">
                <a:solidFill>
                  <a:srgbClr val="e78410"/>
                </a:solidFill>
                <a:latin typeface="Corbel"/>
              </a:rPr>
              <a:t>boolean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clarations … statements that define what datatype variables are, as in </a:t>
            </a:r>
            <a:r>
              <a:rPr b="0" lang="en-US" sz="2800" spc="-1" strike="noStrike">
                <a:solidFill>
                  <a:srgbClr val="e88651"/>
                </a:solidFill>
                <a:latin typeface="Corbel"/>
              </a:rPr>
              <a:t>in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 = 0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we learned the </a:t>
            </a:r>
            <a:r>
              <a:rPr b="0" lang="en-US" sz="2800" spc="-1" strike="noStrike">
                <a:solidFill>
                  <a:srgbClr val="e88651"/>
                </a:solidFill>
                <a:latin typeface="Corbe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( ) fun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8873-4561-4CC1-92B9-01A0640CA10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71BF-6E3B-4E2B-A805-01B92F57650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DD2B-2F56-466E-B1D1-3D2F14F3288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F5A2-81A7-42D6-84F1-8CF62F521EE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raffFigure.png"/>
          <p:cNvPicPr/>
          <p:nvPr/>
        </p:nvPicPr>
        <p:blipFill>
          <a:blip r:embed="rId2"/>
          <a:stretch/>
        </p:blipFill>
        <p:spPr>
          <a:xfrm>
            <a:off x="3581280" y="1143000"/>
            <a:ext cx="5334120" cy="5568840"/>
          </a:xfrm>
          <a:prstGeom prst="rect">
            <a:avLst/>
          </a:prstGeom>
          <a:ln w="0">
            <a:noFill/>
          </a:ln>
        </p:spPr>
      </p:pic>
      <p:pic>
        <p:nvPicPr>
          <p:cNvPr id="316" name="Content Placeholder 2" descr="Screen Shot 2014-01-15 at 8.45.37 AM.png"/>
          <p:cNvPicPr/>
          <p:nvPr/>
        </p:nvPicPr>
        <p:blipFill>
          <a:blip r:embed="rId3"/>
          <a:srcRect l="0" t="-219" r="0" b="-1430"/>
          <a:stretch/>
        </p:blipFill>
        <p:spPr>
          <a:xfrm>
            <a:off x="152280" y="1150920"/>
            <a:ext cx="3581640" cy="57070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2"/>
          <p:cNvSpPr/>
          <p:nvPr/>
        </p:nvSpPr>
        <p:spPr>
          <a:xfrm>
            <a:off x="1371600" y="41911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1371600" y="47242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371600" y="51814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1371600" y="57913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1371600" y="62485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re names used in a program for quantities that vary … get it? Variables vary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, one thing we can do is give them valu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x = 12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x is the variable, and it’s being assigned the value 1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w, whenever I use the variable x, as 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y = x + 1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as if I had used its value (12) directly: y=12+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’s pretty obvious … but there’s more to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4689-13E4-4548-A1A8-8BEB6873C5A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5634-99CC-4FB0-85E7-826D896CF086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2133720" y="5943600"/>
            <a:ext cx="502920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aution: variables are NOT unkn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228240" y="1066680"/>
            <a:ext cx="624852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data that variables name has certain properties … we group information with similar properties into “types” 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gers, or whole numb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g point, usually called decimal numb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, a triple of numbers for R, G and B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AB7C-509F-4482-9D01-72B3929DE02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8925-52E3-49B1-AE37-01FECF75FF1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datatypes.tiff"/>
          <p:cNvPicPr/>
          <p:nvPr/>
        </p:nvPicPr>
        <p:blipFill>
          <a:blip r:embed="rId2"/>
          <a:stretch/>
        </p:blipFill>
        <p:spPr>
          <a:xfrm>
            <a:off x="6553080" y="1523880"/>
            <a:ext cx="2446560" cy="4765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cessing has a series of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atatyp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ost important datatypes for us 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e78410"/>
                </a:solidFill>
                <a:latin typeface="Arial"/>
                <a:ea typeface="Arial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e78410"/>
                </a:solidFill>
                <a:latin typeface="Arial"/>
                <a:ea typeface="Arial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e78410"/>
                </a:solidFill>
                <a:latin typeface="Arial"/>
                <a:ea typeface="Arial"/>
              </a:rPr>
              <a:t>boolean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3200" spc="-1" strike="noStrike">
                <a:solidFill>
                  <a:srgbClr val="e78410"/>
                </a:solidFill>
                <a:latin typeface="Arial"/>
                <a:ea typeface="Arial"/>
              </a:rPr>
              <a:t>col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dd more lat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Find details in the referen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5DF3-59AD-483D-9CB7-7C99154B7FC0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A47F-52E6-4459-85FE-8FDB33C5730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Screen Shot 2014-01-10 at 3.00.12 PM.png"/>
          <p:cNvPicPr/>
          <p:nvPr/>
        </p:nvPicPr>
        <p:blipFill>
          <a:blip r:embed="rId2"/>
          <a:srcRect l="5503" t="17560" r="5274" b="11614"/>
          <a:stretch/>
        </p:blipFill>
        <p:spPr>
          <a:xfrm>
            <a:off x="1219320" y="3733920"/>
            <a:ext cx="662940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Processing (and all languages) need to know the types of data you are working wi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We tell them the type by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declaring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 a variable’s datatyp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When declaring variables we list them after the type, as 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5b1b"/>
                </a:solidFill>
                <a:latin typeface="Corbel"/>
                <a:ea typeface="Arial"/>
              </a:rPr>
              <a:t>in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x, y, z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5b1b"/>
                </a:solidFill>
                <a:latin typeface="Corbel"/>
                <a:ea typeface="Arial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 half_step = 0.5, whole = 1.0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5b1b"/>
                </a:solidFill>
                <a:latin typeface="Corbel"/>
                <a:ea typeface="Aria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 yellow = </a:t>
            </a:r>
            <a:r>
              <a:rPr b="0" lang="en-US" sz="2800" spc="-1" strike="noStrike">
                <a:solidFill>
                  <a:srgbClr val="cf5b1b"/>
                </a:solidFill>
                <a:latin typeface="Corbel"/>
                <a:ea typeface="Aria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(200,200,0)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D78C-54C4-4DED-B1CC-C76F07612B7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ED4A-0550-4508-81AA-6C072DEA944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380520" y="12189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ariables are case sensit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841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Side, left_side, leftside; // declare 3 va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Variables can be initializ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8410"/>
                </a:solidFill>
                <a:latin typeface="Courier New"/>
                <a:ea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erature = 98.6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eclare &amp; initializ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Variables names are meaningless to computers, but meaningful to people … don’t l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8410"/>
                </a:solidFill>
                <a:latin typeface="Courier New"/>
                <a:ea typeface="Courier New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yWhite = </a:t>
            </a:r>
            <a:r>
              <a:rPr b="1" lang="en-US" sz="2000" spc="-1" strike="noStrike">
                <a:solidFill>
                  <a:srgbClr val="e78410"/>
                </a:solidFill>
                <a:latin typeface="Courier New"/>
                <a:ea typeface="Courier New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0,0,0); //White … ha, ha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Variables are declared at top of a progra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681B-69E7-45BB-AFD3-15516B2B4F3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9E11-51AB-4E71-92FB-892DA6A8881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aphael gets a v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dding the variabl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alue (0) to ea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rizontal pos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sults in no chan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1667-3C23-4801-B6C2-2CBFA31E54E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21E4-4371-4D3B-9B3A-9E698A0E2483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raffFigure.png"/>
          <p:cNvPicPr/>
          <p:nvPr/>
        </p:nvPicPr>
        <p:blipFill>
          <a:blip r:embed="rId2"/>
          <a:stretch/>
        </p:blipFill>
        <p:spPr>
          <a:xfrm>
            <a:off x="914400" y="4267080"/>
            <a:ext cx="2225520" cy="2324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code1.png"/>
          <p:cNvPicPr/>
          <p:nvPr/>
        </p:nvPicPr>
        <p:blipFill>
          <a:blip r:embed="rId3"/>
          <a:stretch/>
        </p:blipFill>
        <p:spPr>
          <a:xfrm>
            <a:off x="4419720" y="533520"/>
            <a:ext cx="42228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6:40:34Z</dcterms:created>
  <dc:creator>Information School</dc:creator>
  <dc:description/>
  <dc:language>en-US</dc:language>
  <cp:lastModifiedBy>Larry Snyder</cp:lastModifiedBy>
  <cp:lastPrinted>2014-01-15T19:01:16Z</cp:lastPrinted>
  <dcterms:modified xsi:type="dcterms:W3CDTF">2014-05-13T19:46:50Z</dcterms:modified>
  <cp:revision>133</cp:revision>
  <dc:subject/>
  <dc:title>Welcome to FIT100</dc:title>
</cp:coreProperties>
</file>