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F2AB-2881-48F9-BED8-1791D0BFD2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F7E1-2A28-44E2-90C7-5B440A9E66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in a de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A472-4ADB-4F74-B6AC-890BFAAF8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 of cod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EEF5-F451-48C8-8FF9-1C510E436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F4C-BA94-4C86-A571-A9503E4F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4C7-EECE-4BC8-A04F-8DE3F225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123-FBEC-45D4-97D4-BBD07A6D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C26-B529-4461-96CE-71310069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5205-5258-4358-81E5-1C629FC6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8AE9-62CA-4A0B-99B3-4D3590D2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7F4F-6B38-4F19-A154-B23273F1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C8CC-7275-4087-B891-36501C46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441F-2E54-4859-AB9C-48D8D064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29B9-DCAB-4A90-8048-9016BD47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7414-8EA3-4DF1-9CAA-3F6ECA5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D61-1CD0-4382-B77A-09F3106E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CBF8-F883-4754-BEA7-CDEB87E9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6476-C294-4F1C-8F1C-75256119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7A5D-A05A-456D-8C17-EB86D242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C7F7-C8B0-4453-9B1B-28F92E22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3E84-6432-49BF-8A6E-739EFB7F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7373-2B67-44E7-B382-850EEB04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D996-701F-49B8-9F24-66EED17F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5E9F5-9A39-480E-B306-DC56BCFF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70CD-F7D7-411D-B8DB-CA8965FE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24E3-47F9-45EB-8049-693DC772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EDC-8330-46AE-A1A2-5DEBA567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DC20-AA2A-4EF6-8A1C-F456CA18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5E3A-9BA5-4D1C-AECC-AC9C64D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339F-8C59-4EF8-8C6C-6459F46F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1388-65B5-488B-90D1-6D0C6E34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5F3F-D110-4FB8-AD04-D29AD627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5F49-1B93-40F5-A600-2902EABE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9960-750E-46C6-8B73-0C80CFF6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FC536-FB9B-40FE-B555-4C25A947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D9F1B-60D7-43B0-979D-A613D0F0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A480D-E5FA-4858-BDFA-01FCF612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23B-13AE-4F79-A68B-70EE0D4F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458AF-689C-486C-BD92-147DDD5D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E017-55CA-4A05-ABA5-88D5D63B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3685-5D6D-4474-95E9-478294A7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1DC45-7B44-483B-9BAE-B9C72229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EF962-F517-4EBE-88DA-60921936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135D-7B09-4BA3-A21B-BAA2FCC6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31F3E-624A-4704-933C-53412E0E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EF30F-81D9-4D6E-B9D6-BF5E7E9F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CBEB-0144-4C6B-8160-926DF280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44E1-9564-492E-83C0-2B4E9A73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1B1-18AF-4A07-8D93-8EF48D4E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03C1B-8206-4868-9B0A-9A6CFBEC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628F3-EFF3-437B-B4B6-0B46AEA1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A42BF-4125-4BF5-91DC-8B2220B9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543A9-F62A-4A8B-A464-63926FA8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C8C0E-4535-456D-93C4-FDDFE5AA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9761C-11F3-4DA4-8516-E2F5780B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57F66-E4F8-47DA-B7C2-6C60667C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80134-1134-4FBE-8AFB-4F1DEAC6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99E1C-5F35-473E-8204-DC2D2F88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805E-3411-4B52-82D3-33F5B308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FAF-A87C-46A9-8CEC-F7FF1004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6D193-2B0A-44F6-9484-71B3A199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56886-19D7-4C3F-ADF3-49620C54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35E0D-C13E-49B8-913F-D1787D0F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9004B-7C2F-4A5F-A994-5138329C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00BD0-DBD4-4966-9B2A-8ECD9A8E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EB78-F5C5-475A-8B33-B7A22581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0808E-0E70-43F5-8A77-88EB1D11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1E425-E5CE-4914-9F2E-90BFEE48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EC50B-76F4-414E-BA1F-03F51DBB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BEA08-F3F2-4A06-94BE-B9F6C9B2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831-DFE1-42BF-BC36-84BE566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26AFC-F727-448A-BB70-95982DB6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0C0D4-DD38-4C67-9D51-F68091C4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2C524-A60C-4C88-A454-184D6366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3CCDF-871C-47EB-A139-5E33A997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B775-E7B5-48AF-9D6C-AE6E36B6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22391-0DA8-4BC7-A176-488738BA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85E45-0104-4047-A0D9-BE98AB8C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91D0-B4F5-4FC3-A957-A62304D1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EF4F3-8A4E-4AE9-9123-905C3F12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B52FB-9DF5-4A6B-8713-805ED445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FA8-27C2-40B6-B6D5-5F162C06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265AF-4ACC-4012-BF2A-EBC3647F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1C0CB-30A0-4A5F-BCF1-688A7F63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D06B4-5B68-4143-9603-500A2AAA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CBCC7-6AF3-4853-AA02-B907E9EB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4414F-F816-4094-B97E-826658DF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071-0C64-4A26-828A-E4C9341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DD84-734F-4330-B43B-CA1831D9730A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D557-BC93-407F-9A74-268E97213B67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72B3-5F0D-452B-9FB8-232E64116015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846B-5F26-4895-B9F2-C96C8C1256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B65A-A08A-40B5-BAFF-9390E41276C8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3E1D-2510-446E-AD32-5DDFF92EF2D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035A-01EE-4721-B00B-2F80A69C390B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DF8F-74C8-480F-B232-50AEEE48C8E8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ED8D-B847-4A02-9342-28E4592C6DCC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86E8-ED1C-461D-A704-181D46300D9E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F482-C619-46C5-B01A-2BD5F8D6D4D7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5CDF-3DA6-416C-9542-81F5F4BACD2B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A6A3-FB8B-42D8-B97A-B204B624CA7D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E981-E4B7-4D9B-A8FB-F0FDC6085159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processing.org/download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554400" y="533520"/>
            <a:ext cx="54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ictures … It’s not art, it’s f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the values for RGB are all the same, it’s some color of gray, or white, or bla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nce wri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(255,255,255)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kind of a drag, Processing allows us to give just one argument; s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(255)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equivalent to giving all thre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colors are these background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(255,0,0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(64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(0,0,64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5D32-3986-4D0C-AB83-3E8BBACA96CF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9CAA-2565-4D48-916B-D712C05B3A5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30492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as and Fry, in their book, show us a cute robot they programmed using simple shap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y give their co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we can see how the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ilt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make the point th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all code must “mak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nse”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its not gibberish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s look at it even thoug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don’t know Process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e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7257-1FBF-4EAC-AF05-030B1058AB4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2B00-DE29-4194-9DEF-E3B5656FD76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robot1.tiff"/>
          <p:cNvPicPr/>
          <p:nvPr/>
        </p:nvPicPr>
        <p:blipFill>
          <a:blip r:embed="rId2"/>
          <a:srcRect l="15558" t="11137" r="38967" b="8121"/>
          <a:stretch/>
        </p:blipFill>
        <p:spPr>
          <a:xfrm>
            <a:off x="5334120" y="2209680"/>
            <a:ext cx="34480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40CF-22D2-469B-829F-3859D9484C8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D1D7-CEC0-43E1-9721-9EE31EE0E11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codeRobot1.tiff"/>
          <p:cNvPicPr/>
          <p:nvPr/>
        </p:nvPicPr>
        <p:blipFill>
          <a:blip r:embed="rId2"/>
          <a:srcRect l="0" t="0" r="0" b="57781"/>
          <a:stretch/>
        </p:blipFill>
        <p:spPr>
          <a:xfrm>
            <a:off x="152280" y="1219320"/>
            <a:ext cx="7637760" cy="5257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robot1.tiff"/>
          <p:cNvPicPr/>
          <p:nvPr/>
        </p:nvPicPr>
        <p:blipFill>
          <a:blip r:embed="rId3"/>
          <a:srcRect l="15558" t="11137" r="38967" b="8121"/>
          <a:stretch/>
        </p:blipFill>
        <p:spPr>
          <a:xfrm>
            <a:off x="5334120" y="1905120"/>
            <a:ext cx="36939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617A-4913-4C8B-B209-B2DB733D92B4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A23D-27CB-410A-A9CE-680F6261386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6" descr="codeRobot1.tiff"/>
          <p:cNvPicPr/>
          <p:nvPr/>
        </p:nvPicPr>
        <p:blipFill>
          <a:blip r:embed="rId2"/>
          <a:srcRect l="0" t="41112" r="0" b="12245"/>
          <a:stretch/>
        </p:blipFill>
        <p:spPr>
          <a:xfrm>
            <a:off x="228600" y="1219320"/>
            <a:ext cx="6813720" cy="51814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robot1.tiff"/>
          <p:cNvPicPr/>
          <p:nvPr/>
        </p:nvPicPr>
        <p:blipFill>
          <a:blip r:embed="rId3"/>
          <a:srcRect l="15558" t="11137" r="38967" b="8121"/>
          <a:stretch/>
        </p:blipFill>
        <p:spPr>
          <a:xfrm>
            <a:off x="5257800" y="1219320"/>
            <a:ext cx="34480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prove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he robot by adding some col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8425-E8CE-47D3-8B7D-F6D351F3BBEF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A369-2776-4890-AD51-BF8EEB989A4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colorRobot.tiff"/>
          <p:cNvPicPr/>
          <p:nvPr/>
        </p:nvPicPr>
        <p:blipFill>
          <a:blip r:embed="rId2"/>
          <a:srcRect l="16668" t="9364" r="35002" b="6975"/>
          <a:stretch/>
        </p:blipFill>
        <p:spPr>
          <a:xfrm>
            <a:off x="4572000" y="1905120"/>
            <a:ext cx="3787920" cy="4572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952560" y="5753160"/>
            <a:ext cx="218448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Just 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’s our main programming langu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cessing” is kind of a dumb name,* but it is a good (and fun) langu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’s a language for programming graphical and image-based comput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re fun than programming an operating syste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asier to do because we “see” what’s happen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’s real – fun now, great prep for futu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* Really really dumb, actuall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F990-5B79-4EC2-B1F0-D559F91EEAA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F7B0-8E1F-4643-9F8D-F31C079A923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you have a personal computer that is convenient to do homework on, then grab a copy of the Processing system and put it on your machine … improve your convenience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ab it at: </a:t>
            </a: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processing.org/download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will want “Windows” or “Mac” vers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llowing installation instructions … it takes less than 5 minutes and then you can work on your own computer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CC87-0C1A-45E7-9496-CA884CC6ACE5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2058-5FB7-45F8-A2FF-C107A3C0476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you start up the Processing system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69A5-AC8F-4811-A8AA-4100019C2A74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F9AD-C8AF-4269-9C68-6B6AFB60701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processing1.gif"/>
          <p:cNvPicPr/>
          <p:nvPr/>
        </p:nvPicPr>
        <p:blipFill>
          <a:blip r:embed="rId2"/>
          <a:stretch/>
        </p:blipFill>
        <p:spPr>
          <a:xfrm>
            <a:off x="1155600" y="2031840"/>
            <a:ext cx="3321000" cy="39625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7"/>
          <p:cNvSpPr/>
          <p:nvPr/>
        </p:nvSpPr>
        <p:spPr>
          <a:xfrm>
            <a:off x="1177560" y="599436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processing1.gif"/>
          <p:cNvPicPr/>
          <p:nvPr/>
        </p:nvPicPr>
        <p:blipFill>
          <a:blip r:embed="rId3"/>
          <a:srcRect l="857" t="725" r="63009" b="84863"/>
          <a:stretch/>
        </p:blipFill>
        <p:spPr>
          <a:xfrm>
            <a:off x="4889520" y="3403440"/>
            <a:ext cx="3200400" cy="152424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/>
          <p:cNvSpPr/>
          <p:nvPr/>
        </p:nvSpPr>
        <p:spPr>
          <a:xfrm>
            <a:off x="4856040" y="26161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5198760" y="2901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5853240" y="2616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4"/>
          <p:cNvSpPr/>
          <p:nvPr/>
        </p:nvSpPr>
        <p:spPr>
          <a:xfrm>
            <a:off x="6342840" y="29019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5"/>
          <p:cNvSpPr/>
          <p:nvPr/>
        </p:nvSpPr>
        <p:spPr>
          <a:xfrm>
            <a:off x="6837840" y="26161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6"/>
          <p:cNvSpPr/>
          <p:nvPr/>
        </p:nvSpPr>
        <p:spPr>
          <a:xfrm>
            <a:off x="7409880" y="29019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20"/>
          <p:cNvCxnSpPr/>
          <p:nvPr/>
        </p:nvCxnSpPr>
        <p:spPr>
          <a:xfrm flipH="1">
            <a:off x="5617440" y="3252600"/>
            <a:ext cx="3960" cy="6102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39" name="Straight Arrow Connector 21"/>
          <p:cNvCxnSpPr/>
          <p:nvPr/>
        </p:nvCxnSpPr>
        <p:spPr>
          <a:xfrm>
            <a:off x="5168880" y="3003120"/>
            <a:ext cx="7200" cy="8262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40" name="Straight Arrow Connector 32"/>
          <p:cNvCxnSpPr/>
          <p:nvPr/>
        </p:nvCxnSpPr>
        <p:spPr>
          <a:xfrm flipH="1">
            <a:off x="6709680" y="3227040"/>
            <a:ext cx="3960" cy="6102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41" name="Straight Arrow Connector 33"/>
          <p:cNvCxnSpPr/>
          <p:nvPr/>
        </p:nvCxnSpPr>
        <p:spPr>
          <a:xfrm>
            <a:off x="6191280" y="3022200"/>
            <a:ext cx="7200" cy="8262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42" name="Straight Arrow Connector 34"/>
          <p:cNvCxnSpPr/>
          <p:nvPr/>
        </p:nvCxnSpPr>
        <p:spPr>
          <a:xfrm>
            <a:off x="7200000" y="3047760"/>
            <a:ext cx="6840" cy="8262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43" name="Straight Arrow Connector 36"/>
          <p:cNvCxnSpPr/>
          <p:nvPr/>
        </p:nvCxnSpPr>
        <p:spPr>
          <a:xfrm flipH="1">
            <a:off x="7662240" y="3240000"/>
            <a:ext cx="3960" cy="61056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44" name="TextBox 37"/>
          <p:cNvSpPr/>
          <p:nvPr/>
        </p:nvSpPr>
        <p:spPr>
          <a:xfrm>
            <a:off x="5353920" y="49021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684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ype in instructions that you will learn short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n run your progra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9002-B2A5-4A5C-A6FE-D8C5D6CD0F70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B051-D325-4C45-9840-3B761587E1B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angelcode.png"/>
          <p:cNvPicPr/>
          <p:nvPr/>
        </p:nvPicPr>
        <p:blipFill>
          <a:blip r:embed="rId2"/>
          <a:srcRect l="0" t="0" r="29066" b="43711"/>
          <a:stretch/>
        </p:blipFill>
        <p:spPr>
          <a:xfrm>
            <a:off x="152280" y="1752480"/>
            <a:ext cx="4213440" cy="4038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angel.png"/>
          <p:cNvPicPr/>
          <p:nvPr/>
        </p:nvPicPr>
        <p:blipFill>
          <a:blip r:embed="rId3"/>
          <a:stretch/>
        </p:blipFill>
        <p:spPr>
          <a:xfrm>
            <a:off x="4343400" y="2133720"/>
            <a:ext cx="4419720" cy="46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44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awing a snow angel is straightforward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B32D-456F-4750-8229-9455C5540B0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B29F-671C-4854-B430-07EC78185F7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next2.png"/>
          <p:cNvPicPr/>
          <p:nvPr/>
        </p:nvPicPr>
        <p:blipFill>
          <a:blip r:embed="rId2"/>
          <a:srcRect l="0" t="0" r="40446" b="44817"/>
          <a:stretch/>
        </p:blipFill>
        <p:spPr>
          <a:xfrm>
            <a:off x="304920" y="1828800"/>
            <a:ext cx="4179600" cy="4648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8"/>
          <p:cNvSpPr/>
          <p:nvPr/>
        </p:nvSpPr>
        <p:spPr>
          <a:xfrm>
            <a:off x="1143000" y="5410080"/>
            <a:ext cx="2184480" cy="5209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Just 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next1.png"/>
          <p:cNvPicPr/>
          <p:nvPr/>
        </p:nvPicPr>
        <p:blipFill>
          <a:blip r:embed="rId3"/>
          <a:stretch/>
        </p:blipFill>
        <p:spPr>
          <a:xfrm>
            <a:off x="4191120" y="1752480"/>
            <a:ext cx="462276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1522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ice everything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8012-D8BA-4369-85F1-6A23787C3B7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Screen Shot 2014-01-13 at 10.40.25 AM.png"/>
          <p:cNvPicPr/>
          <p:nvPr/>
        </p:nvPicPr>
        <p:blipFill>
          <a:blip r:embed="rId2"/>
          <a:stretch/>
        </p:blipFill>
        <p:spPr>
          <a:xfrm>
            <a:off x="380880" y="1676520"/>
            <a:ext cx="6188040" cy="48765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7"/>
          <p:cNvSpPr/>
          <p:nvPr/>
        </p:nvSpPr>
        <p:spPr>
          <a:xfrm>
            <a:off x="3733920" y="1676520"/>
            <a:ext cx="5257800" cy="3660120"/>
          </a:xfrm>
          <a:prstGeom prst="rect">
            <a:avLst/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Functions, One Common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9191"/>
                </a:solidFill>
                <a:latin typeface="Arial"/>
              </a:rPr>
              <a:t>vo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( ) 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symbols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acement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statement ends with a semicolon (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ftware colors text it understands – help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functions include stuff inside parentheses; these are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gu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function has arguments, each position has a specific meaning: </a:t>
            </a:r>
            <a:r>
              <a:rPr b="0" lang="en-US" sz="1800" spc="-1" strike="noStrike">
                <a:solidFill>
                  <a:srgbClr val="dd9191"/>
                </a:solidFill>
                <a:latin typeface="Arial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9191"/>
                </a:solidFill>
                <a:latin typeface="Arial"/>
              </a:rPr>
              <a:t>stro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r cursor is by a closing parenthesis or brace, the matching parenthesis or brace is highl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7C1C-7D4C-4FDC-9846-D73E3C9A4BB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8"/>
          <p:cNvSpPr/>
          <p:nvPr/>
        </p:nvSpPr>
        <p:spPr>
          <a:xfrm>
            <a:off x="685800" y="5867280"/>
            <a:ext cx="4495680" cy="642600"/>
          </a:xfrm>
          <a:prstGeom prst="rect">
            <a:avLst/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s are highlighted in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is case sensitive; noti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30492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ors in most Web programming are given as three values in [0,255]: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R</a:t>
            </a:r>
            <a:r>
              <a:rPr b="0" lang="en-US" sz="3200" spc="-1" strike="noStrike">
                <a:solidFill>
                  <a:srgbClr val="00ff80"/>
                </a:solidFill>
                <a:latin typeface="Corbel"/>
              </a:rPr>
              <a:t>G</a:t>
            </a:r>
            <a:r>
              <a:rPr b="0" lang="en-US" sz="3200" spc="-1" strike="noStrike">
                <a:solidFill>
                  <a:srgbClr val="0000ff"/>
                </a:solidFill>
                <a:latin typeface="Corbe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for red, green, blu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olor Purple, for example, is: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en-US" sz="3200" spc="-1" strike="noStrike">
                <a:solidFill>
                  <a:srgbClr val="882389"/>
                </a:solidFill>
                <a:latin typeface="Corbel"/>
              </a:rPr>
              <a:t>128,0,128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se positions are the intensity of the little lights that make up a pixel on the scre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least intensity is 0, that is, off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greatest intensity is 255, maximum brightn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mazingly, the three max RGB colors make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, purple is ½ intensity of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d, no </a:t>
            </a:r>
            <a:r>
              <a:rPr b="0" lang="en-US" sz="2800" spc="-1" strike="noStrike">
                <a:solidFill>
                  <a:srgbClr val="00ff80"/>
                </a:solidFill>
                <a:latin typeface="Corbe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en, and  ½ intensity of </a:t>
            </a:r>
            <a:r>
              <a:rPr b="0" lang="en-US" sz="2800" spc="-1" strike="noStrike">
                <a:solidFill>
                  <a:srgbClr val="0000ff"/>
                </a:solidFill>
                <a:latin typeface="Corbe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ue … makes sen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0D08-6FE1-47EA-9B0F-DAE2B8DC31B6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D544-7BD2-42D3-A5F4-283EED0AC9A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0492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angel is blue on a white background specified by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(255,255,255);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ich mean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roke sets line color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ke(0,0,255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Courier New"/>
              </a:rPr>
              <a:t>Suppose it’s a Husky ang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Courier New"/>
              </a:rPr>
              <a:t>on white snow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roke sets object’s color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ke(128, 0, 128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3BA9-6471-43CA-83FA-91A7467AD66C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4CD6-4DAD-45DD-8918-EC6D9371AE65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Screen Shot 2014-01-13 at 10.43.48 AM.png"/>
          <p:cNvPicPr/>
          <p:nvPr/>
        </p:nvPicPr>
        <p:blipFill>
          <a:blip r:embed="rId2"/>
          <a:srcRect l="1020" t="4983" r="3693" b="7002"/>
          <a:stretch/>
        </p:blipFill>
        <p:spPr>
          <a:xfrm>
            <a:off x="5181480" y="3276720"/>
            <a:ext cx="3594240" cy="343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7:43:09Z</dcterms:created>
  <dc:creator>Information School</dc:creator>
  <dc:description/>
  <dc:language>en-US</dc:language>
  <cp:lastModifiedBy>Larry Snyder</cp:lastModifiedBy>
  <dcterms:modified xsi:type="dcterms:W3CDTF">2014-05-14T20:11:05Z</dcterms:modified>
  <cp:revision>92</cp:revision>
  <dc:subject/>
  <dc:title>Welcome to FIT100</dc:title>
</cp:coreProperties>
</file>