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5A2AB-DC3F-46FE-A93F-EB82AD58FB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move the slide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B9724-F524-446E-9FA3-B301B9EE145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C95C1-9058-448B-A590-C31C30CCF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2E2E0-A03A-4D71-8A96-E1320960C3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90BD-DCEC-43DE-BC7D-B2D6B9CAE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95FA6-0EE3-4B82-AFE1-0BAA57A4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0306-2903-4E0A-9467-B68CA182C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0DBF3-856C-446F-803F-53047D0766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EBE5E-0F8D-41EC-8642-62DF8DB6A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75637-DA40-47EB-BA08-2A24F4BC9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A5291-CBB1-45A0-8254-25A5F0ED6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D4173-67C5-48BF-9EE5-8BB16D363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FAA34-C9C2-4684-9519-EE1D0E73E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9D7AD-73DA-458C-9B88-FF63ECC9A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2FE22-FF67-45A3-A96A-F5A4C8819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5BE-A1A1-4BAA-9C6E-C57571DBF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EC31-3FDE-4F0A-8E93-2BB72FF6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05B1-A3A3-4A8D-9DBE-5381443F6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CA5F00-2FA9-4EDA-B6FC-448708EB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B3953-4A88-4D47-AD6C-0707FC80F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BB389-BD06-4E61-85AF-2ECDFDEC1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CD5C8-72D6-47E0-82A3-ABEDE2CAF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CD4EDB-71DB-4DF3-86CE-48339FE36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4417CF-B2CF-4FE1-AAE8-B858BB60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DC8B95-E5FF-44D0-8ADC-1FD18272B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4978F9-DB4D-416A-916B-23CDF3C56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4D4D-43E0-4640-9061-A3A3E4CD9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FB85A-3F43-4B66-AAAB-BC6D4461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43B44-BDBE-417B-9C5F-7630E887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3C1F30-D354-435C-AFEB-1DC8E7A80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8692F1-1660-431F-9666-BE437C50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8735CB-5B00-4F46-9404-E08889913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199241-3479-4DCC-9FAF-CD01DFCD6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A2C0C-2C49-419C-813E-8B3D4F6FE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910AE-993A-4657-BED1-0760CFF6D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300D7-E626-4413-86AF-EA437EE3B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6DB116-CB6F-4305-81A8-940EA58DD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71C2-7D12-460A-86A8-4C2E9AB15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6FEC68-8D9D-428A-8585-638BB04F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C9617-459C-48FF-9920-E668023EC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09EBC1-8401-4BF8-9DA7-3436FC50C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24D1AFE-A5D8-4410-ADB9-3A14F72B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2A6B2C-655A-42E5-BA44-C1F9F48E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61542F-947A-49C8-BA9B-AB9DF78E6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2FA981-B9A2-4AB1-9DBE-5F6798C5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43B14-DE96-4A14-8011-2BEAC575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8895B4-8934-4EB8-81FA-6FABA8E69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406C02-E98D-471E-8902-B3C2ED1A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C93D-2855-4979-9FB6-1D0562411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CC0A45-83B7-45C5-8E2A-8D09C20A1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7B4EE6-FC6D-4994-B01A-8E89BEF46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F7251D-AFAA-4D94-8EE4-E0210E4F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C2805-136F-4D1D-83F9-589562FEC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3A30D0-82A8-4592-8C84-B225E5C2C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74A117-FD1F-4EE3-9E4D-B7CDCB96B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18ACC8-C060-4499-A432-1849691E5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E6726B-19BD-48CF-BE69-22CBB9A57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BEBFA6-5CF3-4AD8-B3A3-43C7182F5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0AABE-0DAD-46FB-B051-DCD011F35C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DF8D8-290D-4689-9416-2A40F37E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4FDAAB-656E-4DF4-A9C1-91208073C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314EE8-9E22-445E-8F45-BA691D6DF8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EE6F65-30D7-4AE1-81C2-A3DEF2819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57F373-76D8-4956-94E0-6BD46AEC4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E86907-EEA4-41FE-975E-14D53319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3B8746-4FDB-464B-B257-B439218B1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FFBC38-125C-432F-A3EA-06238F5D5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8AD3C8-C705-4A91-A2F0-5B5811BAA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9F67A9-AE38-468E-B2C4-FCB75453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7528D0-F144-4762-B08E-0F832805D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4C65-926E-48FE-AAC3-9BAD4DA81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4F2830-BF3E-4E68-BC33-BF0E6A7A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BDA8F9-AFB1-42D2-AF05-A19CB5466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A4F765-B9BE-474C-8EBD-2AC1D0BB05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8691A6-F17A-4F0A-8AAF-D0579F041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9E4333-48F2-448C-B6A6-98E608550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947BF-17A0-4524-952A-C26FB3FA7C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1C3CD7-C3AB-48EE-961C-3A609756B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EF82A15-0FD8-4D30-BC9D-419924704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627391-D11F-4BE1-B69B-3FC740A78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D18CA9-83D3-4096-817F-9304408ED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BAEC3-943D-4554-912B-2A6879E6C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13D49-67AC-4E44-B7BA-0AA0B87A7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107388-E2D6-4938-A87C-43FF03ECD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540523-91F6-4548-9738-A1AA6F998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55CEED-8CC4-4518-BC2F-34BA2EA09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7E3B8-7ACC-4A76-A03D-FD383E768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9353-E636-4537-A0D6-9210E918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011E-0E3D-4881-BABC-4B88B2655442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93C9C-9EF1-44F2-ACBA-783CCF5F82F0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8146A-3DFC-41F3-80E1-05FE4EE9E4F5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C4BBF-BCD8-4811-A458-C6590CD1E206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DB381-36F4-4D15-B29C-10837B7645A6}" type="datetime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0A153-DC60-459B-B414-1288E24B8D92}" type="slidenum">
              <a:rPr b="0" lang="en-US" sz="1200" spc="-1" strike="noStrike">
                <a:solidFill>
                  <a:srgbClr val="fffff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0BBC8-F513-49C2-8DE9-3F6AD01C45CA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6887D-3A97-4957-A613-130BB3EB5ACA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D3A0E-6EFB-4943-98B4-69F43FF297B7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AC1B-AD5B-4B26-9647-DB44C86FEF8D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0D306-7542-49E8-ADAB-0E8AA3FFF828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B1237-945B-474D-BE39-601A4EB323BE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1FF97-F513-4CCF-973E-0D8EEE0FE153}" type="datetime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172BD-8D80-495A-AC5C-BB9DF9CA8703}" type="slidenum">
              <a:rPr b="0" lang="en-US" sz="1200" spc="-1" strike="noStrike">
                <a:solidFill>
                  <a:srgbClr val="3f3f3f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11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2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Box 4"/>
          <p:cNvSpPr/>
          <p:nvPr/>
        </p:nvSpPr>
        <p:spPr>
          <a:xfrm>
            <a:off x="545400" y="533520"/>
            <a:ext cx="277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 underway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limited repertoire is a fact of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al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computing, but how limited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 computer’s circuitry (the hardware) has very few instructions … usually about 100, and many are just different versions of the same idea: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_2_byte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_2_int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_2_decimal_numbers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etc.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241D7-FBB9-4384-AC1A-0DD0CDE7092D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43B168-C3CE-4742-825F-42F5AD408FA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Rounded Rectangle 6"/>
          <p:cNvSpPr/>
          <p:nvPr/>
        </p:nvSpPr>
        <p:spPr>
          <a:xfrm>
            <a:off x="611280" y="4950000"/>
            <a:ext cx="7889760" cy="1231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In theory, a computer with only 6 instructions could compute all known computa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702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amming would be amazingly tedious if all programming had to use only the basic instructions – I mean REALLY REALLY tedio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No one would be a programmer no matter how much it pai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pps as we know them would not exis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TW programming was like this in the beginn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45360" indent="-21708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is is why they are called the “bad old days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Luckily, there are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function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7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3A2A9-1A1B-4DB0-A285-DCF79E7D6483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2411C-0AC0-4D4F-810D-6EADC1775BE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 txBox="1"/>
          <p:nvPr/>
        </p:nvSpPr>
        <p:spPr>
          <a:xfrm>
            <a:off x="457200" y="11221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make new instructions using functions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1( ) packages actions: E.G.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cess a riser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B39D95-BB6F-4176-BE39-55112FB3DDDF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F19CC-4792-46E5-AA7E-15FEDDC4992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Picture 6" descr="lightbot6.gif"/>
          <p:cNvPicPr/>
          <p:nvPr/>
        </p:nvPicPr>
        <p:blipFill>
          <a:blip r:embed="rId2"/>
          <a:stretch/>
        </p:blipFill>
        <p:spPr>
          <a:xfrm>
            <a:off x="1149480" y="1733400"/>
            <a:ext cx="6798960" cy="393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0656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5B2C6-23EE-46FE-AB6B-E71312E0C8C4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69E6D-2322-4DBC-9354-8398A9707E0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Rounded Rectangle 6"/>
          <p:cNvSpPr/>
          <p:nvPr/>
        </p:nvSpPr>
        <p:spPr>
          <a:xfrm>
            <a:off x="2927520" y="3220920"/>
            <a:ext cx="2234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8136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 txBox="1"/>
          <p:nvPr/>
        </p:nvSpPr>
        <p:spPr>
          <a:xfrm>
            <a:off x="468360" y="995040"/>
            <a:ext cx="851544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e have a new instruction: Process_A_Ris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Call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the function to use the new instruc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55CF1-C5F1-4323-9EFC-E34958D6B86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7DD04-912C-4968-8F7C-CCBCB4E81385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Picture 6" descr="oneFunction.tiff"/>
          <p:cNvPicPr/>
          <p:nvPr/>
        </p:nvPicPr>
        <p:blipFill>
          <a:blip r:embed="rId2"/>
          <a:srcRect l="11573" t="18260" r="9341" b="19433"/>
          <a:stretch/>
        </p:blipFill>
        <p:spPr>
          <a:xfrm>
            <a:off x="963720" y="1576440"/>
            <a:ext cx="7232400" cy="41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334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unctions may seem “obvious” but they are a HUGE idea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allow us to solve problems by first creating some useful instructions, and then using them to get the agent to do our work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weet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0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BE903-88BF-41E0-91F7-7D60F4D18497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540BF-D81A-45F1-94CA-2DC645DEB86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228600" y="10666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4000"/>
          </a:bodyPr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are you doing in Lightbot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ommanding a robot through a 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locks world</a:t>
            </a:r>
            <a:r>
              <a:rPr b="0" lang="ja-JP" sz="32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11480" indent="-2995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amming is </a:t>
            </a:r>
            <a:r>
              <a:rPr b="1" lang="en-US" sz="3200" spc="-1" strike="noStrike">
                <a:solidFill>
                  <a:srgbClr val="000000"/>
                </a:solidFill>
                <a:latin typeface="Corbel"/>
              </a:rPr>
              <a:t>commanding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 ag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4FA4C-2449-4D1B-AFF9-6D58288B615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3AAC2-6619-4AC5-8661-DF31C2197F8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Picture 6" descr="lightbot3.gif"/>
          <p:cNvPicPr/>
          <p:nvPr/>
        </p:nvPicPr>
        <p:blipFill>
          <a:blip r:embed="rId2"/>
          <a:stretch/>
        </p:blipFill>
        <p:spPr>
          <a:xfrm>
            <a:off x="1447920" y="1828800"/>
            <a:ext cx="5645160" cy="325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100656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84FC4-48B7-445E-97C2-1842A16BB55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99FFF-363A-420A-8999-9900EE317BA9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Rounded Rectangle 6"/>
          <p:cNvSpPr/>
          <p:nvPr/>
        </p:nvSpPr>
        <p:spPr>
          <a:xfrm>
            <a:off x="2927520" y="3220920"/>
            <a:ext cx="22348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Just Do It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 txBox="1"/>
          <p:nvPr/>
        </p:nvSpPr>
        <p:spPr>
          <a:xfrm>
            <a:off x="541440" y="124272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en you are commanding (programming), you direct an agent (by instructions) to a go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age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s usually a computer, but it can be a person, or other device (animated robot?)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agent follows the commands a/k/a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instruction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lawlessly, and mindlessly, doing only what it is ask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rogram implements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human intent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you are trying to get the robot to the Blue Tile goal – it’s the point of your instruction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B21EF-15D8-4DB3-BD2C-A70A4E5AB12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884E6-709D-4686-8DD8-0866E3F050A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132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 txBox="1"/>
          <p:nvPr/>
        </p:nvSpPr>
        <p:spPr>
          <a:xfrm>
            <a:off x="25236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structions ar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given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sequence, i.e. in 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ar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followe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 sequence, i.e. in order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give th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structions … it’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alled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rogramming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AGENT follow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m … it’s calle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execu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or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runn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program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program counter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marks the agent’s plac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3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7A5A-47A0-44BB-9AD8-301073C02BC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E1AB7-16F9-47C6-85AC-792FF27D46E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Picture 6" descr="lightbot9.gif"/>
          <p:cNvPicPr/>
          <p:nvPr/>
        </p:nvPicPr>
        <p:blipFill>
          <a:blip r:embed="rId2"/>
          <a:srcRect l="11691" t="0" r="2621" b="0"/>
          <a:stretch/>
        </p:blipFill>
        <p:spPr>
          <a:xfrm>
            <a:off x="4044960" y="2286000"/>
            <a:ext cx="4986360" cy="335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8413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252360" y="1066680"/>
            <a:ext cx="861048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0000"/>
          </a:bodyPr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instructions are programmed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ahead of ti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94200" indent="-28692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are executed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 later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, w/o programmer’s intervent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ach instruction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akes 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progress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wards the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o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he instructions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i="1" lang="en-US" sz="2800" spc="-1" strike="noStrike">
                <a:solidFill>
                  <a:srgbClr val="000000"/>
                </a:solidFill>
                <a:latin typeface="Corbel"/>
              </a:rPr>
              <a:t>must be righ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a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57000" indent="-245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ufficient to achieve the go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8AF3-9E58-4F41-9D3C-BDCD51E715F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BEDC9-0F4D-4D2C-A610-D6626B9BDD4A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Picture 6" descr="lightbot9.gif"/>
          <p:cNvPicPr/>
          <p:nvPr/>
        </p:nvPicPr>
        <p:blipFill>
          <a:blip r:embed="rId2"/>
          <a:srcRect l="11691" t="0" r="2621" b="0"/>
          <a:stretch/>
        </p:blipFill>
        <p:spPr>
          <a:xfrm>
            <a:off x="4044960" y="2286000"/>
            <a:ext cx="4986360" cy="3352680"/>
          </a:xfrm>
          <a:prstGeom prst="rect">
            <a:avLst/>
          </a:prstGeom>
          <a:ln w="0">
            <a:noFill/>
          </a:ln>
        </p:spPr>
      </p:pic>
      <p:sp>
        <p:nvSpPr>
          <p:cNvPr id="343" name="TextBox 2"/>
          <p:cNvSpPr/>
          <p:nvPr/>
        </p:nvSpPr>
        <p:spPr>
          <a:xfrm>
            <a:off x="6146280" y="2927520"/>
            <a:ext cx="145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 &gt;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702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7200" y="10188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amming REQUIRES you to take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agent’s point of view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it’s a essential ide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F34FF-9584-43FA-978B-79AF98519B5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7DFAB-63BF-4083-B8BB-37D219421112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Group 8"/>
          <p:cNvGrpSpPr/>
          <p:nvPr/>
        </p:nvGrpSpPr>
        <p:grpSpPr>
          <a:xfrm>
            <a:off x="1789200" y="2216160"/>
            <a:ext cx="5645160" cy="3255840"/>
            <a:chOff x="1789200" y="2216160"/>
            <a:chExt cx="5645160" cy="3255840"/>
          </a:xfrm>
        </p:grpSpPr>
        <p:pic>
          <p:nvPicPr>
            <p:cNvPr id="350" name="Picture 6" descr="lightbot3.gif"/>
            <p:cNvPicPr/>
            <p:nvPr/>
          </p:nvPicPr>
          <p:blipFill>
            <a:blip r:embed="rId2"/>
            <a:stretch/>
          </p:blipFill>
          <p:spPr>
            <a:xfrm>
              <a:off x="1789200" y="2216160"/>
              <a:ext cx="564516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TextBox 7"/>
            <p:cNvSpPr/>
            <p:nvPr/>
          </p:nvSpPr>
          <p:spPr>
            <a:xfrm>
              <a:off x="4406040" y="2927160"/>
              <a:ext cx="145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ogram 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7020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7200" y="101880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amming REQUIRES you to take the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agent’s point of view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it’s a essential idea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EAFC6-C108-49ED-A41A-0A05C4DD8EAE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3D61D-8FF7-4846-B7B5-6BFA1F3C5F2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8"/>
          <p:cNvGrpSpPr/>
          <p:nvPr/>
        </p:nvGrpSpPr>
        <p:grpSpPr>
          <a:xfrm>
            <a:off x="1789200" y="2216160"/>
            <a:ext cx="5645160" cy="3255840"/>
            <a:chOff x="1789200" y="2216160"/>
            <a:chExt cx="5645160" cy="3255840"/>
          </a:xfrm>
        </p:grpSpPr>
        <p:pic>
          <p:nvPicPr>
            <p:cNvPr id="358" name="Picture 6" descr="lightbot3.gif"/>
            <p:cNvPicPr/>
            <p:nvPr/>
          </p:nvPicPr>
          <p:blipFill>
            <a:blip r:embed="rId2"/>
            <a:stretch/>
          </p:blipFill>
          <p:spPr>
            <a:xfrm>
              <a:off x="1789200" y="2216160"/>
              <a:ext cx="5645160" cy="325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9" name="TextBox 7"/>
            <p:cNvSpPr/>
            <p:nvPr/>
          </p:nvSpPr>
          <p:spPr>
            <a:xfrm>
              <a:off x="4406040" y="2927160"/>
              <a:ext cx="1451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Program &gt;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60" name="Straight Arrow Connector 10"/>
          <p:cNvCxnSpPr/>
          <p:nvPr/>
        </p:nvCxnSpPr>
        <p:spPr>
          <a:xfrm flipV="1">
            <a:off x="3962160" y="4314600"/>
            <a:ext cx="1080" cy="1318320"/>
          </a:xfrm>
          <a:prstGeom prst="straightConnector1">
            <a:avLst/>
          </a:prstGeom>
          <a:ln w="478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361" name="TextBox 12"/>
          <p:cNvSpPr/>
          <p:nvPr/>
        </p:nvSpPr>
        <p:spPr>
          <a:xfrm>
            <a:off x="3093840" y="5608800"/>
            <a:ext cx="44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is cell, a turn is required … R or L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813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6000"/>
          </a:bodyPr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number and type of instructions is always limited – you need a solution using only them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00560" indent="-2617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nstructions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agent can do only certain things … nothing els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Lightbot’s instruction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re is no       JUMP_3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Lightbot’s even tougher than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normal programming b/c in some LB games, so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instructions are unavailable … but it’s a game!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55440" indent="-219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Execute the instructions one-at-a-tim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20480" indent="-3060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81DE-3A30-46E4-9A54-A71F72B772F1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3 Larry Sny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7C572-AC4B-426B-9ED8-33A8B3FA444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Picture 6" descr="lightbot9.gif"/>
          <p:cNvPicPr/>
          <p:nvPr/>
        </p:nvPicPr>
        <p:blipFill>
          <a:blip r:embed="rId2"/>
          <a:srcRect l="47467" t="0" r="2621" b="57026"/>
          <a:stretch/>
        </p:blipFill>
        <p:spPr>
          <a:xfrm>
            <a:off x="5784840" y="3286080"/>
            <a:ext cx="2905200" cy="1441440"/>
          </a:xfrm>
          <a:prstGeom prst="rect">
            <a:avLst/>
          </a:prstGeom>
          <a:ln w="0">
            <a:noFill/>
          </a:ln>
        </p:spPr>
      </p:pic>
      <p:cxnSp>
        <p:nvCxnSpPr>
          <p:cNvPr id="368" name="Straight Arrow Connector 8"/>
          <p:cNvCxnSpPr/>
          <p:nvPr/>
        </p:nvCxnSpPr>
        <p:spPr>
          <a:xfrm>
            <a:off x="4997160" y="3503520"/>
            <a:ext cx="741960" cy="13680"/>
          </a:xfrm>
          <a:prstGeom prst="straightConnector1">
            <a:avLst/>
          </a:prstGeom>
          <a:ln w="47880">
            <a:solidFill>
              <a:srgbClr val="ff0000"/>
            </a:solidFill>
            <a:miter/>
            <a:tailEnd len="med" type="arrow" w="med"/>
          </a:ln>
        </p:spPr>
      </p:cxn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5T18:01:50Z</dcterms:created>
  <dc:creator>Information School</dc:creator>
  <dc:description/>
  <dc:language>en-US</dc:language>
  <cp:lastModifiedBy>Larry Snyder</cp:lastModifiedBy>
  <dcterms:modified xsi:type="dcterms:W3CDTF">2014-05-13T16:26:35Z</dcterms:modified>
  <cp:revision>120</cp:revision>
  <dc:subject/>
  <dc:title>Welcome to FIT100</dc:title>
</cp:coreProperties>
</file>