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4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20C0-91BF-4322-82EB-4501750D4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231C-D4D3-4A86-B7A2-3241B473C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78E3D-1ABB-4650-8F75-EA0274B10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0650-0C91-4242-91C7-64BF75FD92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CD07-5A22-4010-B9B0-9F4CDBB5B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03F07-D2B8-425C-AD28-92025D416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2C3EA-4584-4F05-9E70-5B561C51E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6BF9-3B2A-477B-929C-40B9E3AF1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F144-F7BE-4269-ACA3-90A5A4797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82372-8436-4FF6-BE46-F7EE7558A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3CF8A-F002-473A-AC99-57E4EA4E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AE36A-26AD-49D1-9915-731E4E196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614EB-6B5F-4174-8DBC-FCBC2D9E4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41B8C-DA16-486C-AA6F-DE50352B1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28337-D730-4EE4-91E1-F36243177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C414B-2ADD-47FF-8841-FDD72183A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63CF4-BE24-494B-ACA6-BE29507BC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B7C3D8-A4CE-4CD4-AEA6-AAB18C6AF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B9CF8B-D570-476F-9AD9-D8F7E3C79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C84B5-A64A-4608-94B9-E19FDF910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D87AC6-6AEF-4352-9B22-68B6CC526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E8690-286F-4343-9566-D30357A60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BDE14-D59B-4598-9AC3-F0C29896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982C9B-D3ED-42AC-9694-AF197A25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6F100-3136-4CCC-8433-9F6AC10D7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7B0F4-FD2D-439A-B814-9AFB26C4C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23C039-9BF0-4ABB-887B-9CF527F72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B844A7-E6D0-403C-B99B-141C6887E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4E8BD-905D-4253-ADBF-64206605E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5707B3-F026-4ECC-B77D-E434BB308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5DD2B6-D6D7-46A5-929C-4E722637C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DA644F-23BF-4868-87B3-AEADBC0B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3A88F0-79EA-41DA-B964-8F49EC115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2B01-20C6-4A5A-BBBA-097C607AA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AB471-18D9-4876-B2C5-A26A79FBC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90006-3E6C-40F6-ADE2-08D0CBF5E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7E0BCF-70F0-41C5-9795-9ED001C8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27944D-B435-4500-8FE0-CC450E6AA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495CCE-C1C3-4077-BFC7-F0EE98680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295F11-6409-4232-8543-8BA320079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4AB1C-5A92-42A2-9872-A792F070B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4D4B6-3AB0-4818-A439-82C96AADE2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130EBA-9A3A-4C03-86E4-16AA7B21B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C77069-A8A8-4527-B2C5-EB9C98BD1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035D-4A34-4464-96D0-B26C6C88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C118C52-57C5-4E7D-9C6A-1170D2265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21138B-231B-405B-AEEC-DF7E8953D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AFA6F4-FB74-47BD-87D3-DFB272F5F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80F881-96DB-4A5B-BE56-A2320ACD5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14B54B-D593-4550-BBA5-039AFD51E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D487B1-7E0B-4C92-B286-1148B196A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B2DAF3-5B89-4045-97CD-3D4DD0C2D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6115DC-BFAA-4490-AEEF-4CCFABFD6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87BA2-3773-4407-B840-D88A81CA0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44306C-17EF-4BA7-90D0-5CB92A1743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31D9-EF3E-4875-AF58-C2D3A2E8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38F4B1-DC6E-4420-8FE9-BE334D98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662EB8-13F9-4C85-90D1-8BED3C011F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AEAA48-2B24-470B-A8C0-A6DEABA9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EAC52C-4692-4D13-84DD-B71CCFE36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04F365-D5F4-4824-935C-05CEB3761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FD45C7-15DD-46DD-91AF-2F324DADF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E72AF0-811C-4CF3-A163-F56AF6F06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11EA6A-DFE6-4DE0-9BD2-69AB73A8D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EADBFE-FA9A-42E3-BC6E-E31C9B510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954CDF-C8A7-4A86-BCD2-52D50121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4CBA-3D6B-40D1-A4DE-C085C5EC9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41D074-DE57-40AF-BFC5-6A0EFD15E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3E6EEA-6404-4E67-87AA-210531AD5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B1428B-F361-4B71-BFDA-39AA793190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F31533-0432-411A-AE5A-282E6E78D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02BC98-2E7D-4311-9A1E-C04BF76D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42A7C-4151-4668-A16C-A27BE95A6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AC9398-1584-40CB-8FD8-53FAE0CBA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47F741B-A478-4DF5-AFA0-073B1CD9D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916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CE4385-A3A5-4608-96A4-70FE2B0F9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2FB1C6-D152-4914-8B3E-8B99EE03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D082C-D1DC-46A4-AFA2-4E7C00B8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8377AA-717B-4E2A-B078-3A0E9A238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1BBACB-312F-4DD6-87F0-33044F894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9153EF-7241-4183-AAF1-68647678D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674240" y="392544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1A45E9-714E-4E3E-AD80-FCBD990C2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720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323964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6022080" y="3925440"/>
            <a:ext cx="264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40DDE9-2B5F-4FE0-B32A-257FE34D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43280"/>
            <a:ext cx="8229600" cy="77976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25440"/>
            <a:ext cx="8229600" cy="247140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3B78-9B81-4545-BE51-61C20EC46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D4A4CF-8DE5-439D-948A-67FB91B40AAF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5D927-8270-45C6-BD61-D7B5F2EA72AB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8"/>
          <p:cNvSpPr/>
          <p:nvPr/>
        </p:nvSpPr>
        <p:spPr>
          <a:xfrm>
            <a:off x="0" y="0"/>
            <a:ext cx="9144000" cy="51354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0"/>
          <p:cNvSpPr/>
          <p:nvPr/>
        </p:nvSpPr>
        <p:spPr>
          <a:xfrm>
            <a:off x="0" y="5127480"/>
            <a:ext cx="9144000" cy="460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DA6AD-C05D-4A16-B875-66B2AFCBA08D}" type="datetime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8DE8-DC3A-4147-9ADE-9A24C4CF4F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0" y="0"/>
            <a:ext cx="9144000" cy="2602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0" y="2602080"/>
            <a:ext cx="9144000" cy="457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5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  <a:p>
            <a:pPr lvl="6" marL="1425600" indent="-182520"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B194C-9875-4AF4-AF71-C0121A2D1C8E}" type="datetime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ffffff"/>
                </a:solidFill>
                <a:latin typeface="Arial"/>
                <a:ea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959B2-F46C-4BA9-97F7-69AB085F8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0694D-5A40-4BED-B8A8-34C5C5009646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B6E00-4011-4B77-9BE9-E56F9638E786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Rectangle 10"/>
          <p:cNvSpPr/>
          <p:nvPr/>
        </p:nvSpPr>
        <p:spPr>
          <a:xfrm>
            <a:off x="2855880" y="0"/>
            <a:ext cx="46080" cy="1454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101B3-0A30-41C2-B51E-2DEAB98F6D6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2639880" y="6476760"/>
            <a:ext cx="5508720" cy="274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C081-228C-43C2-9844-6103420538A8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4d4d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9"/>
          <p:cNvSpPr/>
          <p:nvPr/>
        </p:nvSpPr>
        <p:spPr>
          <a:xfrm>
            <a:off x="0" y="1066680"/>
            <a:ext cx="9144000" cy="4464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54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6"/>
          <p:cNvSpPr/>
          <p:nvPr/>
        </p:nvSpPr>
        <p:spPr>
          <a:xfrm>
            <a:off x="0" y="0"/>
            <a:ext cx="9144000" cy="1066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8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85588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164880" y="1170000"/>
            <a:ext cx="2522520" cy="20160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9B4210-3D58-4729-92A6-7F7A152DDA12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034800" y="1170000"/>
            <a:ext cx="5194440" cy="2016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bcbcbc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bcbcbc"/>
                </a:solidFill>
                <a:latin typeface="Arial"/>
                <a:ea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339040" y="1170000"/>
            <a:ext cx="733680" cy="20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5C9B5-D656-42BA-AA96-FA0C3B79DEF7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8"/>
          <p:cNvSpPr/>
          <p:nvPr/>
        </p:nvSpPr>
        <p:spPr>
          <a:xfrm>
            <a:off x="6599160" y="0"/>
            <a:ext cx="46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080" dir="10800000" blurRad="0" rotWithShape="0">
              <a:srgbClr val="80808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Rectangle 10"/>
          <p:cNvSpPr/>
          <p:nvPr/>
        </p:nvSpPr>
        <p:spPr>
          <a:xfrm>
            <a:off x="6648480" y="0"/>
            <a:ext cx="251460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c800"/>
                </a:solidFill>
                <a:latin typeface="Corbel"/>
              </a:rPr>
              <a:t>Click to edit the title text format</a:t>
            </a:r>
            <a:endParaRPr b="1" lang="en-US" sz="4500" spc="-1" strike="noStrike">
              <a:solidFill>
                <a:srgbClr val="ffc800"/>
              </a:solidFill>
              <a:latin typeface="Corbe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rIns="90000" tIns="91440" bIns="4680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buClr>
                <a:srgbClr val="e66c7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216080" indent="-182520">
              <a:buClr>
                <a:srgbClr val="6bb76d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425600" indent="-182520">
              <a:buClr>
                <a:srgbClr val="e88651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425600" indent="-182520">
              <a:buClr>
                <a:srgbClr val="000000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9"/>
          </p:nvPr>
        </p:nvSpPr>
        <p:spPr>
          <a:xfrm>
            <a:off x="456840" y="647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10980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0B117-DD93-484D-8E87-D6AF0109FF52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ftr" idx="20"/>
          </p:nvPr>
        </p:nvSpPr>
        <p:spPr>
          <a:xfrm>
            <a:off x="2639520" y="6377040"/>
            <a:ext cx="383724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a-DK" sz="1200" spc="-1" strike="noStrike">
                <a:solidFill>
                  <a:srgbClr val="3f3f3f"/>
                </a:solidFill>
                <a:latin typeface="Arial"/>
                <a:ea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sldNum" idx="21"/>
          </p:nvPr>
        </p:nvSpPr>
        <p:spPr>
          <a:xfrm>
            <a:off x="8204040" y="6476760"/>
            <a:ext cx="73368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3f3f3f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51972-A630-49EE-B7B8-A4B95FDAFF2E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courses.cs.washington.edu/courses/cse120/14wi" TargetMode="External"/><Relationship Id="rId3" Type="http://schemas.openxmlformats.org/officeDocument/2006/relationships/hyperlink" Target="courses.cs.washington.edu/courses/cse120/14wi" TargetMode="External"/><Relationship Id="rId4" Type="http://schemas.openxmlformats.org/officeDocument/2006/relationships/hyperlink" Target="courses.cs.washington.edu/courses/cse120/14wi" TargetMode="External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courses.cs.washington.edu/courses/cse120/14wi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Welcome – You’ve found CSE120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nouncements are usually listed here and displayed before the start of clas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…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y are also given at the top of the class Web page; they are not usually archived her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73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ass Web Page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ea typeface="ＭＳ Ｐゴシック"/>
                <a:hlinkClick r:id="rId2"/>
              </a:rPr>
              <a:t>courses.cs.washington.edu</a:t>
            </a: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ea typeface="ＭＳ Ｐゴシック"/>
                <a:hlinkClick r:id="rId3"/>
              </a:rPr>
              <a:t>/courses/cse120/14wi</a:t>
            </a: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ea typeface="ＭＳ Ｐゴシック"/>
                <a:hlinkClick r:id="rId4"/>
              </a:rPr>
              <a:t>/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62177-5D50-4B52-9765-7EAA87AD8E57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C3BA5-1D49-446A-9116-B89B660CF8C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53" name=""/>
          <p:cNvSpPr txBox="1"/>
          <p:nvPr/>
        </p:nvSpPr>
        <p:spPr>
          <a:xfrm>
            <a:off x="456840" y="12189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ttend classes and labs … duh!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Keep up with the assignments – 1 hr/da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you miss ANY deadline, don’t ignore it – tell me what the problem is, get an extension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Be persistent … many things will seem confusing at first, but you CAN figure them out … stay with i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you don’t “get” something, ask a TA or m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E2B2A-B22C-46CC-B9CC-241563BCF455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184BD-A4ED-4148-BDFF-84F7D5116070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ademically, you can expect me to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lect most important topics for the curriculum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ent the material in the clearest possible way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lect exercises and lab assignments that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urther your education in this cla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re interesting and enjoyab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ppreciate that you have other things in your lif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3EC90-001B-4362-B4B7-BF5CAFC09658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8FE65-FBB9-4BD0-9BEC-B629FAA6692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63" name=""/>
          <p:cNvSpPr txBox="1"/>
          <p:nvPr/>
        </p:nvSpPr>
        <p:spPr>
          <a:xfrm>
            <a:off x="457200" y="9903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2000"/>
          </a:bodyPr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ademically, you can expect me to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lect most important topics for the curriculum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esent the material in the clearest possible way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Select exercises and lab assignments that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15480" indent="-210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Further your education in this cla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15480" indent="-210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re interesting and enjoyabl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15480" indent="-2102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ppreciate that you have other things in your life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402840" indent="-2934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ersonally, you can expect me to be  …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spectful, cooperative, understanding,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Encouraging, accepting of your contributions,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Provide help, both online and 1-on-1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71400" indent="-25092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0F12B-FC19-4C76-B323-1E5B11DA7173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31767-FB6D-4B7B-8A16-180DD6B4E849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 txBox="1"/>
          <p:nvPr/>
        </p:nvSpPr>
        <p:spPr>
          <a:xfrm>
            <a:off x="4568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ademically, I expect you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To come to class &amp; labs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ady to learn CS Princip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make a sincere effort to understand the materi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o online to work on this class each day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bmit work that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you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alone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created, except team asm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995400" indent="-2286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ake constructive comments about improving this cla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6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4D308-39AF-47BD-909E-6C42441D6942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04E8E-1E08-4BB0-AC2E-A8E960C5F39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73" name=""/>
          <p:cNvSpPr txBox="1"/>
          <p:nvPr/>
        </p:nvSpPr>
        <p:spPr>
          <a:xfrm>
            <a:off x="4568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5000"/>
          </a:bodyPr>
          <a:p>
            <a:pPr marL="372240" indent="-271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cademically, I expect you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20280" indent="-2318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To come to class &amp; labs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ready to learn CS Principle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20280" indent="-2318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To make a sincere effort to understand the material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20280" indent="-2318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o online to work on this class each day 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46000" indent="-1940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Submit work that </a:t>
            </a:r>
            <a:r>
              <a:rPr b="1" lang="en-US" sz="2400" spc="-1" strike="noStrike">
                <a:solidFill>
                  <a:srgbClr val="000000"/>
                </a:solidFill>
                <a:latin typeface="Corbel"/>
              </a:rPr>
              <a:t>you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 alone created, except team asmt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46000" indent="-19404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Make constructive comments about improving this clas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72240" indent="-2710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ersonally, I expect you t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20280" indent="-2318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e respectful of me and the other student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20280" indent="-2318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Contribute to helping others on discussion boar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20280" indent="-2318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Meet deadlines; ask for extensions in extreme need 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20280" indent="-2318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DFB4D-7110-4551-B8C1-F359E880E779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44C6F-8D43-4FC4-A345-9A60F895E67C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78" name=""/>
          <p:cNvSpPr txBox="1"/>
          <p:nvPr/>
        </p:nvSpPr>
        <p:spPr>
          <a:xfrm>
            <a:off x="4568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structor: Larry Snyder, Prof. Emerit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 like travel; I’ve lived in &gt; ½ dozen other countrie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avorite food is anchovies + potato chip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As: Nicole Ford, Ben Blumberg, Michelle Ch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7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4CA8D-DAD1-40B1-89B6-913C4DA04367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B09B0-F176-4BD5-B9BF-7C8853B803C6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83" name=""/>
          <p:cNvSpPr txBox="1"/>
          <p:nvPr/>
        </p:nvSpPr>
        <p:spPr>
          <a:xfrm>
            <a:off x="4568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nstructor: Larry Snyder, Prof. Emeritu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 like travel; I’ve lived in &gt; ½ dozen other countries;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A favorite food is anchovies + potato chip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As: Nicole Ford, Ben Blumberg, Michelle Ch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…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nd you?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Interesting Fact About Yourself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  <a:ea typeface="ＭＳ Ｐゴシック"/>
              </a:rPr>
              <a:t>A Favorite Foo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52683-F57C-4C42-B990-CDCF150358F7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95CB96-D820-4870-9222-95722004AE3D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2" descr="120327-pizza-590.jpg"/>
          <p:cNvPicPr/>
          <p:nvPr/>
        </p:nvPicPr>
        <p:blipFill>
          <a:blip r:embed="rId2"/>
          <a:stretch/>
        </p:blipFill>
        <p:spPr>
          <a:xfrm>
            <a:off x="3962520" y="4343400"/>
            <a:ext cx="2984400" cy="201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6"/>
          <p:cNvSpPr/>
          <p:nvPr/>
        </p:nvSpPr>
        <p:spPr>
          <a:xfrm>
            <a:off x="1143000" y="3962520"/>
            <a:ext cx="6781680" cy="1523880"/>
          </a:xfrm>
          <a:prstGeom prst="rect">
            <a:avLst/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684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9000"/>
          </a:bodyPr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What you need to do today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Sign up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for this class – that’s tech lingo for committing yourself to succeed in this cla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49440" indent="-2426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Familiarize yourself with the class Web page at </a:t>
            </a:r>
            <a:r>
              <a:rPr b="0" lang="en-US" sz="2800" spc="-1" strike="noStrike" u="sng">
                <a:solidFill>
                  <a:srgbClr val="168bba"/>
                </a:solidFill>
                <a:uFillTx/>
                <a:latin typeface="Corbel"/>
                <a:hlinkClick r:id="rId1"/>
              </a:rPr>
              <a:t>courses.cs.washington.edu/courses/cse120/14wi/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ncluding … 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location of announcements, assignments, etc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The Academic Conduct guidelines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lvl="2" marL="885600" indent="-203400">
              <a:spcBef>
                <a:spcPts val="601"/>
              </a:spcBef>
              <a:buClr>
                <a:srgbClr val="e66c7d"/>
              </a:buClr>
              <a:buFont typeface="Arial"/>
              <a:buChar char="▪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Read 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Corbel"/>
              </a:rPr>
              <a:t>Why to take this class</a:t>
            </a:r>
            <a:r>
              <a:rPr b="0" lang="ja-JP" sz="24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9880" indent="-2836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ake the Pre-survey, linked from the Web page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0" name="Title 1" descr=""/>
          <p:cNvPicPr/>
          <p:nvPr/>
        </p:nvPicPr>
        <p:blipFill>
          <a:blip r:embed="rId2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91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5CCAB-700C-4041-80B3-88623C216A0A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99644-44AF-4CF6-981E-88EA028F81C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95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2EFCE-0AFD-43CD-8B52-C8E61E44F7B6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3182-8F34-4EC2-8465-206A0DE6FD4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9" name="Picture 2" descr="Screen Shot 2014-01-02 at 11.23.56 AM.png"/>
          <p:cNvPicPr/>
          <p:nvPr/>
        </p:nvPicPr>
        <p:blipFill>
          <a:blip r:embed="rId2"/>
          <a:stretch/>
        </p:blipFill>
        <p:spPr>
          <a:xfrm>
            <a:off x="990720" y="914400"/>
            <a:ext cx="7543800" cy="559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0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01" name=""/>
          <p:cNvSpPr txBox="1"/>
          <p:nvPr/>
        </p:nvSpPr>
        <p:spPr>
          <a:xfrm>
            <a:off x="456840" y="106632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Lightbot shows up on many gaming sites, but whether or not it’s a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game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is a topic for Wednesd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direct a robot around a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locks world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It’s pretty easy, and I hope it’s fun … there is a purpose to doing i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2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AFF47-DBE9-493D-962F-8D95D54F5179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B1FE0-4530-45EC-8513-DF68E39AFC3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Picture 7" descr="lightbot.gif"/>
          <p:cNvPicPr/>
          <p:nvPr/>
        </p:nvPicPr>
        <p:blipFill>
          <a:blip r:embed="rId2"/>
          <a:stretch/>
        </p:blipFill>
        <p:spPr>
          <a:xfrm>
            <a:off x="1828800" y="3625920"/>
            <a:ext cx="5334120" cy="3092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Rectangle 2" descr=""/>
          <p:cNvPicPr/>
          <p:nvPr/>
        </p:nvPicPr>
        <p:blipFill>
          <a:blip r:embed="rId1"/>
          <a:stretch/>
        </p:blipFill>
        <p:spPr>
          <a:xfrm>
            <a:off x="609480" y="2359080"/>
            <a:ext cx="8004240" cy="114624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762120" y="4114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118800" rIns="4572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Lawrence Snyder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orbel"/>
              </a:rPr>
              <a:t>University of Washington, Seattle</a:t>
            </a:r>
            <a:endParaRPr b="0" lang="en-US" sz="2000" spc="-1" strike="noStrike">
              <a:solidFill>
                <a:srgbClr val="ffffff"/>
              </a:solidFill>
              <a:latin typeface="Corbel"/>
            </a:endParaRPr>
          </a:p>
        </p:txBody>
      </p:sp>
      <p:sp>
        <p:nvSpPr>
          <p:cNvPr id="310" name="Text Box 4"/>
          <p:cNvSpPr/>
          <p:nvPr/>
        </p:nvSpPr>
        <p:spPr>
          <a:xfrm>
            <a:off x="3967560" y="6172200"/>
            <a:ext cx="160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5a6378"/>
                </a:solidFill>
                <a:latin typeface="Arial"/>
              </a:rPr>
              <a:t>© Lawrence Snyder 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Box 4"/>
          <p:cNvSpPr/>
          <p:nvPr/>
        </p:nvSpPr>
        <p:spPr>
          <a:xfrm>
            <a:off x="542160" y="533520"/>
            <a:ext cx="131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E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 txBox="1"/>
          <p:nvPr/>
        </p:nvSpPr>
        <p:spPr>
          <a:xfrm>
            <a:off x="457200" y="12189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8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C165E-66F6-4BA5-854A-A24F57A80DF9}" type="datetime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  <a:ea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44E91-E046-4124-92E6-A627B09C177A}" type="slidenum">
              <a:rPr b="0" lang="en-US" sz="1200" spc="-1" strike="noStrike">
                <a:solidFill>
                  <a:srgbClr val="3f3f3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 txBox="1"/>
          <p:nvPr/>
        </p:nvSpPr>
        <p:spPr>
          <a:xfrm>
            <a:off x="45684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 see the task of this course as teach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omputational Principles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its can represent all information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– that everyone should know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omputational Thinking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– ways you can use computers to solve (your) proble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736D2-809B-4032-8FF9-0C0E764C3B5A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5D0FC-CDF2-46DF-BCFE-BCD8DDC4D377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 txBox="1"/>
          <p:nvPr/>
        </p:nvSpPr>
        <p:spPr>
          <a:xfrm>
            <a:off x="456840" y="990360"/>
            <a:ext cx="853452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 see the task of this course as teach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omputational Principles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– 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bits can represent all information</a:t>
            </a:r>
            <a:r>
              <a:rPr b="0" lang="ja-JP" sz="2800" spc="-1" strike="noStrike">
                <a:solidFill>
                  <a:srgbClr val="000000"/>
                </a:solidFill>
                <a:latin typeface="Corbel"/>
              </a:rPr>
              <a:t>”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 – that everyone should know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rbel"/>
              </a:rPr>
              <a:t>Computational Thinking 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– ways you can use computers to solve (your) problem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416160" indent="-3027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f you were thinking this class will be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Trivial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forget it: I teach stuff you haven’t had before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Difficult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, forget it: The class was designed to be a high school AP clas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rbel"/>
              </a:rPr>
              <a:t>Fun and interesting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: Perfect … that’s what it is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93360" indent="-25920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BBFB3-8870-49EE-A0BD-084767A5AB0B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89A3-8F39-4BDB-97D0-80581B772275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 txBox="1"/>
          <p:nvPr/>
        </p:nvSpPr>
        <p:spPr>
          <a:xfrm>
            <a:off x="4568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438120" indent="-31896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me people panic at the mention of the word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programming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… as if just saying it would cause them to become social outcasts, nerdy,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348AF-ABB9-4321-97A8-F294E68955D3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3803F-ECDB-4FFF-82A1-9CC2147FFF00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 txBox="1"/>
          <p:nvPr/>
        </p:nvSpPr>
        <p:spPr>
          <a:xfrm>
            <a:off x="456840" y="10666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87000"/>
          </a:bodyPr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ome people panic at the mention of the word </a:t>
            </a:r>
            <a:r>
              <a:rPr b="0" i="1" lang="en-US" sz="3200" spc="-1" strike="noStrike">
                <a:solidFill>
                  <a:srgbClr val="000000"/>
                </a:solidFill>
                <a:latin typeface="Corbel"/>
              </a:rPr>
              <a:t>programming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… as if just saying it would cause them to become social outcasts, nerdy,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Programming’s a career; it takes years to learn; it pays really well; “normal people” do it, too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380880" indent="-27720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I teach some programming in this class as part of teaching computational think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won’t be a programmer at the end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will still be however “normal” as you are today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lvl="1" marL="635040" indent="-23724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You will, I hope, also think differently as a result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D80F5-A182-4115-938C-D4DFAEB11783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08F42-8A64-4509-98DF-BE467BC2BFE2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2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 txBox="1"/>
          <p:nvPr/>
        </p:nvSpPr>
        <p:spPr>
          <a:xfrm>
            <a:off x="457200" y="990720"/>
            <a:ext cx="8229600" cy="533376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3000"/>
          </a:bodyPr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3 lectures – I will talk, demo and we’ll all discuss various topics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2 labs – practice with the TAs presen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Homework – exercises that help push the material further … </a:t>
            </a:r>
            <a:r>
              <a:rPr b="0" lang="en-US" sz="3200" spc="-1" strike="noStrike">
                <a:solidFill>
                  <a:srgbClr val="ff0000"/>
                </a:solidFill>
                <a:latin typeface="Corbel"/>
              </a:rPr>
              <a:t>one hour a day as needed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eam project,” Midterm, Fina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407160" indent="-296280">
              <a:buClr>
                <a:srgbClr val="f0ad00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ridays “After Image Survey” … worth a few points, takes less than 5 minutes, gives me feedback on how things are going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4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2B467-F441-493C-86C6-E8E2FF9AF4DB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D871F-DFEF-49D2-A9CD-62D11BB06D7F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93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 txBox="1"/>
          <p:nvPr/>
        </p:nvSpPr>
        <p:spPr>
          <a:xfrm>
            <a:off x="45720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 fontScale="95000"/>
          </a:bodyPr>
          <a:p>
            <a:pPr marL="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e goal of this class is to teach you to think computationally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at’s important enough to repeat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All you need to do is …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marL="111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39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E701F-3548-48BF-B8D8-CE030313473A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C8992-293B-4483-84B5-9415660A6EA3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Rounded Rectangle 7"/>
          <p:cNvSpPr/>
          <p:nvPr/>
        </p:nvSpPr>
        <p:spPr>
          <a:xfrm>
            <a:off x="914400" y="2590920"/>
            <a:ext cx="74674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bf00"/>
              </a:gs>
              <a:gs pos="100000">
                <a:srgbClr val="cc8900"/>
              </a:gs>
            </a:gsLst>
            <a:lin ang="5400000"/>
          </a:gradFill>
          <a:ln cap="rnd" w="6480">
            <a:solidFill>
              <a:srgbClr val="f0ac00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7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s class can actually make you smarter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Rounded Rectangle 10"/>
          <p:cNvSpPr/>
          <p:nvPr/>
        </p:nvSpPr>
        <p:spPr>
          <a:xfrm>
            <a:off x="914400" y="4572000"/>
            <a:ext cx="746748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7d35"/>
              </a:gs>
              <a:gs pos="100000">
                <a:srgbClr val="bb5823"/>
              </a:gs>
            </a:gsLst>
            <a:lin ang="5400000"/>
          </a:gradFill>
          <a:ln cap="rnd" w="6480">
            <a:solidFill>
              <a:srgbClr val="e6824b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7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This class can actually </a:t>
            </a:r>
            <a:r>
              <a:rPr b="0" i="1" lang="en-US" sz="3200" spc="-1" strike="noStrike">
                <a:solidFill>
                  <a:srgbClr val="ffffff"/>
                </a:solidFill>
                <a:latin typeface="Corbel"/>
              </a:rPr>
              <a:t>make you smarter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Title 1" descr=""/>
          <p:cNvPicPr/>
          <p:nvPr/>
        </p:nvPicPr>
        <p:blipFill>
          <a:blip r:embed="rId1"/>
          <a:stretch/>
        </p:blipFill>
        <p:spPr>
          <a:xfrm>
            <a:off x="457200" y="152280"/>
            <a:ext cx="8229600" cy="914400"/>
          </a:xfrm>
          <a:prstGeom prst="rect">
            <a:avLst/>
          </a:prstGeom>
          <a:ln w="0">
            <a:noFill/>
          </a:ln>
        </p:spPr>
      </p:pic>
      <p:sp>
        <p:nvSpPr>
          <p:cNvPr id="345" name=""/>
          <p:cNvSpPr txBox="1"/>
          <p:nvPr/>
        </p:nvSpPr>
        <p:spPr>
          <a:xfrm>
            <a:off x="456840" y="990360"/>
            <a:ext cx="8381880" cy="5181480"/>
          </a:xfrm>
          <a:prstGeom prst="rect">
            <a:avLst/>
          </a:prstGeom>
          <a:noFill/>
          <a:ln w="0">
            <a:noFill/>
          </a:ln>
        </p:spPr>
        <p:txBody>
          <a:bodyPr lIns="54720" tIns="91440" anchor="t">
            <a:normAutofit/>
          </a:bodyPr>
          <a:p>
            <a:pPr marL="117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Options for getting the content into your brain: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730080" indent="-272880">
              <a:spcBef>
                <a:spcPts val="700"/>
              </a:spcBef>
              <a:buClr>
                <a:srgbClr val="60b5c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Plan A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rbel"/>
              </a:rPr>
              <a:t>	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Corbel"/>
              </a:rPr>
              <a:t>Plan B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46" name="Date Placeholder 3"/>
          <p:cNvSpPr/>
          <p:nvPr/>
        </p:nvSpPr>
        <p:spPr>
          <a:xfrm>
            <a:off x="457200" y="647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980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1F390-E564-43AA-B73E-6018AC9CE9A0}" type="datetime">
              <a:rPr b="0" lang="en-US" sz="1200" spc="-1" strike="noStrike">
                <a:solidFill>
                  <a:srgbClr val="3f3f3f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Footer Placeholder 4"/>
          <p:cNvSpPr/>
          <p:nvPr/>
        </p:nvSpPr>
        <p:spPr>
          <a:xfrm>
            <a:off x="2639880" y="6477120"/>
            <a:ext cx="5508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4680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3f3f3f"/>
                </a:solidFill>
                <a:latin typeface="Arial"/>
              </a:rPr>
              <a:t>© 2010-2012 Larry Snyder, C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Slide Number Placeholder 5"/>
          <p:cNvSpPr/>
          <p:nvPr/>
        </p:nvSpPr>
        <p:spPr>
          <a:xfrm>
            <a:off x="8204040" y="6477120"/>
            <a:ext cx="733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C7D1E-6833-47ED-A8C2-5E61BA1B851E}" type="slidenum">
              <a:rPr b="0" lang="en-US" sz="1200" spc="-1" strike="noStrike">
                <a:solidFill>
                  <a:srgbClr val="3f3f3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9" name="Picture 6" descr="sleep3.jpg"/>
          <p:cNvPicPr/>
          <p:nvPr/>
        </p:nvPicPr>
        <p:blipFill>
          <a:blip r:embed="rId2"/>
          <a:stretch/>
        </p:blipFill>
        <p:spPr>
          <a:xfrm>
            <a:off x="990720" y="4343400"/>
            <a:ext cx="3198600" cy="204480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7" descr="sleep4.jpg"/>
          <p:cNvPicPr/>
          <p:nvPr/>
        </p:nvPicPr>
        <p:blipFill>
          <a:blip r:embed="rId3"/>
          <a:stretch/>
        </p:blipFill>
        <p:spPr>
          <a:xfrm>
            <a:off x="990720" y="2133720"/>
            <a:ext cx="3200400" cy="2133360"/>
          </a:xfrm>
          <a:prstGeom prst="rect">
            <a:avLst/>
          </a:prstGeom>
          <a:ln w="0">
            <a:noFill/>
          </a:ln>
        </p:spPr>
      </p:pic>
      <p:sp>
        <p:nvSpPr>
          <p:cNvPr id="351" name="Rounded Rectangle 8"/>
          <p:cNvSpPr/>
          <p:nvPr/>
        </p:nvSpPr>
        <p:spPr>
          <a:xfrm>
            <a:off x="5105520" y="2209680"/>
            <a:ext cx="2514600" cy="4191120"/>
          </a:xfrm>
          <a:custGeom>
            <a:avLst/>
            <a:gdLst>
              <a:gd name="textAreaLeft" fmla="*/ 122760 w 2514600"/>
              <a:gd name="textAreaRight" fmla="*/ 2391840 w 2514600"/>
              <a:gd name="textAreaTop" fmla="*/ 122760 h 4191120"/>
              <a:gd name="textAreaBottom" fmla="*/ 4068360 h 4191120"/>
            </a:gdLst>
            <a:ahLst/>
            <a:rect l="textAreaLeft" t="textAreaTop" r="textAreaRight" b="textAreaBottom"/>
            <a:pathLst>
              <a:path w="21600" h="35999">
                <a:moveTo>
                  <a:pt x="3600" y="0"/>
                </a:moveTo>
                <a:arcTo wR="3600" hR="3600" stAng="16200000" swAng="-5400000"/>
                <a:lnTo>
                  <a:pt x="0" y="32399"/>
                </a:lnTo>
                <a:arcTo wR="3600" hR="3600" stAng="10800000" swAng="-5400000"/>
                <a:lnTo>
                  <a:pt x="18000" y="359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7d35"/>
              </a:gs>
              <a:gs pos="100000">
                <a:srgbClr val="bb5823"/>
              </a:gs>
            </a:gsLst>
            <a:lin ang="5400000"/>
          </a:gradFill>
          <a:ln cap="rnd" w="6480">
            <a:solidFill>
              <a:srgbClr val="e6824b"/>
            </a:solidFill>
            <a:miter/>
          </a:ln>
          <a:effectLst>
            <a:outerShdw dist="255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1173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Make a good-faith effort to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ry everything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nk</a:t>
            </a:r>
            <a:r>
              <a:rPr b="0" lang="en-US" sz="3200" spc="-1" strike="noStrike">
                <a:solidFill>
                  <a:srgbClr val="ffffff"/>
                </a:solidFill>
                <a:latin typeface="Corbel"/>
              </a:rPr>
              <a:t> about what you 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3T19:11:26Z</dcterms:created>
  <dc:creator>Information School</dc:creator>
  <dc:description/>
  <dc:language>en-US</dc:language>
  <cp:lastModifiedBy>Larry Snyder</cp:lastModifiedBy>
  <dcterms:modified xsi:type="dcterms:W3CDTF">2014-05-13T16:19:08Z</dcterms:modified>
  <cp:revision>102</cp:revision>
  <dc:subject/>
  <dc:title>Welcome to FIT100</dc:title>
</cp:coreProperties>
</file>