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0736-EB73-42E4-9E0C-6517D6BC0C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5ADCB-A372-432E-8EA8-637316F9E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9C14-2D1A-42F9-8E2D-1175D7BAE6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0673-AFDE-4817-9297-E744227AF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AE14-3EA5-4ED1-AAA5-3EEF9F42E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A1B32-D68B-452D-BF3D-EE8F1C225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CB7C2-E241-46B2-8A66-D446EC250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76CBD-4BA8-4199-8F9C-075F88B49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9BF25-DB7F-452C-A7D5-CE8402116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DE55-F014-44F6-96C8-F8B601B48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2367B-EA00-4744-AC68-5402C6D8D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30CF-D15D-4E9E-A2A0-E4500BE0E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4CBC7-C58D-49D4-B1CF-A3BF9CC5A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FE3C3-2B34-482B-A497-BA4C62319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9A003-0627-4E0D-9B50-ABB00A445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449B7-E391-4436-BAC3-023EC0C69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2D43-CC37-498F-B67C-BFFCDD0E5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5C1035-FCFF-4627-B868-C87011978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6AB68-C75D-42DB-AEC9-0F4C6E14E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97FFE9-7025-4A16-91EF-39912C30A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8FE166-D791-4E32-B187-84271906A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C7ED8A-14D0-40CF-8593-B2342C96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ADE2D-3966-464F-89DA-5D510AFF5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AFA74-E9E2-4A3B-8A91-E52EB47B7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766354-02C8-4FDD-A2D2-8A9821EFD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7B870C-7B5F-48D4-BB49-8E992614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058299-8379-41AA-894E-05E54F488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F6BF8-4F6A-4414-941F-15F7117D5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D3C13F-D140-4282-83C8-96C17C312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4417EC-BDA1-41EC-855E-EA51F05ED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0B0EDF-CD2A-4F7F-A4BE-9B7240369F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166F54-5B77-4A02-80B1-9A57AA076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A62B74-32B0-4F4D-8407-827A8E367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4886-003F-41DF-B107-B9B429BA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7BB0B-DCC9-4DAB-ACF2-4741EB8DC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325062-8829-4D1A-B962-CC4A58950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1F3F96-1ED4-4A4C-A8B7-251C3068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51FF26-DAA5-41E2-942E-0A9DD8752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67CD6E-BE67-4C9D-8F0A-CC5CEB4B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F6CFE2-0BCF-4A5B-8374-4260AF1C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1D3DD3-AF89-4D19-976B-FD3F8345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B706AF-1CEE-4813-B64A-F265CB40C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DBC9C5-C0B9-4DD0-AF4A-B0B309029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D5CC88-1ADC-41DC-936B-71D6AC7CF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BB04-F959-4BE1-B903-E1383A21F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D91E29-4D75-41DB-BFB8-5306B285E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837B4C-3066-4288-893D-1AEE9EB40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06003-ED1C-421F-A26C-203B99866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4294B5-23E7-4C1E-B9CF-2F136E271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B84C46-85CB-48C2-B2E0-9A36F4D9CD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D3F66F-705A-4A2A-A8E1-389A71EA5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D5EAA2F-B643-4361-B50B-956F2EFC6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32F466-5832-4A4C-8958-B1180D56C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889414-5BCB-4298-8CE9-67C48532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A1025E-839C-406A-97C3-986E20C214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8ACF9-BC89-4873-AF6C-B980ADAD5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1468F2-2229-473C-A104-0A6BCBD35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D04B5C-8CB0-45FA-9B63-EB02FB198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9EF9B-C8DC-4417-A8B2-974416FD4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80E94D-5F67-4BB3-9587-4935670FB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E6C68D-810F-4F48-887E-D73F97799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712CA-8D46-4DCE-BE3C-A7A993EE3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ABEC95-2F21-4CC3-AD00-AAD8EB31A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4F58E-1416-498B-AE5B-0456A5D55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BBCA97-D105-4408-AC32-F0B8CB036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7A8A2-A939-434F-B1C7-A0F394C4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5350-166D-40D2-A962-F8D5140E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9B4B44-2F6F-4A92-AD48-E4C0D4068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62AE60-DC9F-4DFC-81BC-B7D2AADD5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2FC219-3B76-4631-B9BD-74BD89A93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D0AC45-6762-4993-A077-70639748C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B05767-43C9-44A7-BE64-6A540700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5DE087-7B52-42FB-82D3-68F405584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C1C7CB-EBF5-49CA-8091-C1027BCE9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7434B4-7C80-457A-945D-24E3631B2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BFA22-FDCD-4A19-B2CD-B80F63E4B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24081D-9951-4D57-9CFD-413E7D487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71BC3-49B4-4E1C-BC39-77122BD5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FFBE36-A557-4EF1-80CF-93BF74275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E25306-B536-4781-BEF5-D6DC3F7D4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BB7DE4-D6E6-4E16-B5DA-0873EBCEF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6AF4C2-F763-438C-AA3B-12A55FD6E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3530CC-D0E9-4428-A0C4-6CD2CE022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70D32-7532-494D-83DA-E3B127C6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CDA73-7355-4EA7-9DB0-EB076B327D47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0972D-001F-4999-B925-0F8E2EECFF57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8C07E-7413-4FC2-9B65-F3981A68A4CB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924FE-2FEA-441A-B91C-269137265BC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468E5-E79F-49A1-8A2A-334052926DA2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A40CA-970A-4A02-A8C3-4573A57369A1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D6679-FC77-4252-ADB3-5A0B2FA0CD53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9D542-78BD-4975-9B02-9F6A1223DE1D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F61D1-D0A2-46ED-8134-A95C5DB78AA1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AF1BB-D386-4A96-BDD3-A90DB301580E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58C1FD-AF3B-44DC-8303-858A6B6242FE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Times New Roman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3F90-6742-44BF-8B75-D0352FACBC50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6A8E1-857D-4807-95F8-A49E96528A01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E2B7A-4DB4-44E5-B649-6E9021E65B4F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2.png"/><Relationship Id="rId9" Type="http://schemas.openxmlformats.org/officeDocument/2006/relationships/image" Target="../media/image12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Rectangle 2" descr=""/>
          <p:cNvPicPr/>
          <p:nvPr/>
        </p:nvPicPr>
        <p:blipFill>
          <a:blip r:embed="rId1"/>
          <a:stretch/>
        </p:blipFill>
        <p:spPr>
          <a:xfrm>
            <a:off x="609480" y="2359080"/>
            <a:ext cx="8004240" cy="1146240"/>
          </a:xfrm>
          <a:prstGeom prst="rect">
            <a:avLst/>
          </a:prstGeom>
          <a:ln w="0">
            <a:noFill/>
          </a:ln>
        </p:spPr>
      </p:pic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762120" y="4114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Lawrence Snyder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University of Washington, Seattl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05" name="Text Box 4"/>
          <p:cNvSpPr/>
          <p:nvPr/>
        </p:nvSpPr>
        <p:spPr>
          <a:xfrm>
            <a:off x="3967560" y="6172200"/>
            <a:ext cx="160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a6378"/>
                </a:solidFill>
                <a:latin typeface="Arial"/>
              </a:rPr>
              <a:t>© Lawrence Snyder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 txBox="1"/>
          <p:nvPr/>
        </p:nvSpPr>
        <p:spPr>
          <a:xfrm>
            <a:off x="341280" y="999720"/>
            <a:ext cx="862488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rmulating blocks of computation as a 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ncept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is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functional abstraction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[A better definition in a moment]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at we did just now is important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e spotted a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coherent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(to us) part of the task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e solved it using a sequence of instructio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We put the solution into a function 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ackage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, gave it a name, 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ocess a riser,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and thus created a new thing, a concept, something we can talk about &amp; us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n we used it to solve something more complicated … and then we did it again!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8B07-743D-4846-AE28-53EADBB838FB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F4765-BFBB-4112-B1F1-19F31AA03470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70200"/>
          </a:xfrm>
          <a:prstGeom prst="rect">
            <a:avLst/>
          </a:prstGeom>
          <a:ln w="0">
            <a:noFill/>
          </a:ln>
        </p:spPr>
      </p:pic>
      <p:sp>
        <p:nvSpPr>
          <p:cNvPr id="369" name=""/>
          <p:cNvSpPr txBox="1"/>
          <p:nvPr/>
        </p:nvSpPr>
        <p:spPr>
          <a:xfrm>
            <a:off x="482760" y="1041120"/>
            <a:ext cx="850392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llecting operations together and giving them a name is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functional abstra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operations perform a </a:t>
            </a: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coherent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activity or action – they become a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concept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 our thinkin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operations accomplish a goal that is useful – and typically – is needed over and over again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Functions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implement functional abstraction: 3 par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15480" indent="-21024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 nam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15480" indent="-21024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 definition (instruction seq), frequently called a “body”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15480" indent="-21024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Parameters –stuff inside the parentheses, covered later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0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9D7FD-F107-40BE-8443-1B08C6A05909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084F8-AB68-42BE-AACE-9C9155F33BAF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2"/>
          <p:cNvSpPr/>
          <p:nvPr/>
        </p:nvSpPr>
        <p:spPr>
          <a:xfrm>
            <a:off x="3213000" y="5867280"/>
            <a:ext cx="204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process_A_riser(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87480"/>
          </a:xfrm>
          <a:prstGeom prst="rect">
            <a:avLst/>
          </a:prstGeom>
          <a:ln w="0">
            <a:noFill/>
          </a:ln>
        </p:spPr>
      </p:pic>
      <p:sp>
        <p:nvSpPr>
          <p:cNvPr id="375" name=""/>
          <p:cNvSpPr txBox="1"/>
          <p:nvPr/>
        </p:nvSpPr>
        <p:spPr>
          <a:xfrm>
            <a:off x="444600" y="112212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unctional abstractions in which you are the agent, but someone taught you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arallel parkin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ackstroke in swimmin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unctional abstractions you recognized and in which you are the ag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Doing a load of laundr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aking your favorite {sandwich, pizza, cookies, …}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thers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71BD21-0D5E-4B63-9581-263A7DF41BCC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183DD-3C99-44F1-BBBD-2592E1FE99A1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80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e have abstracted “process a riser” and “move to the next riser” as components of a solu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s concepts, they are packaged into func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Maybe you thought of this in a different wa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at is, there can be other “coherent” parts of a solu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8E182-54A3-46C1-B469-855A63C7DA6B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D899E-D2E6-4600-B716-E489C8841878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3048120" y="5562720"/>
            <a:ext cx="2184120" cy="52056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Arial"/>
              </a:rPr>
              <a:t>Just  Do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457200" y="10666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other way to use abstra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7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0F91D-FB8E-45A0-91AB-FE87CE946998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65BA-9CDF-451A-99C2-8273A833E468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6" descr="lightbot11.gif"/>
          <p:cNvPicPr/>
          <p:nvPr/>
        </p:nvPicPr>
        <p:blipFill>
          <a:blip r:embed="rId2"/>
          <a:stretch/>
        </p:blipFill>
        <p:spPr>
          <a:xfrm>
            <a:off x="304920" y="1752480"/>
            <a:ext cx="8381880" cy="487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 txBox="1"/>
          <p:nvPr/>
        </p:nvSpPr>
        <p:spPr>
          <a:xfrm>
            <a:off x="457200" y="104760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f M.C. Escher handed us a problem … what would we do?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3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BEBAF-DA09-4F91-92BA-3BE1CC831038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E6A60-4A39-426F-AFD5-FC8185584D67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6" name="Group 38"/>
          <p:cNvGrpSpPr/>
          <p:nvPr/>
        </p:nvGrpSpPr>
        <p:grpSpPr>
          <a:xfrm>
            <a:off x="388800" y="2117880"/>
            <a:ext cx="8109000" cy="3821040"/>
            <a:chOff x="388800" y="2117880"/>
            <a:chExt cx="8109000" cy="3821040"/>
          </a:xfrm>
        </p:grpSpPr>
        <p:grpSp>
          <p:nvGrpSpPr>
            <p:cNvPr id="397" name="Group 22"/>
            <p:cNvGrpSpPr/>
            <p:nvPr/>
          </p:nvGrpSpPr>
          <p:grpSpPr>
            <a:xfrm>
              <a:off x="898200" y="2117880"/>
              <a:ext cx="7599600" cy="3821040"/>
              <a:chOff x="898200" y="2117880"/>
              <a:chExt cx="7599600" cy="3821040"/>
            </a:xfrm>
          </p:grpSpPr>
          <p:grpSp>
            <p:nvGrpSpPr>
              <p:cNvPr id="398" name="Group 26"/>
              <p:cNvGrpSpPr/>
              <p:nvPr/>
            </p:nvGrpSpPr>
            <p:grpSpPr>
              <a:xfrm>
                <a:off x="905760" y="2117880"/>
                <a:ext cx="7592040" cy="1917720"/>
                <a:chOff x="905760" y="2117880"/>
                <a:chExt cx="7592040" cy="1917720"/>
              </a:xfrm>
            </p:grpSpPr>
            <p:grpSp>
              <p:nvGrpSpPr>
                <p:cNvPr id="399" name="Group 22"/>
                <p:cNvGrpSpPr/>
                <p:nvPr/>
              </p:nvGrpSpPr>
              <p:grpSpPr>
                <a:xfrm>
                  <a:off x="905760" y="2118240"/>
                  <a:ext cx="3802680" cy="1917360"/>
                  <a:chOff x="905760" y="2118240"/>
                  <a:chExt cx="3802680" cy="1917360"/>
                </a:xfrm>
              </p:grpSpPr>
              <p:pic>
                <p:nvPicPr>
                  <p:cNvPr id="400" name="Picture 35" descr="lightbot12.gif"/>
                  <p:cNvPicPr/>
                  <p:nvPr/>
                </p:nvPicPr>
                <p:blipFill>
                  <a:blip r:embed="rId2"/>
                  <a:srcRect l="22971" t="41359" r="54058" b="18563"/>
                  <a:stretch/>
                </p:blipFill>
                <p:spPr>
                  <a:xfrm>
                    <a:off x="905760" y="2118240"/>
                    <a:ext cx="1905120" cy="191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01" name="Picture 36" descr="lightbot12.gif"/>
                  <p:cNvPicPr/>
                  <p:nvPr/>
                </p:nvPicPr>
                <p:blipFill>
                  <a:blip r:embed="rId3"/>
                  <a:srcRect l="22971" t="41359" r="54058" b="18563"/>
                  <a:stretch/>
                </p:blipFill>
                <p:spPr>
                  <a:xfrm>
                    <a:off x="2803320" y="2118240"/>
                    <a:ext cx="1905120" cy="191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02" name="Group 23"/>
                <p:cNvGrpSpPr/>
                <p:nvPr/>
              </p:nvGrpSpPr>
              <p:grpSpPr>
                <a:xfrm>
                  <a:off x="4695120" y="2117880"/>
                  <a:ext cx="3802680" cy="1917360"/>
                  <a:chOff x="4695120" y="2117880"/>
                  <a:chExt cx="3802680" cy="1917360"/>
                </a:xfrm>
              </p:grpSpPr>
              <p:pic>
                <p:nvPicPr>
                  <p:cNvPr id="403" name="Picture 33" descr="lightbot12.gif"/>
                  <p:cNvPicPr/>
                  <p:nvPr/>
                </p:nvPicPr>
                <p:blipFill>
                  <a:blip r:embed="rId4"/>
                  <a:srcRect l="22971" t="41359" r="54058" b="18563"/>
                  <a:stretch/>
                </p:blipFill>
                <p:spPr>
                  <a:xfrm>
                    <a:off x="4695120" y="2117880"/>
                    <a:ext cx="1905120" cy="191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04" name="Picture 34" descr="lightbot12.gif"/>
                  <p:cNvPicPr/>
                  <p:nvPr/>
                </p:nvPicPr>
                <p:blipFill>
                  <a:blip r:embed="rId5"/>
                  <a:srcRect l="22971" t="41359" r="54058" b="18563"/>
                  <a:stretch/>
                </p:blipFill>
                <p:spPr>
                  <a:xfrm>
                    <a:off x="6592680" y="2117880"/>
                    <a:ext cx="1905120" cy="191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  <p:grpSp>
            <p:nvGrpSpPr>
              <p:cNvPr id="405" name="Group 27"/>
              <p:cNvGrpSpPr/>
              <p:nvPr/>
            </p:nvGrpSpPr>
            <p:grpSpPr>
              <a:xfrm>
                <a:off x="898200" y="4021200"/>
                <a:ext cx="7592040" cy="1917720"/>
                <a:chOff x="898200" y="4021200"/>
                <a:chExt cx="7592040" cy="1917720"/>
              </a:xfrm>
            </p:grpSpPr>
            <p:grpSp>
              <p:nvGrpSpPr>
                <p:cNvPr id="406" name="Group 22"/>
                <p:cNvGrpSpPr/>
                <p:nvPr/>
              </p:nvGrpSpPr>
              <p:grpSpPr>
                <a:xfrm>
                  <a:off x="898200" y="4021560"/>
                  <a:ext cx="3802680" cy="1917360"/>
                  <a:chOff x="898200" y="4021560"/>
                  <a:chExt cx="3802680" cy="1917360"/>
                </a:xfrm>
              </p:grpSpPr>
              <p:pic>
                <p:nvPicPr>
                  <p:cNvPr id="407" name="Picture 29" descr="lightbot12.gif"/>
                  <p:cNvPicPr/>
                  <p:nvPr/>
                </p:nvPicPr>
                <p:blipFill>
                  <a:blip r:embed="rId6"/>
                  <a:srcRect l="22971" t="41359" r="54058" b="18563"/>
                  <a:stretch/>
                </p:blipFill>
                <p:spPr>
                  <a:xfrm>
                    <a:off x="898200" y="4021560"/>
                    <a:ext cx="1905120" cy="191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08" name="Picture 30" descr="lightbot12.gif"/>
                  <p:cNvPicPr/>
                  <p:nvPr/>
                </p:nvPicPr>
                <p:blipFill>
                  <a:blip r:embed="rId7"/>
                  <a:srcRect l="22971" t="41359" r="54058" b="18563"/>
                  <a:stretch/>
                </p:blipFill>
                <p:spPr>
                  <a:xfrm>
                    <a:off x="2795760" y="4021560"/>
                    <a:ext cx="1905120" cy="191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  <p:grpSp>
              <p:nvGrpSpPr>
                <p:cNvPr id="409" name="Group 23"/>
                <p:cNvGrpSpPr/>
                <p:nvPr/>
              </p:nvGrpSpPr>
              <p:grpSpPr>
                <a:xfrm>
                  <a:off x="4687560" y="4021200"/>
                  <a:ext cx="3802680" cy="1917360"/>
                  <a:chOff x="4687560" y="4021200"/>
                  <a:chExt cx="3802680" cy="1917360"/>
                </a:xfrm>
              </p:grpSpPr>
              <p:pic>
                <p:nvPicPr>
                  <p:cNvPr id="410" name="Picture 27" descr="lightbot12.gif"/>
                  <p:cNvPicPr/>
                  <p:nvPr/>
                </p:nvPicPr>
                <p:blipFill>
                  <a:blip r:embed="rId8"/>
                  <a:srcRect l="22971" t="41359" r="54058" b="18563"/>
                  <a:stretch/>
                </p:blipFill>
                <p:spPr>
                  <a:xfrm>
                    <a:off x="4687560" y="4021200"/>
                    <a:ext cx="1905120" cy="191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411" name="Picture 28" descr="lightbot12.gif"/>
                  <p:cNvPicPr/>
                  <p:nvPr/>
                </p:nvPicPr>
                <p:blipFill>
                  <a:blip r:embed="rId9"/>
                  <a:srcRect l="22971" t="41359" r="54058" b="18563"/>
                  <a:stretch/>
                </p:blipFill>
                <p:spPr>
                  <a:xfrm>
                    <a:off x="6585120" y="4021200"/>
                    <a:ext cx="1905120" cy="191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grpSp>
          </p:grpSp>
        </p:grpSp>
        <p:pic>
          <p:nvPicPr>
            <p:cNvPr id="412" name="Picture 37" descr="lightbot12.gif"/>
            <p:cNvPicPr/>
            <p:nvPr/>
          </p:nvPicPr>
          <p:blipFill>
            <a:blip r:embed="rId10"/>
            <a:srcRect l="16868" t="41359" r="54058" b="18563"/>
            <a:stretch/>
          </p:blipFill>
          <p:spPr>
            <a:xfrm>
              <a:off x="388800" y="4018320"/>
              <a:ext cx="2410920" cy="1917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13" name="TextBox 21"/>
          <p:cNvSpPr/>
          <p:nvPr/>
        </p:nvSpPr>
        <p:spPr>
          <a:xfrm>
            <a:off x="141120" y="5851440"/>
            <a:ext cx="8840880" cy="94716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Arial"/>
              </a:rPr>
              <a:t>It only simplifies our </a:t>
            </a:r>
            <a:r>
              <a:rPr b="1" lang="en-US" sz="2800" spc="-1" strike="noStrike">
                <a:solidFill>
                  <a:srgbClr val="ffffff"/>
                </a:solidFill>
                <a:latin typeface="Corbel"/>
                <a:ea typeface="Arial"/>
              </a:rPr>
              <a:t>thinking</a:t>
            </a: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Arial"/>
              </a:rPr>
              <a:t>; the bot still does all the 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15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ay “Hi” to Android’s Software Stac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0AB42-5649-4496-9599-D02EB6EE69C3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B0CC-7A48-4DC5-A61A-953F96B7E322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9" name="Picture 6" descr="stack2 copy.png"/>
          <p:cNvPicPr/>
          <p:nvPr/>
        </p:nvPicPr>
        <p:blipFill>
          <a:blip r:embed="rId2"/>
          <a:stretch/>
        </p:blipFill>
        <p:spPr>
          <a:xfrm>
            <a:off x="762120" y="1981080"/>
            <a:ext cx="6748200" cy="464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pic>
        <p:nvPicPr>
          <p:cNvPr id="421" name="Content Placeholder 6" descr="lev4.png"/>
          <p:cNvPicPr/>
          <p:nvPr/>
        </p:nvPicPr>
        <p:blipFill>
          <a:blip r:embed="rId2"/>
          <a:srcRect l="3800" t="0" r="3800" b="0"/>
          <a:stretch/>
        </p:blipFill>
        <p:spPr>
          <a:xfrm>
            <a:off x="457200" y="1219320"/>
            <a:ext cx="8229600" cy="5181480"/>
          </a:xfrm>
          <a:prstGeom prst="rect">
            <a:avLst/>
          </a:prstGeom>
          <a:ln w="0">
            <a:noFill/>
          </a:ln>
        </p:spPr>
      </p:pic>
      <p:sp>
        <p:nvSpPr>
          <p:cNvPr id="42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8142-18D3-4370-911D-35D0349432E9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BF188-2C4B-4B46-82B7-C455E2762145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7"/>
          <p:cNvSpPr/>
          <p:nvPr/>
        </p:nvSpPr>
        <p:spPr>
          <a:xfrm>
            <a:off x="3429000" y="5943600"/>
            <a:ext cx="2184480" cy="52056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Arial"/>
              </a:rPr>
              <a:t>Just  Do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27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bstraction is a “thinking tool” you use everyday … in this class you will consciously apply it in programming &amp; problem solv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unctional Abstraction – the process of spotting a concept, “packaging” it as a function (at least in your own mind) and using it to solve some tougher problem – is ready to help when the problem is “so confusing”!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8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48327-38A4-4E9A-98FF-4EED70FDA4F5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EF714-57BC-4459-AC47-193A89C88FFF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07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7A1887-7CE8-4534-BE03-50A0911FD3BE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C810-CA46-4D9F-B376-092DE8ABB14E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11" name="Picture 3" descr="rothko.jpg"/>
          <p:cNvPicPr/>
          <p:nvPr/>
        </p:nvPicPr>
        <p:blipFill>
          <a:blip r:embed="rId2"/>
          <a:stretch/>
        </p:blipFill>
        <p:spPr>
          <a:xfrm>
            <a:off x="2209680" y="1295280"/>
            <a:ext cx="4649760" cy="5105520"/>
          </a:xfrm>
          <a:prstGeom prst="rect">
            <a:avLst/>
          </a:prstGeom>
          <a:ln w="0">
            <a:noFill/>
          </a:ln>
        </p:spPr>
      </p:pic>
      <p:sp>
        <p:nvSpPr>
          <p:cNvPr id="312" name="TextBox 2"/>
          <p:cNvSpPr/>
          <p:nvPr/>
        </p:nvSpPr>
        <p:spPr>
          <a:xfrm>
            <a:off x="466920" y="6019920"/>
            <a:ext cx="14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ark Rothk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8"/>
          <p:cNvSpPr/>
          <p:nvPr/>
        </p:nvSpPr>
        <p:spPr>
          <a:xfrm>
            <a:off x="466560" y="5638680"/>
            <a:ext cx="146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. 5/No. 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456840" y="10666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Abstraction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is the act of recognizing and then removing an idea or concept or process from a situation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fox saw some juicy grapes growing on a fence. He tried and tried to reach them, but failed. Finally, he walked away, saying ‘They were probably sour’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Extract an idea – one failing to get something they want, often claims in the end it’s no good.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bstracting – separate relevant from irrelevan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cast the idea in more general term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56C03-C820-4251-944B-B07A2CB474EE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E28C4C-CEB1-4AAE-83B2-D59C77AB494F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3348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e discussed Functions last time, a seemingly “obvious” idea …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y allow us to solve problems by first creating a useful über instruction, and then applying it to simplify our wor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et’s recall how they work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FFF3B-CCCD-41E4-8A82-6D3A80FBF462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51B7-DF79-4026-BD3D-97E8C1888C00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 txBox="1"/>
          <p:nvPr/>
        </p:nvSpPr>
        <p:spPr>
          <a:xfrm>
            <a:off x="492120" y="100800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ecause we noticed 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cess a riser,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as an action we needed to do (more than once) we think of the programming task a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BF179-C5B4-4C13-A6B6-5A53176DD3E5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F7981-3EE3-4FEF-BCA3-52FF333F83C2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6"/>
          <p:cNvSpPr/>
          <p:nvPr/>
        </p:nvSpPr>
        <p:spPr>
          <a:xfrm>
            <a:off x="609480" y="2819520"/>
            <a:ext cx="2819520" cy="1922760"/>
          </a:xfrm>
          <a:prstGeom prst="rect">
            <a:avLst/>
          </a:prstGeom>
          <a:noFill/>
          <a:ln w="936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a ri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to next ri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a ri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to next ri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a ri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Picture 11" descr="oneFunction.tiff"/>
          <p:cNvPicPr/>
          <p:nvPr/>
        </p:nvPicPr>
        <p:blipFill>
          <a:blip r:embed="rId2"/>
          <a:srcRect l="18755" t="38567" r="43372" b="26955"/>
          <a:stretch/>
        </p:blipFill>
        <p:spPr>
          <a:xfrm>
            <a:off x="4038480" y="2819520"/>
            <a:ext cx="4572000" cy="303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492120" y="100800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ecause we noticed 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cess a riser,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as an action we needed to do (more than once), we think of the programming task a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EE595-CFA1-4495-8F7E-1AA7B884F33A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42BA8-9751-418F-8961-5230F3EE0A9F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TextBox 6"/>
          <p:cNvSpPr/>
          <p:nvPr/>
        </p:nvSpPr>
        <p:spPr>
          <a:xfrm>
            <a:off x="609480" y="2819520"/>
            <a:ext cx="2819520" cy="1922760"/>
          </a:xfrm>
          <a:prstGeom prst="rect">
            <a:avLst/>
          </a:prstGeom>
          <a:noFill/>
          <a:ln w="9360">
            <a:solidFill>
              <a:srgbClr val="f0ad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a ri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to next ri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a ri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e to next ri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 a ri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7" name="Picture 11" descr="oneFunction.tiff"/>
          <p:cNvPicPr/>
          <p:nvPr/>
        </p:nvPicPr>
        <p:blipFill>
          <a:blip r:embed="rId2"/>
          <a:srcRect l="18755" t="38567" r="43372" b="26955"/>
          <a:stretch/>
        </p:blipFill>
        <p:spPr>
          <a:xfrm>
            <a:off x="4038480" y="2819520"/>
            <a:ext cx="4572000" cy="3033720"/>
          </a:xfrm>
          <a:prstGeom prst="rect">
            <a:avLst/>
          </a:prstGeom>
          <a:ln w="0">
            <a:noFill/>
          </a:ln>
        </p:spPr>
      </p:pic>
      <p:sp>
        <p:nvSpPr>
          <p:cNvPr id="338" name="Rectangle 2"/>
          <p:cNvSpPr/>
          <p:nvPr/>
        </p:nvSpPr>
        <p:spPr>
          <a:xfrm>
            <a:off x="609480" y="4876920"/>
            <a:ext cx="32004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rbel"/>
              </a:rPr>
              <a:t>Abstracting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implifies: reduce to 5 conceptual steps rather than 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9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 txBox="1"/>
          <p:nvPr/>
        </p:nvSpPr>
        <p:spPr>
          <a:xfrm>
            <a:off x="492120" y="1008000"/>
            <a:ext cx="834696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e can “see” abstractions in the problem (riser picture) or in the solution (instruction pattern) … where we find them doesn’t matt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551D-51F4-417F-8B2B-3F430D5BF264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BB5D07-E123-4039-8E60-133C5642C267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4" name="Picture 11" descr="oneFunction.tiff"/>
          <p:cNvPicPr/>
          <p:nvPr/>
        </p:nvPicPr>
        <p:blipFill>
          <a:blip r:embed="rId2"/>
          <a:srcRect l="18755" t="27107" r="9341" b="26955"/>
          <a:stretch/>
        </p:blipFill>
        <p:spPr>
          <a:xfrm>
            <a:off x="1143000" y="2590920"/>
            <a:ext cx="7364520" cy="3429000"/>
          </a:xfrm>
          <a:prstGeom prst="rect">
            <a:avLst/>
          </a:prstGeom>
          <a:ln w="0">
            <a:noFill/>
          </a:ln>
        </p:spPr>
      </p:pic>
      <p:sp>
        <p:nvSpPr>
          <p:cNvPr id="345" name="Left Arrow 2"/>
          <p:cNvSpPr/>
          <p:nvPr/>
        </p:nvSpPr>
        <p:spPr>
          <a:xfrm rot="18944400">
            <a:off x="2495520" y="3712680"/>
            <a:ext cx="533520" cy="381240"/>
          </a:xfrm>
          <a:prstGeom prst="leftArrow">
            <a:avLst>
              <a:gd name="adj1" fmla="val 50000"/>
              <a:gd name="adj2" fmla="val 49978"/>
            </a:avLst>
          </a:prstGeom>
          <a:solidFill>
            <a:srgbClr val="ff0000"/>
          </a:solidFill>
          <a:ln cap="rnd" w="6480">
            <a:solidFill>
              <a:srgbClr val="ff00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eft Arrow 9"/>
          <p:cNvSpPr/>
          <p:nvPr/>
        </p:nvSpPr>
        <p:spPr>
          <a:xfrm rot="10800000">
            <a:off x="5562360" y="2895120"/>
            <a:ext cx="533160" cy="381240"/>
          </a:xfrm>
          <a:prstGeom prst="leftArrow">
            <a:avLst>
              <a:gd name="adj1" fmla="val 50000"/>
              <a:gd name="adj2" fmla="val 49944"/>
            </a:avLst>
          </a:prstGeom>
          <a:solidFill>
            <a:srgbClr val="ff0000"/>
          </a:solidFill>
          <a:ln cap="rnd" w="6480">
            <a:solidFill>
              <a:srgbClr val="ff00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pic>
        <p:nvPicPr>
          <p:cNvPr id="348" name="Content Placeholder 6" descr="lightbot12.gif"/>
          <p:cNvPicPr/>
          <p:nvPr/>
        </p:nvPicPr>
        <p:blipFill>
          <a:blip r:embed="rId2"/>
          <a:srcRect l="0" t="-4597" r="0" b="-4597"/>
          <a:stretch/>
        </p:blipFill>
        <p:spPr>
          <a:xfrm>
            <a:off x="457200" y="1219320"/>
            <a:ext cx="8229600" cy="5181480"/>
          </a:xfrm>
          <a:prstGeom prst="rect">
            <a:avLst/>
          </a:prstGeom>
          <a:ln w="0">
            <a:noFill/>
          </a:ln>
        </p:spPr>
      </p:pic>
      <p:sp>
        <p:nvSpPr>
          <p:cNvPr id="34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E1470-CA9A-4D60-A225-AAD35BAD7B31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6EB86-C9F3-4451-84F5-A9FB6D8B8C87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8"/>
          <p:cNvSpPr/>
          <p:nvPr/>
        </p:nvSpPr>
        <p:spPr>
          <a:xfrm>
            <a:off x="-37080" y="2222640"/>
            <a:ext cx="4377960" cy="52056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rbel"/>
                <a:ea typeface="Arial"/>
              </a:rPr>
              <a:t>Is this beautiful, or wha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2"/>
          <p:cNvSpPr/>
          <p:nvPr/>
        </p:nvSpPr>
        <p:spPr>
          <a:xfrm>
            <a:off x="5037480" y="38098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cc"/>
                </a:solidFill>
                <a:latin typeface="Arial"/>
              </a:rPr>
              <a:t>Process_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Box 3"/>
          <p:cNvSpPr/>
          <p:nvPr/>
        </p:nvSpPr>
        <p:spPr>
          <a:xfrm>
            <a:off x="4811400" y="4648320"/>
            <a:ext cx="15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cc"/>
                </a:solidFill>
                <a:latin typeface="Arial"/>
              </a:rPr>
              <a:t>Move_2_N_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4"/>
          <p:cNvSpPr/>
          <p:nvPr/>
        </p:nvSpPr>
        <p:spPr>
          <a:xfrm>
            <a:off x="4658760" y="2133720"/>
            <a:ext cx="183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cc"/>
                </a:solidFill>
                <a:latin typeface="Arial"/>
              </a:rPr>
              <a:t>Program Is On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cc"/>
                </a:solidFill>
                <a:latin typeface="Arial"/>
              </a:rPr>
              <a:t>Function Call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“conceptual unit” – that is, the abstraction – might apply again, immediatel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8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4C671-1BC9-495C-8C63-66DB7183E953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© 2010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C8086-B37E-4BE3-A5C7-E3C1A6E599A1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1" name="Picture 6" descr="Screen Shot 2014-01-10 at 10.21.27 AM.png"/>
          <p:cNvPicPr/>
          <p:nvPr/>
        </p:nvPicPr>
        <p:blipFill>
          <a:blip r:embed="rId2"/>
          <a:srcRect l="4989" t="11220" r="5972" b="8438"/>
          <a:stretch/>
        </p:blipFill>
        <p:spPr>
          <a:xfrm>
            <a:off x="1066680" y="2362320"/>
            <a:ext cx="7010640" cy="4017960"/>
          </a:xfrm>
          <a:prstGeom prst="rect">
            <a:avLst/>
          </a:prstGeom>
          <a:ln w="0">
            <a:noFill/>
          </a:ln>
        </p:spPr>
      </p:pic>
      <p:sp>
        <p:nvSpPr>
          <p:cNvPr id="362" name="Rectangle 7"/>
          <p:cNvSpPr/>
          <p:nvPr/>
        </p:nvSpPr>
        <p:spPr>
          <a:xfrm>
            <a:off x="762120" y="5943600"/>
            <a:ext cx="2184120" cy="52056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rbel"/>
                <a:ea typeface="Arial"/>
              </a:rPr>
              <a:t>Just  Do I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7T16:40:34Z</dcterms:created>
  <dc:creator>Information School</dc:creator>
  <dc:description/>
  <dc:language>en-US</dc:language>
  <cp:lastModifiedBy>Larry Snyder</cp:lastModifiedBy>
  <cp:lastPrinted>2013-01-11T18:38:30Z</cp:lastPrinted>
  <dcterms:modified xsi:type="dcterms:W3CDTF">2014-05-13T16:26:47Z</dcterms:modified>
  <cp:revision>118</cp:revision>
  <dc:subject/>
  <dc:title>Welcome to FIT100</dc:title>
</cp:coreProperties>
</file>